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BFE-F46A-4946-96EA-E7F78F6E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B49-D4F1-4C43-BC63-764CB5B2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708-DE19-4750-A473-132E9542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8BF-03A0-447A-BDC4-C33F4F53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8B1-7BAC-44A0-87A9-8D41DF7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302-7A4B-4A83-97DC-FC322119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C17-5EC9-4605-82E3-27708A7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BDD-37C1-4E3C-A5AD-4C1581F6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7D5-EF2A-41C1-A673-7E302FFD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E0D-406E-4E91-A6CC-883F182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D3F-CC2A-4F55-9242-FD68942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E70-36C9-43C0-B578-94AF945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2AF-3A27-47A8-8C69-1AE3CE79FCE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A8D6-5223-4E5E-8E8C-E9F77019D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18900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7942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om Arn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Former CEO Concern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Member of SUN Lea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12" descr="Couv.jpg"/>
          <p:cNvPicPr/>
          <p:nvPr/>
        </p:nvPicPr>
        <p:blipFill>
          <a:blip r:embed="rId2"/>
          <a:stretch/>
        </p:blipFill>
        <p:spPr>
          <a:xfrm>
            <a:off x="0" y="977760"/>
            <a:ext cx="9144000" cy="447228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13"/>
          <p:cNvSpPr/>
          <p:nvPr/>
        </p:nvSpPr>
        <p:spPr>
          <a:xfrm>
            <a:off x="484200" y="111600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b0f0"/>
                </a:solidFill>
                <a:latin typeface="Calibri"/>
              </a:rPr>
              <a:t>Plenary Session 3:  It Can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3"/>
          <a:stretch/>
        </p:blipFill>
        <p:spPr>
          <a:xfrm>
            <a:off x="6648480" y="54000"/>
            <a:ext cx="2316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6481-84FA-4110-8B52-9D8AC19685F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pied de page 8"/>
          <p:cNvSpPr/>
          <p:nvPr/>
        </p:nvSpPr>
        <p:spPr>
          <a:xfrm>
            <a:off x="-36360" y="6519960"/>
            <a:ext cx="806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</a:t>
            </a: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Plenary Session 3:  It Can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0"/>
          <p:cNvSpPr/>
          <p:nvPr/>
        </p:nvSpPr>
        <p:spPr>
          <a:xfrm>
            <a:off x="324000" y="1249200"/>
            <a:ext cx="52560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Plenary Session 3:  It Can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le of CSO’s in 1,000 Days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cern’s role at global and n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N and CSO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le of CSOs at national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6648480" y="54000"/>
            <a:ext cx="2316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FA96-63CD-4929-9B22-687CCBA07BE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pied de page 8"/>
          <p:cNvSpPr/>
          <p:nvPr/>
        </p:nvSpPr>
        <p:spPr>
          <a:xfrm>
            <a:off x="-36360" y="6519960"/>
            <a:ext cx="806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</a:t>
            </a: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Plenary Session 3:  It Can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0"/>
          <p:cNvSpPr/>
          <p:nvPr/>
        </p:nvSpPr>
        <p:spPr>
          <a:xfrm>
            <a:off x="250920" y="1266840"/>
            <a:ext cx="828180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Concern’s role at glob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utrition a major focus for organisation over past decade:  with Valid International pioneered development of CM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rly supporter of SUN Framework and Road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cern and Bread for the World the CSOs at launch of 1,000 Days Initiative, September 2010.  Organised civil society meeting in Washington, June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N related initiatives in a number of Concern’s country programmes.  Learning from these initiatives and feeding that learning into global advocacy, including into the SUN Lead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2"/>
          <a:stretch/>
        </p:blipFill>
        <p:spPr>
          <a:xfrm>
            <a:off x="6648480" y="54000"/>
            <a:ext cx="2316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9BE-2B17-4B58-B917-1DA0B6698E4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pied de page 8"/>
          <p:cNvSpPr/>
          <p:nvPr/>
        </p:nvSpPr>
        <p:spPr>
          <a:xfrm>
            <a:off x="-36360" y="6519960"/>
            <a:ext cx="806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</a:t>
            </a: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Plenary Session 3:  It Can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250920" y="1268280"/>
            <a:ext cx="8424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SUN and CS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N Civil Society Network a key part of the overall SUN architecture and govern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2 member Steering Committee establ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mbers of Steering Committee are pairing with National CSO Alliances/focal points to ensure adequate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twork is supporting advocacy at the national level and harmonisation of CS advocacy at key global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S Network working on enlarging its membe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"/>
          <p:cNvPicPr/>
          <p:nvPr/>
        </p:nvPicPr>
        <p:blipFill>
          <a:blip r:embed="rId2"/>
          <a:stretch/>
        </p:blipFill>
        <p:spPr>
          <a:xfrm>
            <a:off x="6648480" y="54000"/>
            <a:ext cx="2316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15B8-D098-4C88-A131-BC4818206D9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pied de page 8"/>
          <p:cNvSpPr/>
          <p:nvPr/>
        </p:nvSpPr>
        <p:spPr>
          <a:xfrm>
            <a:off x="-36360" y="6519960"/>
            <a:ext cx="77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</a:t>
            </a: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Plenary Session 3:  It Can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0"/>
          <p:cNvSpPr/>
          <p:nvPr/>
        </p:nvSpPr>
        <p:spPr>
          <a:xfrm>
            <a:off x="250920" y="1268280"/>
            <a:ext cx="8424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CSOs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that CSOs are included in country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urrently 11 SUN countries with active nation CSO alli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requisite support needs to be provided to assist civil society to play its full role. Broadening dialogue among diverse groups of civil society will b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ivil society alliances have received funding to kick start their national efforts through a specific Multi Partner Trust F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2"/>
          <a:stretch/>
        </p:blipFill>
        <p:spPr>
          <a:xfrm>
            <a:off x="6648480" y="54000"/>
            <a:ext cx="2316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cp:lastPrinted>2013-05-13T11:12:08Z</cp:lastPrinted>
  <dcterms:modified xsi:type="dcterms:W3CDTF">2013-05-13T17:21:48Z</dcterms:modified>
  <cp:revision>21</cp:revision>
  <dc:subject/>
  <dc:title>Diapositive 1</dc:title>
</cp:coreProperties>
</file>