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18700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180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2973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18160" y="0"/>
            <a:ext cx="42991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0880" y="509400"/>
            <a:ext cx="339696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7040"/>
            <a:ext cx="79344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453000"/>
            <a:ext cx="429732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18160" y="6453000"/>
            <a:ext cx="429912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4D18-1749-4245-A7A7-D928DA0780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60880" y="509760"/>
            <a:ext cx="3396960" cy="2547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2160" y="3227040"/>
            <a:ext cx="79344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618160" y="6453360"/>
            <a:ext cx="4299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09E4-7F24-4530-9AE1-1B2CBAABD0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57F-30D6-4EE3-81A0-BE4D15DD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93B-612F-4CCB-9516-07C86BD3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3C4-CC04-401A-ACE3-B8E5DF37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79F-2760-4775-A878-C323343B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8C7-FE84-4353-A65F-2FB527E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5C3-3375-41B6-80EE-924D08B9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273-8E70-400C-A5C5-2E2B1088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463-8825-490A-8B3A-95F7D3A8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79F-F8E6-4038-9570-F01C6142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AED-EBB9-456B-8FFC-4FFC8D01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3E5-5659-47A9-A5F8-8BC6D613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304-AF83-4096-90DE-1C2B96E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97AD-9E0B-4D78-871B-908814B701F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762F-A0D8-46D8-A0A9-1B53B3D54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8018" t="0" r="0" b="0"/>
          <a:stretch/>
        </p:blipFill>
        <p:spPr>
          <a:xfrm>
            <a:off x="0" y="189000"/>
            <a:ext cx="35272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 flipV="1">
            <a:off x="0" y="1078560"/>
            <a:ext cx="9144000" cy="4572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1"/>
          <p:cNvSpPr/>
          <p:nvPr/>
        </p:nvSpPr>
        <p:spPr>
          <a:xfrm>
            <a:off x="0" y="5772240"/>
            <a:ext cx="9144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b0f0"/>
                </a:solidFill>
                <a:latin typeface="Arial"/>
              </a:rPr>
              <a:t>Honorable Nahas Angu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b0f0"/>
                </a:solidFill>
                <a:latin typeface="Arial"/>
              </a:rPr>
              <a:t>Minister, Chairperson of Namibian Alliance for Improved Nutrition (NAFIN), The Government of the Republic of Namibia, and SUN Lead Group Memb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rcRect l="623" t="22545" r="397" b="4694"/>
          <a:stretch/>
        </p:blipFill>
        <p:spPr>
          <a:xfrm>
            <a:off x="0" y="1125360"/>
            <a:ext cx="9144000" cy="4535640"/>
          </a:xfrm>
          <a:prstGeom prst="rect">
            <a:avLst/>
          </a:prstGeom>
          <a:ln w="0">
            <a:noFill/>
          </a:ln>
        </p:spPr>
      </p:pic>
      <p:pic>
        <p:nvPicPr>
          <p:cNvPr id="53" name="ZoneTexte 13" descr=""/>
          <p:cNvPicPr/>
          <p:nvPr/>
        </p:nvPicPr>
        <p:blipFill>
          <a:blip r:embed="rId3"/>
          <a:stretch/>
        </p:blipFill>
        <p:spPr>
          <a:xfrm>
            <a:off x="-182520" y="1841400"/>
            <a:ext cx="6778440" cy="245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7596360" y="11160"/>
            <a:ext cx="1547640" cy="106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5">
            <a:alphaModFix amt="57000"/>
          </a:blip>
          <a:stretch/>
        </p:blipFill>
        <p:spPr>
          <a:xfrm>
            <a:off x="3995640" y="0"/>
            <a:ext cx="1403280" cy="995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 flipV="1">
            <a:off x="0" y="1006200"/>
            <a:ext cx="9144000" cy="46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8A22-CD37-436C-8E10-E270FC992B6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Espace réservé du pied de page 8" descr=""/>
          <p:cNvPicPr/>
          <p:nvPr/>
        </p:nvPicPr>
        <p:blipFill>
          <a:blip r:embed="rId1"/>
          <a:stretch/>
        </p:blipFill>
        <p:spPr>
          <a:xfrm>
            <a:off x="-66600" y="6529320"/>
            <a:ext cx="4827600" cy="36504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10"/>
          <p:cNvSpPr/>
          <p:nvPr/>
        </p:nvSpPr>
        <p:spPr>
          <a:xfrm>
            <a:off x="108000" y="1268280"/>
            <a:ext cx="568800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Nutrition Situation in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ne in three under-5 children are st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Namibia experiences both undernutrition and overnutrition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uses include low rates of exclusive breastfeeding, inappropriate complementary feeding practices, low sanitation coverage, and poor maternal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mpounded by frequent natural disasters (floods and droughts), HIV infection and child poverty exarcebated b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pariti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and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843280" y="149400"/>
            <a:ext cx="3457440" cy="54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7596360" y="11160"/>
            <a:ext cx="1547640" cy="96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4"/>
          <a:stretch/>
        </p:blipFill>
        <p:spPr>
          <a:xfrm>
            <a:off x="5580000" y="1150920"/>
            <a:ext cx="3381480" cy="50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7" descr=""/>
          <p:cNvPicPr/>
          <p:nvPr/>
        </p:nvPicPr>
        <p:blipFill>
          <a:blip r:embed="rId5">
            <a:alphaModFix amt="57000"/>
          </a:blip>
          <a:stretch/>
        </p:blipFill>
        <p:spPr>
          <a:xfrm>
            <a:off x="0" y="25560"/>
            <a:ext cx="1332000" cy="955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2355-C7E3-40CC-AEB3-731C0EB9940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0"/>
          <p:cNvSpPr/>
          <p:nvPr/>
        </p:nvSpPr>
        <p:spPr>
          <a:xfrm>
            <a:off x="108000" y="1125360"/>
            <a:ext cx="43927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Namibia Alliance for Improved Nutrition (NAF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unched in 2010 to address high levels of stunting,  NAF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rings together different Government departments involved in nutrition and food security, the private sectors, NGOs, development partners and academ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ordinates activities of stakeholders on nutri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rves as a clearing house for nutrition rela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stitutionalises in the office of the Prime Min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036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7380360" y="11160"/>
            <a:ext cx="1763640" cy="896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mnyunt\Pictures\Pics launch report\PM showing the report ©UNICEFNamibia2012Tony Figueira.jpeg"/>
          <p:cNvPicPr/>
          <p:nvPr/>
        </p:nvPicPr>
        <p:blipFill>
          <a:blip r:embed="rId3"/>
          <a:srcRect l="24457" t="0" r="4260" b="0"/>
          <a:stretch/>
        </p:blipFill>
        <p:spPr>
          <a:xfrm>
            <a:off x="4500720" y="1628640"/>
            <a:ext cx="4464000" cy="433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7" descr=""/>
          <p:cNvPicPr/>
          <p:nvPr/>
        </p:nvPicPr>
        <p:blipFill>
          <a:blip r:embed="rId4">
            <a:alphaModFix amt="57000"/>
          </a:blip>
          <a:stretch/>
        </p:blipFill>
        <p:spPr>
          <a:xfrm>
            <a:off x="0" y="4680"/>
            <a:ext cx="1332000" cy="903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cc"/>
            </a:outerShdw>
          </a:effectLst>
        </p:spPr>
      </p:pic>
      <p:pic>
        <p:nvPicPr>
          <p:cNvPr id="73" name="Espace réservé du pied de page 8" descr=""/>
          <p:cNvPicPr/>
          <p:nvPr/>
        </p:nvPicPr>
        <p:blipFill>
          <a:blip r:embed="rId5"/>
          <a:stretch/>
        </p:blipFill>
        <p:spPr>
          <a:xfrm>
            <a:off x="-60480" y="6510240"/>
            <a:ext cx="48276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D309-0BAF-4806-9A7A-18CA6A38C3B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Espace réservé du pied de page 8" descr=""/>
          <p:cNvPicPr/>
          <p:nvPr/>
        </p:nvPicPr>
        <p:blipFill>
          <a:blip r:embed="rId1"/>
          <a:stretch/>
        </p:blipFill>
        <p:spPr>
          <a:xfrm>
            <a:off x="-60480" y="6510240"/>
            <a:ext cx="4827600" cy="37800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10"/>
          <p:cNvSpPr/>
          <p:nvPr/>
        </p:nvSpPr>
        <p:spPr>
          <a:xfrm>
            <a:off x="179280" y="1052640"/>
            <a:ext cx="482436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Achievements of Namibia Alliance for Improved Nutrition (NAF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lagship publication (“Malnutrition in Namibia – The time to act is now!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vocacy meeting with Regional Governors in 2011 resulted in declaration of commitments on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dget allocation by the cabinet to NAFIN activities and subsequent Cabinet Action Letter on Nutr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 working groups under NAFIN – Maternal Infant and Young Child Nutrition, and Food Fo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ater &amp; Sanitation forum and Food Security group to join NA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91636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7308720" y="11160"/>
            <a:ext cx="1835280" cy="896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4"/>
          <a:srcRect l="0" t="0" r="0" b="1640"/>
          <a:stretch/>
        </p:blipFill>
        <p:spPr>
          <a:xfrm>
            <a:off x="5292720" y="1125360"/>
            <a:ext cx="3672000" cy="511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7" descr=""/>
          <p:cNvPicPr/>
          <p:nvPr/>
        </p:nvPicPr>
        <p:blipFill>
          <a:blip r:embed="rId5">
            <a:alphaModFix amt="57000"/>
          </a:blip>
          <a:stretch/>
        </p:blipFill>
        <p:spPr>
          <a:xfrm>
            <a:off x="0" y="4680"/>
            <a:ext cx="1332000" cy="903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926-DB29-4563-A739-9A2E02DCD98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Espace réservé du pied de page 8" descr=""/>
          <p:cNvPicPr/>
          <p:nvPr/>
        </p:nvPicPr>
        <p:blipFill>
          <a:blip r:embed="rId1"/>
          <a:stretch/>
        </p:blipFill>
        <p:spPr>
          <a:xfrm>
            <a:off x="-60480" y="6510240"/>
            <a:ext cx="4827600" cy="37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10"/>
          <p:cNvSpPr/>
          <p:nvPr/>
        </p:nvSpPr>
        <p:spPr>
          <a:xfrm>
            <a:off x="34920" y="1158840"/>
            <a:ext cx="50418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Namibia in Scaling Up Nutrition (S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ibia became SUN country in November 20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M of the Republic of Namibia appointed by the United Nations Secretary General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N Lead Gro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mber in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rs. Graca Mache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November 2012 to support NAFIN and advocate key stakeholders on importance of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unched Nutrition Landscape Analysis (NLSA) report at the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e participation in SUN lead group and country network group (Ministry of Health and Social Services, UNICEF and Syner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91636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7308720" y="11160"/>
            <a:ext cx="1835280" cy="89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4"/>
          <a:srcRect l="0" t="4609" r="0" b="8105"/>
          <a:stretch/>
        </p:blipFill>
        <p:spPr>
          <a:xfrm>
            <a:off x="5219640" y="1090440"/>
            <a:ext cx="3745080" cy="529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7" descr=""/>
          <p:cNvPicPr/>
          <p:nvPr/>
        </p:nvPicPr>
        <p:blipFill>
          <a:blip r:embed="rId5">
            <a:alphaModFix amt="57000"/>
          </a:blip>
          <a:stretch/>
        </p:blipFill>
        <p:spPr>
          <a:xfrm>
            <a:off x="0" y="4680"/>
            <a:ext cx="1332000" cy="939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17CA-0F8A-4998-BE71-CE4B3C788AE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Espace réservé du pied de page 8" descr=""/>
          <p:cNvPicPr/>
          <p:nvPr/>
        </p:nvPicPr>
        <p:blipFill>
          <a:blip r:embed="rId1"/>
          <a:stretch/>
        </p:blipFill>
        <p:spPr>
          <a:xfrm>
            <a:off x="-60480" y="6510240"/>
            <a:ext cx="4827600" cy="37800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10"/>
          <p:cNvSpPr/>
          <p:nvPr/>
        </p:nvSpPr>
        <p:spPr>
          <a:xfrm>
            <a:off x="179280" y="1052640"/>
            <a:ext cx="4824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SUN Country Implementation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FIN initiated development of multi-sectoral Country Implementation Plan in August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k review of key documents; strategies, policies and plans of Ministries, Agencies and other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key result areas iden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ns the timeframe: 2013/14 – 2015/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ing exercise supported by the World Bank, March –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ed implementation plan, results matrix and dash board of indicators will be ready by mid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291636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7308720" y="11160"/>
            <a:ext cx="1835280" cy="89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4"/>
          <a:stretch/>
        </p:blipFill>
        <p:spPr>
          <a:xfrm>
            <a:off x="5219640" y="1052640"/>
            <a:ext cx="3598920" cy="536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7" descr=""/>
          <p:cNvPicPr/>
          <p:nvPr/>
        </p:nvPicPr>
        <p:blipFill>
          <a:blip r:embed="rId5">
            <a:alphaModFix amt="57000"/>
          </a:blip>
          <a:stretch/>
        </p:blipFill>
        <p:spPr>
          <a:xfrm>
            <a:off x="0" y="4680"/>
            <a:ext cx="1332000" cy="939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A026-2A82-4A25-84D5-8226476D316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space réservé du pied de page 8" descr=""/>
          <p:cNvPicPr/>
          <p:nvPr/>
        </p:nvPicPr>
        <p:blipFill>
          <a:blip r:embed="rId1"/>
          <a:stretch/>
        </p:blipFill>
        <p:spPr>
          <a:xfrm>
            <a:off x="-60480" y="6510240"/>
            <a:ext cx="4827600" cy="37800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10"/>
          <p:cNvSpPr/>
          <p:nvPr/>
        </p:nvSpPr>
        <p:spPr>
          <a:xfrm>
            <a:off x="179280" y="1254240"/>
            <a:ext cx="8785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Ensuring Coherent Policy, Legal Framework and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ibia has a wide range of nutrition-specific and sensitive policies, legal framework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opportunities are costed SUN Country Implementation Plan, results matrix and dashboard of indicators to monitor scaling up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ingness and Commitment are high in Namibia through Nutrition Champions - the First Lady of the Republic of Namibia; myself; and Governors of all 13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support of the Government, development partners, civil society organizations, private sector, etc. through NA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 challenges are still there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lation of existing policies into action, integration and coordination hampered by limited human resour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ing the gaps, coordination between sectors, and accountability by sectors on reporting indicators remain as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48436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7308720" y="11160"/>
            <a:ext cx="1835280" cy="89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>
            <a:alphaModFix amt="57000"/>
          </a:blip>
          <a:stretch/>
        </p:blipFill>
        <p:spPr>
          <a:xfrm>
            <a:off x="0" y="4680"/>
            <a:ext cx="1332000" cy="939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D027-E43F-4DD9-BDFD-30B65E2A164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Espace réservé du pied de page 8" descr=""/>
          <p:cNvPicPr/>
          <p:nvPr/>
        </p:nvPicPr>
        <p:blipFill>
          <a:blip r:embed="rId1"/>
          <a:stretch/>
        </p:blipFill>
        <p:spPr>
          <a:xfrm>
            <a:off x="-60480" y="6510240"/>
            <a:ext cx="4827600" cy="37800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10"/>
          <p:cNvSpPr/>
          <p:nvPr/>
        </p:nvSpPr>
        <p:spPr>
          <a:xfrm>
            <a:off x="468360" y="1125360"/>
            <a:ext cx="82072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Opportunities to Make Malnutrition History in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FIN institutionalised in the Office of the Prime Minister – opportunity for resource mobilisation internally and coord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y Implementation Plan ready in a few months and will be tested out in selected regions for better coordina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partners’ support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th-south cooperation such as visit of Mrs. Machel; sub-regional forum on experience sharing among SU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ctivities present opportunities to create employment; e.g. Infrastructure construction of sanitary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ing nutrition plan with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mibian National Development Plan; 5 year sectoral execution plans; and annual sectoral execu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nd other support from SU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Goal: to reduce stunting rates from 29% (2006/7) to 20% in 20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291636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7451640" y="11160"/>
            <a:ext cx="1692360" cy="89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>
            <a:alphaModFix amt="57000"/>
          </a:blip>
          <a:stretch/>
        </p:blipFill>
        <p:spPr>
          <a:xfrm>
            <a:off x="0" y="4680"/>
            <a:ext cx="1332000" cy="939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E549-5BE1-4F9D-AF08-4A7E404EE03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Espace réservé du pied de page 8" descr=""/>
          <p:cNvPicPr/>
          <p:nvPr/>
        </p:nvPicPr>
        <p:blipFill>
          <a:blip r:embed="rId1"/>
          <a:stretch/>
        </p:blipFill>
        <p:spPr>
          <a:xfrm>
            <a:off x="-60480" y="6510240"/>
            <a:ext cx="4827600" cy="37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2627280" y="185760"/>
            <a:ext cx="3457440" cy="54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7308720" y="11160"/>
            <a:ext cx="1835280" cy="89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" descr=""/>
          <p:cNvPicPr/>
          <p:nvPr/>
        </p:nvPicPr>
        <p:blipFill>
          <a:blip r:embed="rId4"/>
          <a:srcRect l="395" t="0" r="192" b="8302"/>
          <a:stretch/>
        </p:blipFill>
        <p:spPr>
          <a:xfrm>
            <a:off x="0" y="944640"/>
            <a:ext cx="9144000" cy="5608440"/>
          </a:xfrm>
          <a:prstGeom prst="rect">
            <a:avLst/>
          </a:prstGeom>
          <a:ln w="0">
            <a:noFill/>
          </a:ln>
        </p:spPr>
      </p:pic>
      <p:pic>
        <p:nvPicPr>
          <p:cNvPr id="124" name="ZoneTexte 13" descr=""/>
          <p:cNvPicPr/>
          <p:nvPr/>
        </p:nvPicPr>
        <p:blipFill>
          <a:blip r:embed="rId5"/>
          <a:stretch/>
        </p:blipFill>
        <p:spPr>
          <a:xfrm>
            <a:off x="1042920" y="3139920"/>
            <a:ext cx="3827520" cy="98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6">
            <a:alphaModFix amt="57000"/>
          </a:blip>
          <a:stretch/>
        </p:blipFill>
        <p:spPr>
          <a:xfrm>
            <a:off x="0" y="4680"/>
            <a:ext cx="1332000" cy="903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ahelali</cp:lastModifiedBy>
  <cp:lastPrinted>2013-05-07T06:47:39Z</cp:lastPrinted>
  <dcterms:modified xsi:type="dcterms:W3CDTF">2013-05-13T17:24:51Z</dcterms:modified>
  <cp:revision>100</cp:revision>
  <dc:subject/>
  <dc:title>Diapositive 1</dc:title>
</cp:coreProperties>
</file>