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C9BC-F289-4CDC-A01F-D260CE03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B44F-70BD-4AD7-8724-22B333C7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B95C-8CC4-458C-8EF9-E8D5312D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4573-1E7E-49B7-B987-209A0E4F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ED88-3811-4BDA-9D09-CDC5F530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BE24-F319-4D61-8BD7-E0FB7707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A363-78A8-46F3-9DE4-A1B922CE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030B-7966-4A72-BCFC-1D7B26D7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67AC-45D0-42FD-821F-807AD293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A45E-281B-46E6-BC6C-58FF8500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F6A4-A30A-4FF9-AC4C-43667D4C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263E-D320-41D2-BD3D-83F5B2B8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FE0D-5F57-44AA-A038-A903AC28116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40537" t="-5988" r="0" b="0"/>
          <a:stretch/>
        </p:blipFill>
        <p:spPr>
          <a:xfrm>
            <a:off x="92160" y="162000"/>
            <a:ext cx="3384360" cy="5763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0" y="907920"/>
            <a:ext cx="867564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0" y="5445000"/>
            <a:ext cx="9144000" cy="21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11"/>
          <p:cNvSpPr/>
          <p:nvPr/>
        </p:nvSpPr>
        <p:spPr>
          <a:xfrm>
            <a:off x="250920" y="580068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f0"/>
                </a:solidFill>
                <a:latin typeface="Arial"/>
              </a:rPr>
              <a:t>Dr Souley HARO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Président du Conseil d’administration de FORSANI (Forum Santé Nig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Point focal de la plateforme de la société civile nigérienne pour le Mouvement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13"/>
          <p:cNvSpPr/>
          <p:nvPr/>
        </p:nvSpPr>
        <p:spPr>
          <a:xfrm>
            <a:off x="176040" y="1341360"/>
            <a:ext cx="669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RÔLES DES ORGANISATIONS DE LA SOCIÉTÉ CIV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DANS LA LUT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CONTRE LA SOUS NUTRI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14"/>
          <p:cNvSpPr/>
          <p:nvPr/>
        </p:nvSpPr>
        <p:spPr>
          <a:xfrm>
            <a:off x="6684480" y="403704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0f0"/>
                </a:solidFill>
                <a:latin typeface="Arial"/>
              </a:rPr>
              <a:t>www.forsani.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8" descr=""/>
          <p:cNvPicPr/>
          <p:nvPr/>
        </p:nvPicPr>
        <p:blipFill>
          <a:blip r:embed="rId2"/>
          <a:srcRect l="0" t="15099" r="0" b="0"/>
          <a:stretch/>
        </p:blipFill>
        <p:spPr>
          <a:xfrm>
            <a:off x="6300720" y="189000"/>
            <a:ext cx="27529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DEF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connaissance du travail de la S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édérer les OS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suffisance d’expertise de la S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suffisance de moy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714240"/>
            <a:ext cx="300816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Ne doutez jamais qu’un petit groupe de citoyens conscients et engagés puisse chan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monde. En fait c’est toujours comme çà que le monde a changé. 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garet Mead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hropologue américain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3575160" y="714240"/>
            <a:ext cx="51116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311472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PLATE FORME DES OSC SUN NI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008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-14 JUIN 2011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structures de la societé civile travaillent pour mettre en place la plate forme de la societé civile pour le SU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ujourd’hu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de travail 3 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e statutaire et réglementai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cépissé provisoi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575160" y="857160"/>
            <a:ext cx="5111640" cy="2928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6858000" y="3786120"/>
            <a:ext cx="1814400" cy="2500560"/>
          </a:xfrm>
          <a:prstGeom prst="rect">
            <a:avLst/>
          </a:prstGeom>
          <a:ln w="0">
            <a:noFill/>
          </a:ln>
        </p:spPr>
      </p:pic>
      <p:cxnSp>
        <p:nvCxnSpPr>
          <p:cNvPr id="52" name="Connecteur droit avec flèche 6"/>
          <p:cNvCxnSpPr/>
          <p:nvPr/>
        </p:nvCxnSpPr>
        <p:spPr>
          <a:xfrm flipV="1">
            <a:off x="2928600" y="4857480"/>
            <a:ext cx="3786840" cy="71496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ZoneTexte 7"/>
          <p:cNvSpPr/>
          <p:nvPr/>
        </p:nvSpPr>
        <p:spPr>
          <a:xfrm>
            <a:off x="3429000" y="3857760"/>
            <a:ext cx="415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i="1" lang="fr-FR" sz="1400" spc="-1" strike="noStrike">
                <a:solidFill>
                  <a:srgbClr val="000000"/>
                </a:solidFill>
                <a:latin typeface="Calibri"/>
              </a:rPr>
              <a:t>Elaboration texte plate for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404352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QUE FONT LES OSC?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3971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La prise en charg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En hospitalier comme en communautai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Nombre centres appuyés/nombres centres non apuy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Prévention de la malnutri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ns de santé, vaccination, IEC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210413 DOSSIERS IMPORTANTS\ALBUM\Photos\Photos choisies\SAM_3016.JPG"/>
          <p:cNvPicPr/>
          <p:nvPr/>
        </p:nvPicPr>
        <p:blipFill>
          <a:blip r:embed="rId1"/>
          <a:stretch/>
        </p:blipFill>
        <p:spPr>
          <a:xfrm>
            <a:off x="4572000" y="785880"/>
            <a:ext cx="4114800" cy="435780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4"/>
          <p:cNvSpPr/>
          <p:nvPr/>
        </p:nvSpPr>
        <p:spPr>
          <a:xfrm>
            <a:off x="5143680" y="5143680"/>
            <a:ext cx="35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</a:rPr>
              <a:t>CRENI  CHR Maradi,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52578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RECHERCHE-AC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44719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e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Evaluation de deux stratégies communautaires de dépistage de la malnutrition aigue sévère chez les  enfants 6-59 mois, Mirriah Ni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n collabor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Evaluation des différentes stratégies de distributions préventives de la malnutrition au Nig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lenovo\Pictures\recherche.jpg"/>
          <p:cNvPicPr/>
          <p:nvPr/>
        </p:nvPicPr>
        <p:blipFill>
          <a:blip r:embed="rId1"/>
          <a:stretch/>
        </p:blipFill>
        <p:spPr>
          <a:xfrm>
            <a:off x="5572080" y="1528920"/>
            <a:ext cx="260676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FORM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17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ormation des jeunes médecins à la prise en charge de la malnutrition Niamey,2010 et 20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u total 65 médecins form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85840" y="3500280"/>
            <a:ext cx="4286160" cy="3214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4720" y="1928520"/>
            <a:ext cx="404172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Ci-dessous, photo de famille d’une vague d’infirmiers tchadiens formés, Biltine 201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Au total 100 infirmiers formé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4643280" y="3500280"/>
            <a:ext cx="404208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MOBILIS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818676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ensibilise les communautés à connaitre leur droit et l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ncadre à demander des comptes aux décid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lenovo\Desktop\PPT Paris\FOTO\SAM_0372.JPG"/>
          <p:cNvPicPr/>
          <p:nvPr/>
        </p:nvPicPr>
        <p:blipFill>
          <a:blip r:embed="rId1"/>
          <a:stretch/>
        </p:blipFill>
        <p:spPr>
          <a:xfrm>
            <a:off x="457200" y="2803680"/>
            <a:ext cx="4040280" cy="3340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lenovo\Desktop\PPT Paris\FOTO\SAM_0380.JPG"/>
          <p:cNvPicPr/>
          <p:nvPr/>
        </p:nvPicPr>
        <p:blipFill>
          <a:blip r:embed="rId2"/>
          <a:stretch/>
        </p:blipFill>
        <p:spPr>
          <a:xfrm>
            <a:off x="4645080" y="2286000"/>
            <a:ext cx="4041720" cy="3429000"/>
          </a:xfrm>
          <a:prstGeom prst="rect">
            <a:avLst/>
          </a:prstGeom>
          <a:ln w="0">
            <a:noFill/>
          </a:ln>
        </p:spPr>
      </p:pic>
      <p:sp>
        <p:nvSpPr>
          <p:cNvPr id="70" name="ZoneTexte 5"/>
          <p:cNvSpPr/>
          <p:nvPr/>
        </p:nvSpPr>
        <p:spPr>
          <a:xfrm>
            <a:off x="5215680" y="5929200"/>
            <a:ext cx="29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</a:rPr>
              <a:t>Conférence à l’université Niamey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PLAIDOY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42600" y="1214280"/>
            <a:ext cx="7929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98989"/>
                </a:solidFill>
                <a:latin typeface="Arial"/>
                <a:ea typeface="Arial"/>
              </a:rPr>
              <a:t>⇨ </a:t>
            </a:r>
            <a:r>
              <a:rPr b="1" lang="fr-FR" sz="2400" spc="-1" strike="noStrike">
                <a:solidFill>
                  <a:srgbClr val="898989"/>
                </a:solidFill>
                <a:latin typeface="Arial"/>
                <a:ea typeface="Arial"/>
              </a:rPr>
              <a:t>Malnutrition, agenda polit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8989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98989"/>
                </a:solidFill>
                <a:latin typeface="Arial"/>
                <a:ea typeface="Arial"/>
              </a:rPr>
              <a:t>Basé sur les évidences de la recherc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8989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98989"/>
                </a:solidFill>
                <a:latin typeface="Arial"/>
                <a:ea typeface="Arial"/>
              </a:rPr>
              <a:t> </a:t>
            </a:r>
            <a:r>
              <a:rPr b="1" lang="fr-FR" sz="2400" spc="-1" strike="noStrike">
                <a:solidFill>
                  <a:srgbClr val="898989"/>
                </a:solidFill>
                <a:latin typeface="Arial"/>
                <a:ea typeface="Arial"/>
              </a:rPr>
              <a:t>Basé sur des analyse de situ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98989"/>
                </a:solidFill>
                <a:latin typeface="Arial"/>
                <a:ea typeface="Arial"/>
              </a:rPr>
              <a:t>Analyse de financement de la nutrition est en préparation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98989"/>
                </a:solidFill>
                <a:latin typeface="Arial"/>
                <a:ea typeface="Arial"/>
              </a:rPr>
              <a:t>                  ⇨</a:t>
            </a:r>
            <a:r>
              <a:rPr b="1" lang="fr-FR" sz="2400" spc="-1" strike="noStrike">
                <a:solidFill>
                  <a:srgbClr val="898989"/>
                </a:solidFill>
                <a:latin typeface="Arial"/>
                <a:ea typeface="Arial"/>
              </a:rPr>
              <a:t>Elaboration inclusive/adoption de politique en faveur de la nutrition et  sa mise en œuv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CONTRÔLE CITOYE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071360"/>
            <a:ext cx="404028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ique déci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rte: partage d’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4720" y="1000080"/>
            <a:ext cx="4041720" cy="18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uivi des engag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7640" cy="3714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4645080" y="2214720"/>
            <a:ext cx="4041720" cy="3786120"/>
          </a:xfrm>
          <a:prstGeom prst="rect">
            <a:avLst/>
          </a:prstGeom>
          <a:ln w="0">
            <a:noFill/>
          </a:ln>
        </p:spPr>
      </p:pic>
      <p:sp>
        <p:nvSpPr>
          <p:cNvPr id="78" name="ZoneTexte 6"/>
          <p:cNvSpPr/>
          <p:nvPr/>
        </p:nvSpPr>
        <p:spPr>
          <a:xfrm>
            <a:off x="857160" y="6000840"/>
            <a:ext cx="26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</a:rPr>
              <a:t>Analyse budgétaire, Niamey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7"/>
          <p:cNvSpPr/>
          <p:nvPr/>
        </p:nvSpPr>
        <p:spPr>
          <a:xfrm>
            <a:off x="4857840" y="6000840"/>
            <a:ext cx="314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</a:rPr>
              <a:t>Marche société civile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E FORME: CADRE D’ECHANG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40064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ériences réussies / échec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veau n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 acteurs, collaborat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veau intern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357800" y="1214280"/>
            <a:ext cx="4329000" cy="4286520"/>
          </a:xfrm>
          <a:prstGeom prst="rect">
            <a:avLst/>
          </a:prstGeom>
          <a:ln w="0">
            <a:noFill/>
          </a:ln>
        </p:spPr>
      </p:pic>
      <p:sp>
        <p:nvSpPr>
          <p:cNvPr id="83" name="ZoneTexte 4"/>
          <p:cNvSpPr/>
          <p:nvPr/>
        </p:nvSpPr>
        <p:spPr>
          <a:xfrm>
            <a:off x="4863960" y="5643720"/>
            <a:ext cx="210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</a:rPr>
              <a:t>Réunion de la société civ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1:07:26Z</dcterms:created>
  <dc:creator>lenovo</dc:creator>
  <dc:description/>
  <dc:language>en-US</dc:language>
  <cp:lastModifiedBy>ahelali</cp:lastModifiedBy>
  <dcterms:modified xsi:type="dcterms:W3CDTF">2013-05-13T17:25:00Z</dcterms:modified>
  <cp:revision>82</cp:revision>
  <dc:subject/>
  <dc:title>Role of civil society organizations in fighting undernutrition” </dc:title>
</cp:coreProperties>
</file>