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1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96AE6-249B-4A43-A56D-909A50A5890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9D358-EB2D-4BC8-8999-DD033CBD15B9}" type="slidenum">
              <a:rPr b="0" lang="fr-B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5C3D9-B1E0-448B-95C2-34FD4EEF59A9}" type="slidenum">
              <a:rPr b="0" lang="fr-B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7AAE9-B2CB-4C50-A5A7-D7A7F6D018F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CF16E-8AC4-4718-9A8A-D3B454800A8B}" type="slidenum">
              <a:rPr b="0" lang="fr-B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CEC2-3309-41ED-855F-5D8E30910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BCFB-DB58-42A7-82B0-505B29F2C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3508-F367-4BAA-9925-5D7232782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5C55-38AB-4A0A-A83C-478647165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5139-3913-4BBC-AF1B-F62348123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6C72-5BA2-424F-9761-3F140A5F4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5F3A-93FF-41FF-8620-AFABEF9EA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2663-8F53-4B31-AD25-3B5FB9881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2F2E-F60F-4BF6-970F-629376B41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987B-0B0F-440A-AF04-19E2D8F2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28B3-FFBD-42E2-860F-F281AC868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D432-7154-4246-AB9B-A77BE83E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BD699-6D3E-4DE7-808A-E178D1DB66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age 7" descr="H:\Sary maro\Logo ONN.png"/>
          <p:cNvPicPr/>
          <p:nvPr/>
        </p:nvPicPr>
        <p:blipFill>
          <a:blip r:embed="rId1"/>
          <a:stretch/>
        </p:blipFill>
        <p:spPr>
          <a:xfrm>
            <a:off x="357120" y="5643720"/>
            <a:ext cx="1714680" cy="1104840"/>
          </a:xfrm>
          <a:prstGeom prst="rect">
            <a:avLst/>
          </a:prstGeom>
          <a:ln w="0">
            <a:noFill/>
          </a:ln>
        </p:spPr>
      </p:pic>
      <p:pic>
        <p:nvPicPr>
          <p:cNvPr id="49" name="Image 4" descr="http://www.madaconnection.com/images_move/madagascar.gif"/>
          <p:cNvPicPr/>
          <p:nvPr/>
        </p:nvPicPr>
        <p:blipFill>
          <a:blip r:embed="rId2"/>
          <a:stretch/>
        </p:blipFill>
        <p:spPr>
          <a:xfrm>
            <a:off x="7191360" y="5448240"/>
            <a:ext cx="1952640" cy="1409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20001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à coins arrondis 9"/>
          <p:cNvSpPr/>
          <p:nvPr/>
        </p:nvSpPr>
        <p:spPr>
          <a:xfrm>
            <a:off x="214200" y="2571840"/>
            <a:ext cx="8715600" cy="221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Budgétisation du Plan National d’Action pour la Nutrition (PNAN) 2012-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MADAGASC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0" y="1125000"/>
            <a:ext cx="8686800" cy="52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ise à l’échelle des 27 interventions du PNAN II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mélioration de la collecte et de l’analyse des données nutritionnelles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Renforcement de la décentralisation des actions en nutrition (pour l’ONN et pour le Ministère de la Santé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Intégration des actions de nutrition dans le programme de développement des Ministères Techniques. (Nutrition sensitiv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Renforcement pour les acteurs clés du terrain de ce qu’est la lutte contre la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malnutrition chronique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Renforcement de capacité en planification, en coordination multisectoriel et multi-acteurs pour l’Office National de Nutri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Calibri"/>
              </a:rPr>
              <a:t>Amélioration de la mobilisation des ressources nationales et internationa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Calibri"/>
              </a:rPr>
              <a:t>Le plaidoyer relatif à la communication institutionnelle au niveau des décideurs et PTF (élaboration de plan de communication et de plaidoye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Calibri"/>
              </a:rPr>
              <a:t>Le suivi et évaluation des exécutions du PNAN réalisées à tous les niveaux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Calibri"/>
              </a:rPr>
              <a:t>Une culture des résultats  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Défis et perspectives 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ZoneTexte 4"/>
          <p:cNvSpPr/>
          <p:nvPr/>
        </p:nvSpPr>
        <p:spPr>
          <a:xfrm>
            <a:off x="142920" y="0"/>
            <a:ext cx="900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Contexte- Processus de budgétisation- Opportunités- </a:t>
            </a:r>
            <a:r>
              <a:rPr b="1" i="1" lang="fr-FR" sz="1400" spc="-1" strike="noStrike">
                <a:solidFill>
                  <a:srgbClr val="ff0000"/>
                </a:solidFill>
                <a:latin typeface="Arial"/>
              </a:rPr>
              <a:t>Défis et perspectives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-Conclu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57120" y="1214280"/>
            <a:ext cx="4400640" cy="23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Une harmonisation des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pproches de toute les parties prenantes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est essentielle du fait que les ressources et les capacités sont limitées et que le défis est gigantesqu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9680" y="571680"/>
            <a:ext cx="8186760" cy="4284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Conclusion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ZoneTexte 5"/>
          <p:cNvSpPr/>
          <p:nvPr/>
        </p:nvSpPr>
        <p:spPr>
          <a:xfrm>
            <a:off x="142920" y="0"/>
            <a:ext cx="900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Contexte- Processus de budgétisation- Opportunités- Défis et perspectives-</a:t>
            </a:r>
            <a:r>
              <a:rPr b="1" i="1" lang="fr-FR" sz="1400" spc="-1" strike="noStrike">
                <a:solidFill>
                  <a:srgbClr val="ff0000"/>
                </a:solidFill>
                <a:latin typeface="Arial"/>
              </a:rPr>
              <a:t>Conclu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Bulle ronde 8"/>
          <p:cNvSpPr/>
          <p:nvPr/>
        </p:nvSpPr>
        <p:spPr>
          <a:xfrm>
            <a:off x="5214960" y="1857240"/>
            <a:ext cx="3929040" cy="1428840"/>
          </a:xfrm>
          <a:prstGeom prst="wedgeEllipse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Blackadder ITC"/>
                <a:ea typeface="Verdana"/>
              </a:rPr>
              <a:t>Jeunes mères fière d’avoir des bébés  à  l’écoute de l’éducation nutrition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Image 9" descr="F:\PhotosCR\P1110594.JPG"/>
          <p:cNvPicPr/>
          <p:nvPr/>
        </p:nvPicPr>
        <p:blipFill>
          <a:blip r:embed="rId1"/>
          <a:stretch/>
        </p:blipFill>
        <p:spPr>
          <a:xfrm>
            <a:off x="2571840" y="3643200"/>
            <a:ext cx="3786120" cy="30718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C:\Documents and Settings\ONN CN\Bureau\JNN 2011\_MG_0076.JPG"/>
          <p:cNvPicPr/>
          <p:nvPr/>
        </p:nvPicPr>
        <p:blipFill>
          <a:blip r:embed="rId1"/>
          <a:stretch/>
        </p:blipFill>
        <p:spPr>
          <a:xfrm>
            <a:off x="0" y="0"/>
            <a:ext cx="9180360" cy="63342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28400" y="0"/>
            <a:ext cx="8258040" cy="15717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n-US" sz="2400" spc="-1" strike="noStrike">
                <a:solidFill>
                  <a:srgbClr val="ff0000"/>
                </a:solidFill>
                <a:latin typeface="Calibri"/>
              </a:rPr>
              <a:t>Il est temps de libérer les ressources pour la nutrition,</a:t>
            </a:r>
            <a:br>
              <a:rPr sz="2400"/>
            </a:br>
            <a:r>
              <a:rPr b="1" i="1" lang="en-US" sz="2400" spc="-1" strike="noStrike">
                <a:solidFill>
                  <a:srgbClr val="ff0000"/>
                </a:solidFill>
                <a:latin typeface="Calibri"/>
              </a:rPr>
              <a:t>Il est temps que la nutrition obtienne la place qu’il faut dans le programme de </a:t>
            </a:r>
            <a:r>
              <a:rPr b="1" i="1" lang="fr-FR" sz="2400" spc="-1" strike="noStrike">
                <a:solidFill>
                  <a:srgbClr val="ff0000"/>
                </a:solidFill>
                <a:latin typeface="Calibri"/>
              </a:rPr>
              <a:t>Développement socio-économique du pay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ZoneTexte 5"/>
          <p:cNvSpPr/>
          <p:nvPr/>
        </p:nvSpPr>
        <p:spPr>
          <a:xfrm>
            <a:off x="357120" y="5357880"/>
            <a:ext cx="8286840" cy="947160"/>
          </a:xfrm>
          <a:prstGeom prst="rect">
            <a:avLst/>
          </a:prstGeom>
          <a:solidFill>
            <a:srgbClr val="93cddd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7375e"/>
                </a:solidFill>
                <a:latin typeface="Calibri"/>
              </a:rPr>
              <a:t>Conjuguons nos efforts pour un avenir meilleur des enfants Malag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ZoneTexte 6"/>
          <p:cNvSpPr/>
          <p:nvPr/>
        </p:nvSpPr>
        <p:spPr>
          <a:xfrm>
            <a:off x="1285920" y="6273720"/>
            <a:ext cx="657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00"/>
                </a:solidFill>
                <a:latin typeface="Calibri"/>
              </a:rPr>
              <a:t>Merci de votre att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9680" y="499680"/>
            <a:ext cx="8186760" cy="785880"/>
          </a:xfrm>
          <a:prstGeom prst="rect">
            <a:avLst/>
          </a:prstGeom>
          <a:solidFill>
            <a:srgbClr val="dbeef4"/>
          </a:solidFill>
          <a:ln w="255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ntexte de la nutrition à Madagasca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214200" y="1928880"/>
            <a:ext cx="48578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oitié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des enfants &lt; 5 ans accusent  un retard de </a:t>
            </a:r>
            <a:r>
              <a:rPr b="0" lang="fr-BE" sz="2000" spc="-1" strike="noStrike">
                <a:solidFill>
                  <a:srgbClr val="000000"/>
                </a:solidFill>
                <a:latin typeface="Calibri"/>
              </a:rPr>
              <a:t>croissance sup à 50%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oitié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des enfants &lt; 5 ans sont anémiqu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s d’un </a:t>
            </a:r>
            <a:r>
              <a:rPr b="0" lang="fr-BE" sz="2000" spc="-1" strike="noStrike">
                <a:solidFill>
                  <a:srgbClr val="000000"/>
                </a:solidFill>
                <a:latin typeface="Calibri"/>
              </a:rPr>
              <a:t>quat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27%) des femmes en âge de </a:t>
            </a:r>
            <a:r>
              <a:rPr b="0" lang="fr-BE" sz="2000" spc="-1" strike="noStrike">
                <a:solidFill>
                  <a:srgbClr val="000000"/>
                </a:solidFill>
                <a:latin typeface="Calibri"/>
              </a:rPr>
              <a:t>procrée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sont malnutri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s d’un tiers des femmes (35%) en âge de </a:t>
            </a:r>
            <a:r>
              <a:rPr b="0" lang="fr-BE" sz="2000" spc="-1" strike="noStrike">
                <a:solidFill>
                  <a:srgbClr val="000000"/>
                </a:solidFill>
                <a:latin typeface="Calibri"/>
              </a:rPr>
              <a:t>procrée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sont </a:t>
            </a:r>
            <a:r>
              <a:rPr b="0" lang="fr-BE" sz="2000" spc="-1" strike="noStrike">
                <a:solidFill>
                  <a:srgbClr val="000000"/>
                </a:solidFill>
                <a:latin typeface="Calibri"/>
              </a:rPr>
              <a:t>anémiques,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 tiers des hommes (33%) sont </a:t>
            </a:r>
            <a:r>
              <a:rPr b="0" lang="fr-BE" sz="2000" spc="-1" strike="noStrike">
                <a:solidFill>
                  <a:srgbClr val="000000"/>
                </a:solidFill>
                <a:latin typeface="Calibri"/>
              </a:rPr>
              <a:t>anémiq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aux d’Insuffisance ponderale de: 32,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500040" y="5688000"/>
            <a:ext cx="40719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EDS 2008-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CFSNVA+N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LANDYSCAP  ANALYSIS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ENQUETE ANTHROPOMETRIQUE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AD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ZoneTexte 6"/>
          <p:cNvSpPr/>
          <p:nvPr/>
        </p:nvSpPr>
        <p:spPr>
          <a:xfrm>
            <a:off x="571680" y="5286240"/>
            <a:ext cx="242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 u="sng">
                <a:solidFill>
                  <a:srgbClr val="000000"/>
                </a:solidFill>
                <a:uFillTx/>
                <a:latin typeface="Calibri"/>
              </a:rPr>
              <a:t>Sources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1" descr=""/>
          <p:cNvPicPr/>
          <p:nvPr/>
        </p:nvPicPr>
        <p:blipFill>
          <a:blip r:embed="rId1"/>
          <a:stretch/>
        </p:blipFill>
        <p:spPr>
          <a:xfrm>
            <a:off x="5429160" y="1571760"/>
            <a:ext cx="3143520" cy="5217840"/>
          </a:xfrm>
          <a:prstGeom prst="rect">
            <a:avLst/>
          </a:prstGeom>
          <a:ln w="0">
            <a:noFill/>
          </a:ln>
        </p:spPr>
      </p:pic>
      <p:sp>
        <p:nvSpPr>
          <p:cNvPr id="57" name="ZoneTexte 9"/>
          <p:cNvSpPr/>
          <p:nvPr/>
        </p:nvSpPr>
        <p:spPr>
          <a:xfrm>
            <a:off x="142920" y="0"/>
            <a:ext cx="900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ff0000"/>
                </a:solidFill>
                <a:latin typeface="Arial"/>
              </a:rPr>
              <a:t>Contexte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- Processus de budgétisation- Opportunités- Défis et perspectives-Conclu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Content Placeholder 3" descr=""/>
          <p:cNvPicPr/>
          <p:nvPr/>
        </p:nvPicPr>
        <p:blipFill>
          <a:blip r:embed="rId1"/>
          <a:stretch/>
        </p:blipFill>
        <p:spPr>
          <a:xfrm>
            <a:off x="281160" y="1566720"/>
            <a:ext cx="8234280" cy="40165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4"/>
          <p:cNvSpPr/>
          <p:nvPr/>
        </p:nvSpPr>
        <p:spPr>
          <a:xfrm>
            <a:off x="428760" y="571680"/>
            <a:ext cx="8001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Calibri"/>
              </a:rPr>
              <a:t>Prévalence de la malnutrition chronique pour les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Calibri"/>
              </a:rPr>
              <a:t>enfants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alibri"/>
              </a:rPr>
              <a:t> de moins de 5 ans  suivant le standard OMS en 200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1357200" y="585792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EDS 2008-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ENQUETE ANTHROPOMETRIQUE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ZoneTexte 4"/>
          <p:cNvSpPr/>
          <p:nvPr/>
        </p:nvSpPr>
        <p:spPr>
          <a:xfrm>
            <a:off x="1571760" y="5643720"/>
            <a:ext cx="178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 u="sng">
                <a:solidFill>
                  <a:srgbClr val="000000"/>
                </a:solidFill>
                <a:uFillTx/>
                <a:latin typeface="Calibri"/>
              </a:rPr>
              <a:t>Sources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ZoneTexte 5"/>
          <p:cNvSpPr/>
          <p:nvPr/>
        </p:nvSpPr>
        <p:spPr>
          <a:xfrm>
            <a:off x="0" y="0"/>
            <a:ext cx="900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ff0000"/>
                </a:solidFill>
                <a:latin typeface="Arial"/>
              </a:rPr>
              <a:t>Contexte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- Processus de budgétisation- Opportunités- Défis et perspectives-Conclu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"/>
          <p:cNvPicPr/>
          <p:nvPr/>
        </p:nvPicPr>
        <p:blipFill>
          <a:blip r:embed="rId1"/>
          <a:srcRect l="20546" t="20104" r="21441" b="10886"/>
          <a:stretch/>
        </p:blipFill>
        <p:spPr>
          <a:xfrm>
            <a:off x="5857920" y="1928880"/>
            <a:ext cx="3071880" cy="36432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0040" y="500040"/>
            <a:ext cx="8329680" cy="511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Calibri"/>
              </a:rPr>
              <a:t>Plan National d’Action pour la Nutrition II (2012-2015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-360" y="1857240"/>
            <a:ext cx="57862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éduire la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évalence de la malnutrition chronique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(taille/âge&lt;-2ET) chez les enfants de moins de 5 ans soit de 50,1% à 42,8% 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(ii) Contribuer à la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éduction de la mortalité des enfants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de moins de 5 ans </a:t>
            </a:r>
            <a:r>
              <a:rPr b="0" lang="fr-FR" sz="2000" spc="-1" strike="noStrike">
                <a:solidFill>
                  <a:srgbClr val="333333"/>
                </a:solidFill>
                <a:latin typeface="Calibri"/>
                <a:ea typeface="바탕"/>
              </a:rPr>
              <a:t> 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de 72 pour 1000 naissances vivantes en 2008 à 56 en 2015.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NAN II est constitué par 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05 AXES  STRATEGIQ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27 INTERVEN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78 ACTIVI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1" lang="fr-FR" sz="2000" spc="-1" strike="noStrike">
                <a:solidFill>
                  <a:srgbClr val="558ed5"/>
                </a:solidFill>
                <a:latin typeface="Calibri"/>
              </a:rPr>
              <a:t>L’objectif primordial est d’obtenir des résultats probant d’ici 2012 à 2015, en mettant l’accent sur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- la réduction des retards de croissance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- la réduction de l’anémie et d’autres formes de malnutrition et de l’ insécurité alimentair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ZoneTexte 5"/>
          <p:cNvSpPr/>
          <p:nvPr/>
        </p:nvSpPr>
        <p:spPr>
          <a:xfrm>
            <a:off x="428760" y="1214280"/>
            <a:ext cx="4857480" cy="520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Calibri"/>
              </a:rPr>
              <a:t>Objectifs globau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ZoneTexte 6"/>
          <p:cNvSpPr/>
          <p:nvPr/>
        </p:nvSpPr>
        <p:spPr>
          <a:xfrm>
            <a:off x="142920" y="0"/>
            <a:ext cx="900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ff0000"/>
                </a:solidFill>
                <a:latin typeface="Arial"/>
              </a:rPr>
              <a:t>Contexte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- Processus de budgétisation- Opportunités- Défis et perspectives-Conclu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rocessus de budgétisation du PNAN II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78920" y="1197000"/>
            <a:ext cx="849636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Approche participative et multisectorielle des  toutes les parties prenantes  à Madagascar avec l’appui des experts internationaux, financé par OMS et UNICEF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Basé sur l'expérience de MBB pour l'intensification des interventions à fort impact pour la santé maternelle et infantile, </a:t>
            </a:r>
            <a:r>
              <a:rPr b="1" lang="fr-FR" sz="2700" spc="-1" strike="noStrike">
                <a:solidFill>
                  <a:srgbClr val="000000"/>
                </a:solidFill>
                <a:latin typeface="Calibri"/>
              </a:rPr>
              <a:t>une procédure simplifiée et un outil convivial a été développé </a:t>
            </a: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(sous format Excel) pour compiler les données nécessaires à l'établissement des coût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Calcul des coûts réalisés suivant l’identification </a:t>
            </a:r>
            <a:r>
              <a:rPr b="1" lang="fr-FR" sz="2700" spc="-1" strike="noStrike">
                <a:solidFill>
                  <a:srgbClr val="000000"/>
                </a:solidFill>
                <a:latin typeface="Calibri"/>
              </a:rPr>
              <a:t>des éléments de coûts </a:t>
            </a: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au niveau  : tâches </a:t>
            </a:r>
            <a:r>
              <a:rPr b="0" lang="fr-FR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 activités </a:t>
            </a:r>
            <a:r>
              <a:rPr b="0" lang="fr-FR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Interventions 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L'attention a été accordée à obtenir un </a:t>
            </a:r>
            <a:r>
              <a:rPr b="1" lang="fr-FR" sz="2700" spc="-1" strike="noStrike">
                <a:solidFill>
                  <a:srgbClr val="000000"/>
                </a:solidFill>
                <a:latin typeface="Calibri"/>
              </a:rPr>
              <a:t>budget présenté en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3 scenario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ZoneTexte 5"/>
          <p:cNvSpPr/>
          <p:nvPr/>
        </p:nvSpPr>
        <p:spPr>
          <a:xfrm>
            <a:off x="142920" y="0"/>
            <a:ext cx="900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Contexte- </a:t>
            </a:r>
            <a:r>
              <a:rPr b="1" i="1" lang="fr-FR" sz="1400" spc="-1" strike="noStrike">
                <a:solidFill>
                  <a:srgbClr val="ff0000"/>
                </a:solidFill>
                <a:latin typeface="Arial"/>
              </a:rPr>
              <a:t>Processus de budgétisation- 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Opportunités- Défis et perspectives-Conclu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s trois scenarios 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Calibri"/>
              </a:rPr>
              <a:t>Scénario 1 :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Taux de couverture des interventions à 30% .Sans extension par rapport à l’année 2011 vu le contexte socio politique du pay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Calibri"/>
              </a:rPr>
              <a:t>Scénario 2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: Taux de couverture espéré à atteindre à 60%, extension (mise à l’échelle) Budget Modes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Calibri"/>
              </a:rPr>
              <a:t>Scénario 3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: Taux de couverture espéré à atteindre à 80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500040" y="2786040"/>
            <a:ext cx="8072640" cy="8571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500040" y="4214880"/>
            <a:ext cx="8143920" cy="22885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 atelier avec la participation de toutes les parties prenantes a été fixé  pour déterminer le choix de scénario 2 à l’unanimité vu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les contraintes financières tant nationales qu’internationales</a:t>
            </a:r>
            <a:r>
              <a:rPr b="0" i="1" lang="fr-FR" sz="1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le contexte politique et institutionnel en pleine mutation à Madagascar, 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le contexte socio-économique marqué par la pauvre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lèche courbée vers la droite 5"/>
          <p:cNvSpPr/>
          <p:nvPr/>
        </p:nvSpPr>
        <p:spPr>
          <a:xfrm rot="10800000">
            <a:off x="8643600" y="3214800"/>
            <a:ext cx="500040" cy="2357280"/>
          </a:xfrm>
          <a:custGeom>
            <a:avLst/>
            <a:gdLst>
              <a:gd name="textAreaLeft" fmla="*/ 66960 w 500040"/>
              <a:gd name="textAreaRight" fmla="*/ 433080 w 500040"/>
              <a:gd name="textAreaTop" fmla="*/ 542520 h 2357280"/>
              <a:gd name="textAreaBottom" fmla="*/ 1752480 h 23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941" stAng="-5400000" swAng="-5400000"/>
                <a:lnTo>
                  <a:pt x="0" y="11086"/>
                </a:lnTo>
                <a:arcTo wR="21600" hR="9941" stAng="10800000" swAng="-3642403"/>
                <a:lnTo>
                  <a:pt x="16200" y="21284"/>
                </a:lnTo>
                <a:lnTo>
                  <a:pt x="21600" y="20455"/>
                </a:lnTo>
                <a:lnTo>
                  <a:pt x="16200" y="18993"/>
                </a:lnTo>
                <a:lnTo>
                  <a:pt x="16200" y="19566"/>
                </a:lnTo>
                <a:arcTo wR="21600" hR="9941" stAng="7157597" swAng="3551157"/>
                <a:lnTo>
                  <a:pt x="36" y="10514"/>
                </a:lnTo>
                <a:arcTo wR="21600" hR="9941" stAng="-10708754" swAng="5308754"/>
                <a:close/>
              </a:path>
              <a:path fill="darkenLess" w="21600" h="21600">
                <a:moveTo>
                  <a:pt x="21600" y="0"/>
                </a:moveTo>
                <a:arcTo wR="21600" hR="9941" stAng="-5400000" swAng="-5400000"/>
                <a:lnTo>
                  <a:pt x="0" y="9941"/>
                </a:lnTo>
                <a:arcTo wR="21600" hR="9941" stAng="10800000" swAng="-91246"/>
                <a:lnTo>
                  <a:pt x="36" y="10514"/>
                </a:lnTo>
                <a:arcTo wR="21600" hR="9941" stAng="-10708754" swAng="5308754"/>
                <a:close/>
              </a:path>
            </a:pathLst>
          </a:cu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lèche courbée vers la gauche 7"/>
          <p:cNvSpPr/>
          <p:nvPr/>
        </p:nvSpPr>
        <p:spPr>
          <a:xfrm rot="10800000">
            <a:off x="0" y="3000240"/>
            <a:ext cx="500040" cy="2478240"/>
          </a:xfrm>
          <a:custGeom>
            <a:avLst/>
            <a:gdLst>
              <a:gd name="textAreaLeft" fmla="*/ 66960 w 500040"/>
              <a:gd name="textAreaRight" fmla="*/ 433080 w 500040"/>
              <a:gd name="textAreaTop" fmla="*/ 572760 h 2478240"/>
              <a:gd name="textAreaBottom" fmla="*/ 1843200 h 2478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983" stAng="-5400000" swAng="5400000"/>
                <a:lnTo>
                  <a:pt x="21600" y="11072"/>
                </a:lnTo>
                <a:arcTo wR="21600" hR="9983" stAng="0" swAng="3648581"/>
                <a:lnTo>
                  <a:pt x="5400" y="21283"/>
                </a:lnTo>
                <a:lnTo>
                  <a:pt x="0" y="20511"/>
                </a:lnTo>
                <a:lnTo>
                  <a:pt x="5400" y="19104"/>
                </a:lnTo>
                <a:lnTo>
                  <a:pt x="5400" y="19649"/>
                </a:lnTo>
                <a:arcTo wR="21600" hR="9983" stAng="3648581" swAng="-3561810"/>
                <a:lnTo>
                  <a:pt x="21568" y="10528"/>
                </a:lnTo>
                <a:arcTo wR="21600" hR="9983" stAng="-86771" swAng="-5313229"/>
                <a:close/>
              </a:path>
              <a:path fill="darkenLess" w="21600" h="21600">
                <a:moveTo>
                  <a:pt x="0" y="0"/>
                </a:moveTo>
                <a:arcTo wR="21600" hR="9983" stAng="-5400000" swAng="5400000"/>
                <a:lnTo>
                  <a:pt x="21600" y="11072"/>
                </a:lnTo>
                <a:arcTo wR="21600" hR="9983" stAng="0" swAng="-86771"/>
                <a:lnTo>
                  <a:pt x="21568" y="10528"/>
                </a:lnTo>
                <a:arcTo wR="21600" hR="9983" stAng="-86771" swAng="-5313229"/>
                <a:close/>
              </a:path>
            </a:pathLst>
          </a:cu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ZoneTexte 8"/>
          <p:cNvSpPr/>
          <p:nvPr/>
        </p:nvSpPr>
        <p:spPr>
          <a:xfrm>
            <a:off x="142920" y="0"/>
            <a:ext cx="900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Contexte- </a:t>
            </a:r>
            <a:r>
              <a:rPr b="1" i="1" lang="fr-FR" sz="1400" spc="-1" strike="noStrike">
                <a:solidFill>
                  <a:srgbClr val="ff0000"/>
                </a:solidFill>
                <a:latin typeface="Arial"/>
              </a:rPr>
              <a:t>Processus de budgétisation- 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Opportunités- Défis et perspectives-Conclu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épartition du budget du PNAN 2012-2015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Chart 11" descr=""/>
          <p:cNvPicPr/>
          <p:nvPr/>
        </p:nvPicPr>
        <p:blipFill>
          <a:blip r:embed="rId1"/>
          <a:stretch/>
        </p:blipFill>
        <p:spPr>
          <a:xfrm>
            <a:off x="603360" y="1981080"/>
            <a:ext cx="5054400" cy="3902040"/>
          </a:xfrm>
          <a:prstGeom prst="rect">
            <a:avLst/>
          </a:prstGeom>
          <a:ln w="0">
            <a:noFill/>
          </a:ln>
        </p:spPr>
      </p:pic>
      <p:sp>
        <p:nvSpPr>
          <p:cNvPr id="80" name="ZoneTexte 3"/>
          <p:cNvSpPr/>
          <p:nvPr/>
        </p:nvSpPr>
        <p:spPr>
          <a:xfrm>
            <a:off x="6012000" y="220500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Cout total du PNAN II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127 000 000 U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oneTexte 4"/>
          <p:cNvSpPr/>
          <p:nvPr/>
        </p:nvSpPr>
        <p:spPr>
          <a:xfrm>
            <a:off x="142920" y="0"/>
            <a:ext cx="900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Contexte- </a:t>
            </a:r>
            <a:r>
              <a:rPr b="1" i="1" lang="fr-FR" sz="1400" spc="-1" strike="noStrike">
                <a:solidFill>
                  <a:srgbClr val="ff0000"/>
                </a:solidFill>
                <a:latin typeface="Arial"/>
              </a:rPr>
              <a:t>Processus de budgétisation- 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Opportunités- Défis et perspectives-Conclu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2560" y="500040"/>
            <a:ext cx="9001080" cy="827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épartition du budget du PNAN 2012-2015 (Suite)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ZoneTexte 27"/>
          <p:cNvSpPr/>
          <p:nvPr/>
        </p:nvSpPr>
        <p:spPr>
          <a:xfrm>
            <a:off x="0" y="1628640"/>
            <a:ext cx="4716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e46c0a"/>
                </a:solidFill>
                <a:latin typeface="Calibri"/>
              </a:rPr>
              <a:t>Coût des interventions directes en nutrition sur 4 ans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Le coût des interventions directes est de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$64 million, soit 50% du PNAN 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Chart 1" descr=""/>
          <p:cNvPicPr/>
          <p:nvPr/>
        </p:nvPicPr>
        <p:blipFill>
          <a:blip r:embed="rId1"/>
          <a:stretch/>
        </p:blipFill>
        <p:spPr>
          <a:xfrm>
            <a:off x="4559400" y="1616040"/>
            <a:ext cx="4603680" cy="1461960"/>
          </a:xfrm>
          <a:prstGeom prst="rect">
            <a:avLst/>
          </a:prstGeom>
          <a:ln w="0">
            <a:noFill/>
          </a:ln>
        </p:spPr>
      </p:pic>
      <p:sp>
        <p:nvSpPr>
          <p:cNvPr id="85" name="Connecteur droit 32"/>
          <p:cNvSpPr/>
          <p:nvPr/>
        </p:nvSpPr>
        <p:spPr>
          <a:xfrm>
            <a:off x="0" y="3068640"/>
            <a:ext cx="9144000" cy="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oneTexte 34"/>
          <p:cNvSpPr/>
          <p:nvPr/>
        </p:nvSpPr>
        <p:spPr>
          <a:xfrm>
            <a:off x="179280" y="3284640"/>
            <a:ext cx="4716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e46c0a"/>
                </a:solidFill>
                <a:latin typeface="Calibri"/>
              </a:rPr>
              <a:t>Coût des interventions sensibles sur 4 ans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Le coût des interventions sensibles est de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$38 million, soit 30% du PNAN II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Chart 12" descr=""/>
          <p:cNvPicPr/>
          <p:nvPr/>
        </p:nvPicPr>
        <p:blipFill>
          <a:blip r:embed="rId2"/>
          <a:stretch/>
        </p:blipFill>
        <p:spPr>
          <a:xfrm>
            <a:off x="4127400" y="3127320"/>
            <a:ext cx="5035680" cy="1609920"/>
          </a:xfrm>
          <a:prstGeom prst="rect">
            <a:avLst/>
          </a:prstGeom>
          <a:ln w="0">
            <a:noFill/>
          </a:ln>
        </p:spPr>
      </p:pic>
      <p:sp>
        <p:nvSpPr>
          <p:cNvPr id="88" name="Connecteur droit 36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ZoneTexte 37"/>
          <p:cNvSpPr/>
          <p:nvPr/>
        </p:nvSpPr>
        <p:spPr>
          <a:xfrm>
            <a:off x="250920" y="5013360"/>
            <a:ext cx="4716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e46c0a"/>
                </a:solidFill>
                <a:latin typeface="Calibri"/>
              </a:rPr>
              <a:t>Coût pour renforcer la gouvernance sur 4 ans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Renforcement de la Gouvernance pour assurer le suivi de mise en œuvre du PNAN I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Le coût des interventions sensibles est de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$25 million, soit 20% du PNAN II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Chart 13" descr=""/>
          <p:cNvPicPr/>
          <p:nvPr/>
        </p:nvPicPr>
        <p:blipFill>
          <a:blip r:embed="rId3"/>
          <a:stretch/>
        </p:blipFill>
        <p:spPr>
          <a:xfrm>
            <a:off x="4632480" y="4784760"/>
            <a:ext cx="4530600" cy="2085840"/>
          </a:xfrm>
          <a:prstGeom prst="rect">
            <a:avLst/>
          </a:prstGeom>
          <a:ln w="0">
            <a:noFill/>
          </a:ln>
        </p:spPr>
      </p:pic>
      <p:sp>
        <p:nvSpPr>
          <p:cNvPr id="91" name="ZoneTexte 10"/>
          <p:cNvSpPr/>
          <p:nvPr/>
        </p:nvSpPr>
        <p:spPr>
          <a:xfrm>
            <a:off x="142920" y="0"/>
            <a:ext cx="900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Contexte- </a:t>
            </a:r>
            <a:r>
              <a:rPr b="1" i="1" lang="fr-FR" sz="1400" spc="-1" strike="noStrike">
                <a:solidFill>
                  <a:srgbClr val="ff0000"/>
                </a:solidFill>
                <a:latin typeface="Arial"/>
              </a:rPr>
              <a:t>Processus de budgétisation- 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Opportunités- Défis et perspectives-Conclu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0" y="836280"/>
            <a:ext cx="8786880" cy="58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Reconnaissance nationale de la lutte contre la Malnutrition comme action prioritaire       (Service de nutrition au sein du MinSan, ONN, protocoles nationaux, pnn, divers plans)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Existence de plate-forme de partage d’informations à tous les niveaux 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isponibilité de structure Sanitaire et  existence d’un réseau communautaire =&gt; pour la meilleure couverture des activités de nutrition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Ancrage de l’Office National de Nutrition (ONN) au sein de la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PRIMATURE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our mieux faire la coordination multisectorielle et multi-acteurs et le suivi de la mise en œuvr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libri"/>
              </a:rPr>
              <a:t>L’implication de toutes les parties prenantes (Ministères Techniques, Système des Nations Unies, les OSC nationales et internationales, les secteurs privés et les donateurs et les académiciens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libri"/>
              </a:rPr>
              <a:t>L’alignement des actions sur les formules innovantes :  SUN (Scaling Up Nutrition) en nutrition spécifique et sensitiv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libri"/>
              </a:rPr>
              <a:t>Adhésion de Madagascar au mouvement SUN en Mars 2012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libri"/>
              </a:rPr>
              <a:t>Collaboration des Parties Prenantes avec le Ministère de la Santé  pour la réalisation des actions de 1000 jours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libri"/>
              </a:rPr>
              <a:t>Collaboration étroite avec tous les ministères sectoriels dans la cadre de la lutte contre la malnutrition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Opportunités 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oneTexte 4"/>
          <p:cNvSpPr/>
          <p:nvPr/>
        </p:nvSpPr>
        <p:spPr>
          <a:xfrm>
            <a:off x="142920" y="0"/>
            <a:ext cx="900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Contexte- Processus de budgétisation- </a:t>
            </a:r>
            <a:r>
              <a:rPr b="1" i="1" lang="fr-FR" sz="1400" spc="-1" strike="noStrike">
                <a:solidFill>
                  <a:srgbClr val="ff0000"/>
                </a:solidFill>
                <a:latin typeface="Arial"/>
              </a:rPr>
              <a:t>Opportunités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- Défis et perspectives-Conclu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8T16:24:17Z</dcterms:created>
  <dc:creator>ONN CN</dc:creator>
  <dc:description/>
  <dc:language>en-US</dc:language>
  <cp:lastModifiedBy>ONN CN</cp:lastModifiedBy>
  <dcterms:modified xsi:type="dcterms:W3CDTF">2013-05-10T15:46:47Z</dcterms:modified>
  <cp:revision>25</cp:revision>
  <dc:subject/>
  <dc:title>Diapositive 1</dc:title>
</cp:coreProperties>
</file>