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A51-8F4E-4130-AF64-54BACE2A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100-D619-4135-BA04-65E051AE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844-7B17-45C0-8353-A148A8F8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406-2A73-44F8-92A8-9E274398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D21-1BF1-42D7-A820-1BAC983A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DF1-BC06-4E91-B43A-29E356E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58F-A7F4-4DE4-ABBE-110840D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2E8-EAD8-435E-9153-4FC0DAFF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EEC-3DD2-4E27-BF2C-2389D035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807-3767-4772-8BA6-60194C5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9DB-D550-4AC9-BBE8-A3F75C6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F3F-8328-4FB0-8EE7-12B23E1D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B7E4-82D5-4958-990C-6ECD632F108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6EBC-2014-4629-896B-7FE7CA338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18900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7895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Francesca C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Mental health and care practices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Action contre la Faim -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440" y="944640"/>
            <a:ext cx="6126480" cy="450036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14"/>
          <p:cNvSpPr/>
          <p:nvPr/>
        </p:nvSpPr>
        <p:spPr>
          <a:xfrm>
            <a:off x="6127920" y="954000"/>
            <a:ext cx="324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Maternal and child care interventions with pregnant women to improve maternal wellbeing and chil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BD89-1C3F-4CA0-9E96-BB8512E5C24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0"/>
          <p:cNvSpPr/>
          <p:nvPr/>
        </p:nvSpPr>
        <p:spPr>
          <a:xfrm>
            <a:off x="216000" y="1252440"/>
            <a:ext cx="871200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CONCLUSION and FUTURE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utcomes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social interventions during pregnancy are promis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oth for maternal wellbeing and child nutrition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inatal psychosocial intervention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ow cost 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improving maternal and child health and wellb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ntal health and psychosocial interventions addressed to pregnant and lactating women should be always included i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000-days window of opportunity interven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nce they reduce the risk of child undernutrition and impact positively child survival, growt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ong research component s should be included, when possible, in psychosocial interventions to show evidences , to enrich the literature and share effective field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urther research studies are necessary to show long term program sustainability and to identify models of intervention effective, efficient and adaptable to other worl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98B3-3EB6-4E55-8D64-D372269DF3E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0"/>
          <p:cNvSpPr/>
          <p:nvPr/>
        </p:nvSpPr>
        <p:spPr>
          <a:xfrm>
            <a:off x="216000" y="1252440"/>
            <a:ext cx="871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DDC-EA59-42B5-B4BB-058572295C9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0"/>
          <p:cNvSpPr/>
          <p:nvPr/>
        </p:nvSpPr>
        <p:spPr>
          <a:xfrm>
            <a:off x="237960" y="1268280"/>
            <a:ext cx="87267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Maternal health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Improving maternal health is the fifth of the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8 Millenium Development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ternal health refers to the health of women during 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pregnancy, childbirth and the postpartum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ording WHO, poor maternal conditions account for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leading cause of death for women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prove maternal health should include measures to prevent and manage mental health problems during pregnancy and after childbirth (WHO, 2008)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ental health, cannot be separated from physical health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WHO, 200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ntal health problems like depression, anxiety and somatic complaints, have been identified as an importan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ublic health problem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o affect a women herself as well as her family ( Seyfried &amp; Marcus, 2003) and nutritional status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CAD-C791-46A2-813C-B56CA1F3244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0"/>
          <p:cNvSpPr/>
          <p:nvPr/>
        </p:nvSpPr>
        <p:spPr>
          <a:xfrm>
            <a:off x="250920" y="1268280"/>
            <a:ext cx="8713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Maternal wellbeing and child under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growing evidence of a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ink between maternal mental health problems and infant malnutrit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Surkan, Kennedy, Hurley, &amp; Black, 2011; Stewart,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Maternal depression  in limited ressources settings is linked to infant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LBW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, higher rates of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malnutrition 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and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stunting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, higher rates of diarrhoeal diseases…It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negatively impacts 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also cognitive, motor, emotional and relational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development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 (WHO, 2008), leading afterward to poor school performance and subsequent economic productivity (Grantham-McGregor et al.,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The care conceptual framework (Engle – UNICEF, 1997) clearly shows  that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child survival, growth and development  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directly depend by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caregiving behaviours 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(care for PLW, BF anc complementary feeding, psychosocial care, higiene practices, health behaviour, food preparation and storage practi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Caregiving behaviours are directly related to </a:t>
            </a:r>
            <a:r>
              <a:rPr b="1" lang="fr-FR" sz="1800" spc="-1" strike="noStrike">
                <a:solidFill>
                  <a:srgbClr val="404040"/>
                </a:solidFill>
                <a:latin typeface="Calibri"/>
              </a:rPr>
              <a:t>caretaker’s ressources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, including mental health, stress and self-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CEE1-990B-4CBD-8BA6-768219272D7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179280" y="1268280"/>
            <a:ext cx="8785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Maternal mental health, pregnancy and post-partum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erinatal perio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from pregnancy up to one-year post-partum is associated with a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levated ris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f developing common mental disorders or exacerbating existing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ntal health problems in wome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WHO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roximately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20 to 30 %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f women in developing countries suffer from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ental health problems during pregnancy or following childbirth.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These rates increase in emergency situations</a:t>
            </a: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igh rates have been reported for Ethiopia, Nigeria, South Africa, Senegal, Uganda and Zimbabwe (WHO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inatal specific risk factors include unwanted pregnancy, having ≥3 children, conflict with in-laws, role restrictions placed on pregnant and lactating women , the burden of child care , giving birth to a girl child, illiteracy, age of the mother, breastfeeding difficulties and health problems in the newborn (Fisher et al., 2012).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is assumed that up to 20% of women accessing primary healthcare have a diagnosable mental health problem but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ly a fraction of these are assessed and tre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d (WHO,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355-87E7-4E12-8CA8-E437FA4EF66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0"/>
          <p:cNvSpPr/>
          <p:nvPr/>
        </p:nvSpPr>
        <p:spPr>
          <a:xfrm>
            <a:off x="250920" y="1268280"/>
            <a:ext cx="885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Lack of studies on psychosocial interventions and their outcome on child under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though there is a clear link between maternal mental health problems and poorer child growth,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ew studies have tested interven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tackle both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cent meta-analysis done by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F in collaboration with UCL (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not published ye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entified only 7 published works describing interventions that worked with mothers to improve mental health and included assessment of impact on child growth outcomes (in Iran, Taiwan, India, Pakistan and South Afric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a lack of resources and studies showing and measuring evidences of the impact on child nutrition of psychosocial interventions addressed to pregnant and lactating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3B70-9558-49D5-96FC-E306AD4E5FE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0"/>
          <p:cNvSpPr/>
          <p:nvPr/>
        </p:nvSpPr>
        <p:spPr>
          <a:xfrm>
            <a:off x="250920" y="1268280"/>
            <a:ext cx="871380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ACF-MHCP and ICDDR,B - CDU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Evaluation of ACF Mental Health and Care Practices community-based prevention program in Kutupalong and Nayapara Refugee Camps of Cox’s Bazar – </a:t>
            </a:r>
            <a:r>
              <a:rPr b="0" i="1" lang="en-US" sz="1800" spc="-1" strike="noStrike">
                <a:solidFill>
                  <a:srgbClr val="00b0f0"/>
                </a:solidFill>
                <a:latin typeface="Calibri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f0"/>
                </a:solidFill>
                <a:latin typeface="Calibri"/>
              </a:rPr>
              <a:t>Dec 2011 – Jul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49000 children suffer of Global Acute Malnutrition  in the country ( GoB, IPHN, UNICEF, WFP, Bangladesh Household Food Security and Nutrition Assessment,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UNHCR camps: 16.5% 20.7%(ACF, Oct 2011); 9.5% 14.8 (HKI, May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UNHCR camps: 2.9% 6.2% (ACF, Oct 201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Calibri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groups for pregnant women (from 4th – 5th month of pregna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wice per month up to 6 months of child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oups of max 12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haring difficulties, experiences, knowledge and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ychosocial support to pregnancy, delivery, baby arrival and breastfeeding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llow up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SG are integrated to Group discussion sessions with hunbands and M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5A48-06B1-40F7-8761-D843176E606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0"/>
          <p:cNvSpPr/>
          <p:nvPr/>
        </p:nvSpPr>
        <p:spPr>
          <a:xfrm>
            <a:off x="250920" y="1268280"/>
            <a:ext cx="8713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ACF-MHCP and ICDDR,B - CDU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Calibri"/>
              </a:rPr>
              <a:t>OBJECTIVES of th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study aimed to evaluate the effects of the ongoing community-based prevention program (with a psychosocial approach)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ther well-being (psychological cond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ther’s knowledge on maternal and chil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hild nutrition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METHOD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mprehensive set of questionnaires were used to collect outcome mea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o-demograph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pression scale (CES-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lf-esteem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MSE (mini mental state ex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AP questionnaire assessment of caregiver’s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DFBB-40DE-4FA2-8EDC-A38E456E7FA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0"/>
          <p:cNvSpPr/>
          <p:nvPr/>
        </p:nvSpPr>
        <p:spPr>
          <a:xfrm>
            <a:off x="250920" y="1268280"/>
            <a:ext cx="871380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ACF-MHCP and ICDDR,B - CDU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Calibri"/>
              </a:rPr>
              <a:t>MAIN FINDINGS (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 both camps, mothers involved in the program show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gnificant impro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ir knowledge on maternal and child 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psychosocial wellbe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fter receiving the intervention package fo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x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ultiple comparison of duration intervention show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approac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roving maternal mental health status from 3 month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ndency of positive impact on child birth weights was encoura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nfortunately, the nutritional data have not been properly collected and this reduced the measure of the intervention’s impact on child nutrition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cond Research phase will be more focused on child nutritional status  and measure of outcomes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FE9-2F99-4003-B228-6FEA97DECD4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0"/>
          <p:cNvSpPr/>
          <p:nvPr/>
        </p:nvSpPr>
        <p:spPr>
          <a:xfrm>
            <a:off x="250920" y="1268280"/>
            <a:ext cx="87138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ACF-MHCP and ICDDR,B - CDU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Calibri"/>
              </a:rPr>
              <a:t>DISCUSSION and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CF MHCP Community-based Prevention Progra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gnificantly improved maternal mental health status and their self and child care related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t is promising tha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spite of various barriers and restri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e.g. underlying extreme poverty, hunger, lack of facilities…), the intervention made more than half a standard score improvement in almost all outcom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ever, due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 limita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study design the findings cannot be generalized and requires re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ery good research collaboration and engagem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OOD RESULTS for a LOW researc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7265880" y="50760"/>
            <a:ext cx="12384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dcterms:modified xsi:type="dcterms:W3CDTF">2013-05-13T17:31:26Z</dcterms:modified>
  <cp:revision>37</cp:revision>
  <dc:subject/>
  <dc:title>Diapositive 1</dc:title>
</cp:coreProperties>
</file>