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6858000" cy="9907588"/>
  <p:notesSz cx="6854825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4400" cy="966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2600" y="-360"/>
            <a:ext cx="2970360" cy="4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173320" y="725400"/>
            <a:ext cx="2509920" cy="36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440" y="4591080"/>
            <a:ext cx="548316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9180000"/>
            <a:ext cx="2970360" cy="48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2600" y="9180000"/>
            <a:ext cx="2970360" cy="48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CA89-9512-4362-B032-96C94DD74807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2960" y="9180360"/>
            <a:ext cx="29703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409D-582E-4B9C-B89E-811E209370DC}" type="slidenum">
              <a:rPr b="0" lang="fr-B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2173320" y="725400"/>
            <a:ext cx="2509920" cy="36244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440" y="4589640"/>
            <a:ext cx="54831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CC9D-6728-440E-AEDA-D79D2402E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422280"/>
            <a:ext cx="6172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751120"/>
            <a:ext cx="61722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855760"/>
            <a:ext cx="61722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C204-BA33-44DE-9954-836ACC1D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422280"/>
            <a:ext cx="6172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751120"/>
            <a:ext cx="30117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751120"/>
            <a:ext cx="30117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855760"/>
            <a:ext cx="30117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855760"/>
            <a:ext cx="30117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B53F-F260-473D-9EEC-F2D5E7A90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422280"/>
            <a:ext cx="6172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751120"/>
            <a:ext cx="19872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751120"/>
            <a:ext cx="19872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751120"/>
            <a:ext cx="19872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855760"/>
            <a:ext cx="19872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855760"/>
            <a:ext cx="19872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855760"/>
            <a:ext cx="19872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5945-4BAF-4BDD-9251-BBEBD79D5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4DB8AD-BBE1-427E-8AA9-DF13F740E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422280"/>
            <a:ext cx="6172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42720" y="2751120"/>
            <a:ext cx="617220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08478-A35C-4E5A-8F6D-6C6FB93F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422280"/>
            <a:ext cx="6172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2720" y="2751120"/>
            <a:ext cx="6172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05B6A-EF55-4F57-ACC3-341A0528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2720" y="422280"/>
            <a:ext cx="6172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2720" y="2751120"/>
            <a:ext cx="30117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505320" y="2751120"/>
            <a:ext cx="30117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DF243-0080-4361-A479-CA449DA3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422280"/>
            <a:ext cx="6172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143F0B-C0C3-40F5-BB0A-3232A527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42720" y="422280"/>
            <a:ext cx="6172200" cy="926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2BA8F-2C88-4268-AFDA-52D0866A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422280"/>
            <a:ext cx="6172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2751120"/>
            <a:ext cx="30117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05320" y="2751120"/>
            <a:ext cx="30117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42720" y="5855760"/>
            <a:ext cx="30117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6746F5-0C73-454F-A3E0-23024A91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422280"/>
            <a:ext cx="6172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751120"/>
            <a:ext cx="617220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0809-8996-4A61-A7D7-AEED117F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720" y="422280"/>
            <a:ext cx="6172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2720" y="2751120"/>
            <a:ext cx="30117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05320" y="2751120"/>
            <a:ext cx="30117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505320" y="5855760"/>
            <a:ext cx="30117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5042D-BA94-47C8-92D5-492D3917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422280"/>
            <a:ext cx="6172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2720" y="2751120"/>
            <a:ext cx="30117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05320" y="2751120"/>
            <a:ext cx="30117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42720" y="5855760"/>
            <a:ext cx="61722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E4128-1FAB-4457-942A-82A9D54C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422280"/>
            <a:ext cx="6172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751120"/>
            <a:ext cx="61722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42720" y="5855760"/>
            <a:ext cx="61722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975224-6FEF-45A8-AB69-D7420269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422280"/>
            <a:ext cx="6172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2720" y="2751120"/>
            <a:ext cx="30117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05320" y="2751120"/>
            <a:ext cx="30117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42720" y="5855760"/>
            <a:ext cx="30117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505320" y="5855760"/>
            <a:ext cx="30117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471C2-ABB1-4399-B958-BDD788E9A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2720" y="422280"/>
            <a:ext cx="6172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2720" y="2751120"/>
            <a:ext cx="19872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429640" y="2751120"/>
            <a:ext cx="19872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16560" y="2751120"/>
            <a:ext cx="19872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42720" y="5855760"/>
            <a:ext cx="19872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429640" y="5855760"/>
            <a:ext cx="19872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516560" y="5855760"/>
            <a:ext cx="19872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A50D3-E9A9-403F-B2F0-F8C395E08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422280"/>
            <a:ext cx="6172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751120"/>
            <a:ext cx="6172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4834-8BAF-4737-85A6-678A18CB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422280"/>
            <a:ext cx="6172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751120"/>
            <a:ext cx="30117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751120"/>
            <a:ext cx="30117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12F6-E972-4AF0-9297-8C8C1055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422280"/>
            <a:ext cx="6172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0DD4-06DD-4A2C-8F97-F3BF0A7A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422280"/>
            <a:ext cx="6172200" cy="926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DADF-711D-48D2-86A2-9E8F0388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422280"/>
            <a:ext cx="6172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751120"/>
            <a:ext cx="30117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751120"/>
            <a:ext cx="30117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855760"/>
            <a:ext cx="30117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7797-3715-4546-8C63-8557DD57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422280"/>
            <a:ext cx="6172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751120"/>
            <a:ext cx="30117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751120"/>
            <a:ext cx="30117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855760"/>
            <a:ext cx="30117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077A-B209-488F-9101-BBE30296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422280"/>
            <a:ext cx="6172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751120"/>
            <a:ext cx="30117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751120"/>
            <a:ext cx="30117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855760"/>
            <a:ext cx="61722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F047-9DDD-44D0-AF6D-F42E8BC2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422280"/>
            <a:ext cx="6172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751120"/>
            <a:ext cx="6172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79E0-6F99-4CC6-95E0-CAC958423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14200" y="4049640"/>
            <a:ext cx="1800" cy="4384800"/>
          </a:xfrm>
          <a:custGeom>
            <a:avLst/>
            <a:gdLst>
              <a:gd name="textAreaLeft" fmla="*/ 0 w 1800"/>
              <a:gd name="textAreaRight" fmla="*/ 2160 w 1800"/>
              <a:gd name="textAreaTop" fmla="*/ 0 h 4384800"/>
              <a:gd name="textAreaBottom" fmla="*/ 4385160 h 4384800"/>
            </a:gdLst>
            <a:ahLst/>
            <a:rect l="textAreaLeft" t="textAreaTop" r="textAreaRight" b="textAreaBottom"/>
            <a:pathLst>
              <a:path w="1587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422280"/>
            <a:ext cx="6172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42720" y="2751120"/>
            <a:ext cx="6172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7610-AA19-4535-9764-BF6526C36D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www.im-c.com/global/en/start/" TargetMode="External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hyperlink" Target="http://ec.europa.eu/index_en.htm" TargetMode="Externa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91920" y="2505240"/>
            <a:ext cx="5381640" cy="2241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sto MT"/>
                <a:ea typeface="Times New Roman"/>
              </a:rPr>
              <a:t>REGIONAL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sto MT"/>
                <a:ea typeface="Times New Roman"/>
              </a:rPr>
              <a:t>WATER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sto MT"/>
                <a:ea typeface="Times New Roman"/>
              </a:rPr>
              <a:t>WORKSHOP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33000" y="6105240"/>
            <a:ext cx="626436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Calisto MT"/>
              </a:rPr>
              <a:t>Astana, Kazakhstan, 13-16 October 201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404640" y="7184880"/>
            <a:ext cx="6120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Times New Roman"/>
              </a:rPr>
              <a:t>Presented by PPCM Support Tea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Times New Roman"/>
              </a:rPr>
              <a:t>From EuropeAi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e 8"/>
          <p:cNvGrpSpPr/>
          <p:nvPr/>
        </p:nvGrpSpPr>
        <p:grpSpPr>
          <a:xfrm>
            <a:off x="1093680" y="8881920"/>
            <a:ext cx="3924360" cy="463680"/>
            <a:chOff x="1093680" y="8881920"/>
            <a:chExt cx="3924360" cy="463680"/>
          </a:xfrm>
        </p:grpSpPr>
        <p:sp>
          <p:nvSpPr>
            <p:cNvPr id="94" name="Rectangle 4"/>
            <p:cNvSpPr/>
            <p:nvPr/>
          </p:nvSpPr>
          <p:spPr>
            <a:xfrm>
              <a:off x="1093680" y="8881920"/>
              <a:ext cx="76356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457200"/>
                  <a:tab algn="ctr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Garamond"/>
                  <a:ea typeface="Times New Roman"/>
                </a:rPr>
                <a:t>in association with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95" name="Picture 6" descr="home_right"/>
            <p:cNvPicPr/>
            <p:nvPr/>
          </p:nvPicPr>
          <p:blipFill>
            <a:blip r:embed="rId1"/>
            <a:srcRect l="75004" t="0" r="0" b="27980"/>
            <a:stretch/>
          </p:blipFill>
          <p:spPr>
            <a:xfrm>
              <a:off x="4428720" y="8953200"/>
              <a:ext cx="589320" cy="38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9" descr=""/>
            <p:cNvPicPr/>
            <p:nvPr/>
          </p:nvPicPr>
          <p:blipFill>
            <a:blip r:embed="rId2"/>
            <a:stretch/>
          </p:blipFill>
          <p:spPr>
            <a:xfrm>
              <a:off x="2357280" y="8953200"/>
              <a:ext cx="838080" cy="376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7" name="Picture 17" descr="http://www.duurzaamgebouwd.nl/upload/images/logo/ecorys_1_NZN2W9.jpg"/>
          <p:cNvPicPr/>
          <p:nvPr/>
        </p:nvPicPr>
        <p:blipFill>
          <a:blip r:embed="rId3"/>
          <a:stretch/>
        </p:blipFill>
        <p:spPr>
          <a:xfrm>
            <a:off x="5357880" y="8953560"/>
            <a:ext cx="914400" cy="406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9" descr="http://www.europeanevaluation.org/images/image/Comunity/Institutional%20members/Particip_GmbH.png"/>
          <p:cNvPicPr/>
          <p:nvPr/>
        </p:nvPicPr>
        <p:blipFill>
          <a:blip r:embed="rId4"/>
          <a:stretch/>
        </p:blipFill>
        <p:spPr>
          <a:xfrm>
            <a:off x="3429000" y="8953560"/>
            <a:ext cx="619200" cy="357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1" descr="Logo imc information multimedia communication AG, zurück zur Startseit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85960" y="8962920"/>
            <a:ext cx="328680" cy="376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3" descr="http://www.ori.be/content/assets/Leden/logo_ade.jpg"/>
          <p:cNvPicPr/>
          <p:nvPr/>
        </p:nvPicPr>
        <p:blipFill>
          <a:blip r:embed="rId7"/>
          <a:stretch/>
        </p:blipFill>
        <p:spPr>
          <a:xfrm>
            <a:off x="142920" y="8953560"/>
            <a:ext cx="963720" cy="357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7" descr="http://portal.eesc.europa.eu/rioplus20/events/PublishingImages/European%20Commission%20Logo%20fond%20blanc.pn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85840" y="166680"/>
            <a:ext cx="182880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1T12:06:22Z</dcterms:created>
  <dc:creator>PCM01</dc:creator>
  <dc:description/>
  <dc:language>en-US</dc:language>
  <cp:lastModifiedBy>Heloise</cp:lastModifiedBy>
  <dcterms:modified xsi:type="dcterms:W3CDTF">2014-09-26T14:23:33Z</dcterms:modified>
  <cp:revision>55</cp:revision>
  <dc:subject/>
  <dc:title>Managing  Budgetary  Aid and  EC  Support  to  Sector Programmes</dc:title>
</cp:coreProperties>
</file>