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8881-CEE2-47EC-B16D-DE5DF4FB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03A3-3388-4978-821E-8A8A7203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8C76-EC76-45F0-B888-B2948FAF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F558-52C6-4D72-A508-8C8FA629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BC9D-E519-47FC-8467-1D755F56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365B-915E-428C-8B2E-09192186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FEB6-3EDF-44B2-BA62-5DD273B4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FA82-23D8-4889-A007-409C5775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EA56-A5F3-4711-8262-21A7D333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466D-178C-4543-8B9B-5E772E40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541B-A85A-4670-9FA7-FABD8AEE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CB4-8EE9-4BFD-8D6A-A35512E8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6BFB-F023-4EDD-840A-6E0D9C7F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B61E-27AA-4E1F-89B0-161E9AE4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EE81-FFB4-4D66-943E-014E100D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F4E0-5B7E-4B9A-ACA1-04A09AEF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2244-EFB5-46BE-BE98-57E7D9A4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8646-9A8B-4039-93C5-FA70E142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3F4-9D0B-4994-92E2-413506AB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F86-7128-4C9C-A112-02AC0CAE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13E-791B-4403-BFF0-D3A2113B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FB0-7C98-4FCD-9408-EEDB6AD6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A6FF-3895-4E0B-99A8-83DC6EE6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91F-4BF7-451B-B7D4-9425D628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39BD-0B6C-46A5-B556-4D87A8888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846D-5CD5-4583-9508-6FDCE5EA3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OUP WOR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 of Naur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ter Resource Manag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1341360"/>
          <a:ext cx="8075520" cy="4732560"/>
        </p:xfrm>
        <a:graphic>
          <a:graphicData uri="http://schemas.openxmlformats.org/drawingml/2006/table">
            <a:tbl>
              <a:tblPr/>
              <a:tblGrid>
                <a:gridCol w="4038480"/>
                <a:gridCol w="4037040"/>
              </a:tblGrid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allen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p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storag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air leakage &amp; refurbish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or qualit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areness &amp; stand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 water supp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and resource b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sector resource management polic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policy &amp; standa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ctor Fin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1600200"/>
          <a:ext cx="8229600" cy="4100400"/>
        </p:xfrm>
        <a:graphic>
          <a:graphicData uri="http://schemas.openxmlformats.org/drawingml/2006/table">
            <a:tbl>
              <a:tblPr/>
              <a:tblGrid>
                <a:gridCol w="4116240"/>
                <a:gridCol w="4113360"/>
              </a:tblGrid>
              <a:tr h="74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allen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p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gmented donor assi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ion framework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ak budget reporting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ccounting for donor fund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nciliation &amp; reporting syste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ck of funding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SWAP to buy in donor’s assi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stitutional Capacit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57200" y="1600200"/>
          <a:ext cx="8229600" cy="4441680"/>
        </p:xfrm>
        <a:graphic>
          <a:graphicData uri="http://schemas.openxmlformats.org/drawingml/2006/table">
            <a:tbl>
              <a:tblPr/>
              <a:tblGrid>
                <a:gridCol w="4116240"/>
                <a:gridCol w="4113360"/>
              </a:tblGrid>
              <a:tr h="74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allen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p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ck of local expertise (management, policy, engineering, et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country/external training (of trainers et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ck of training opportunit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working &amp; coordinating training programs/opportunit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or coordin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blish Water Mgt Officer/Joint Committ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00:56:29Z</dcterms:created>
  <dc:creator>wilson</dc:creator>
  <dc:description/>
  <dc:language>en-US</dc:language>
  <cp:lastModifiedBy>wilson</cp:lastModifiedBy>
  <dcterms:modified xsi:type="dcterms:W3CDTF">2010-04-16T02:26:42Z</dcterms:modified>
  <cp:revision>6</cp:revision>
  <dc:subject/>
  <dc:title>GROUP WORK</dc:title>
</cp:coreProperties>
</file>