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AutoShape 1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0" y="0"/>
            <a:ext cx="6718320" cy="985680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6800"/>
              <a:gd name="textAreaBottom" fmla="*/ 9856440 h 9856800"/>
            </a:gdLst>
            <a:ahLst/>
            <a:rect l="textAreaLeft" t="textAreaTop" r="textAreaRight" b="textAreaBottom"/>
            <a:pathLst>
              <a:path w="21600" h="31690">
                <a:moveTo>
                  <a:pt x="5" y="0"/>
                </a:moveTo>
                <a:arcTo wR="5" hR="5" stAng="16200000" swAng="-5400000"/>
                <a:lnTo>
                  <a:pt x="0" y="31685"/>
                </a:lnTo>
                <a:arcTo wR="5" hR="5" stAng="10800000" swAng="-5400000"/>
                <a:lnTo>
                  <a:pt x="21595" y="316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0"/>
            <a:ext cx="2911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805200" y="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17960" cy="36878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04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0" y="9360000"/>
            <a:ext cx="2911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68FC5-C655-4705-929E-FF80F36C4295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13C0D-DF9B-4FED-8C30-B0EF3A511E3E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BAF16-E0B0-4D2F-BF39-8F07366133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6241C-124D-4A7B-BA49-EB04917526D8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Blending turns red lights to gree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The EU grant has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fundamental added valu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: without the EU grant a project would not have seen the day at all, only at a later stage or at an unsustainable cost for the partner country, or the project reaches more beneficiaries that otherwise would have been exclu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Blending also promotes use of international standards and financing partners have to reach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U's environmental and social standards as well as assure transparent and fair tender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1F369-DBB1-4878-9FB5-45D00635492A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The EU grant can be use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n different forms such as direct investment, interest rate subsidy, technical assistance, risk capital or guarante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. Each project will have specific needs, also taking into account the financing capacity of partner countries and taking into account debt sustainabil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2C956-F3DC-43A6-9BD8-FFEE16EB3D9F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9D105-42C2-4D16-BD11-8CBDD5FC0363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9858E-E1D1-475E-8654-5C7BAA704F12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BC1C9-A47D-47A1-BD54-B4E44BCB3958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28F63-43CA-48FF-9DD9-01190B50661C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0CEAB-066E-4A6B-8F4D-FEAE98001002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2E50C-84A9-4939-9DC3-5701C508C08B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CC02E-952C-48E5-B2C5-6E92C88E8088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99302-7A1B-46DB-857F-5EDF81A0B2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7859E-B19D-47A3-B9ED-9934299BC81E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9985C-227A-4785-A9FE-F26E00A7D1D0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BFBD4-A5A7-40B7-85F2-B464BD326301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23DB5-9DB6-4CE5-A60D-C70D38B753C3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EDC89-17F8-4C1F-9C87-F732861B9472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3805200" y="936000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2F093-FB8F-414C-A5BD-B953C430C3CE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22640" cy="3692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The EU cooperates with many different financing partners such as European public finance institutions, regional and international development banks and private financiers. In doing so, it encourage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onor and lender coordin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and enhances policy coherence and aid effectiven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17B2-3637-41E7-98A0-DE21A5276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822492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333320"/>
            <a:ext cx="822492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0BE5-038A-4CB0-92B9-337CA5ADB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72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CC84-F5AA-4566-9B8C-5A967BEFA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840" y="249228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8840" y="249228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33332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840" y="433332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8840" y="433332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F95E-D512-4A35-98C9-E569B5C6A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B8CDC-B916-4E10-A4FC-D228C09704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2492280"/>
            <a:ext cx="822492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6BF16-9BAF-44D2-A85B-E1725A5B59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822492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D53F-A82F-448A-94B7-EF1035A4F9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8ED52-E886-4816-8939-5047116CFB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43FE1-756E-4E08-939A-E1CF077628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4920" y="1339920"/>
            <a:ext cx="822492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7AD4A-914A-429D-8476-CA545AAB53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7D75C-AAAE-4645-A707-BE44B120A7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492280"/>
            <a:ext cx="822492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1525-C286-464B-9077-26645EB6B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172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D13AA-C308-431B-BB38-2EA8E8ED76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333320"/>
            <a:ext cx="822492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18AFA-56A9-4DBC-BBD4-AC80ABE2A4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822492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333320"/>
            <a:ext cx="822492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4DD29-EAB3-4DA7-8BC8-708F367E51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172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6B59C-CC42-4E45-B7DB-BD9F995E11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7840" y="249228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8840" y="249228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33332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7840" y="433332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8840" y="4333320"/>
            <a:ext cx="264816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A1D57-1881-41A1-8F52-FB138BB990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822492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82EB-F683-4394-9A59-5B89378E1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5C8F-85CA-45BF-A3BF-7D772320D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837C5-4856-4C0B-88F1-45527822C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4920" y="1339920"/>
            <a:ext cx="822492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DE13-C87A-4613-91DE-BC4788AF1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C7C7-5015-4212-B2C8-59F32A1DA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720" y="433332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D3B2-0FCD-42F5-BD07-4D72303E2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2492280"/>
            <a:ext cx="401364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333320"/>
            <a:ext cx="822492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F9E0-9FDA-416E-BFE0-CC3AAB942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492280"/>
            <a:ext cx="822492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f549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A1AC3-8C74-491F-B896-1BA5308CF69F}" type="slidenum">
              <a:rPr b="0" lang="en-GB" sz="2400" spc="-1" strike="noStrike">
                <a:solidFill>
                  <a:srgbClr val="0f549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" name="Picture 8" descr="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cap="sq"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2492280"/>
            <a:ext cx="822492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F815F17-848D-4692-9D2E-28C2C6BB00D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31640" y="1052640"/>
            <a:ext cx="871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lnSpc>
                <a:spcPct val="100000"/>
              </a:lnSpc>
              <a:tabLst>
                <a:tab algn="l" pos="0"/>
                <a:tab algn="l" pos="3240"/>
                <a:tab algn="l" pos="4507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1" i="1" lang="fr-BE" sz="4800" spc="-1" strike="noStrike">
                <a:solidFill>
                  <a:srgbClr val="ffd624"/>
                </a:solidFill>
                <a:latin typeface="Arial"/>
                <a:ea typeface="Arial"/>
              </a:rPr>
              <a:t>"Blending" in the Pacific</a:t>
            </a:r>
            <a:br>
              <a:rPr sz="24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11280" y="4724280"/>
            <a:ext cx="8532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  <a:ea typeface="Arial"/>
              </a:rPr>
              <a:t>Ioannis-Pavlos Evangelidi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  <a:ea typeface="Arial"/>
              </a:rPr>
              <a:t>EU Delegation for the Pacific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  <a:ea typeface="Arial"/>
              </a:rPr>
              <a:t>14 April 2014, EU Seminar, Nadi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Line 1"/>
          <p:cNvSpPr/>
          <p:nvPr/>
        </p:nvSpPr>
        <p:spPr>
          <a:xfrm flipV="1">
            <a:off x="3276720" y="1618920"/>
            <a:ext cx="144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2"/>
          <p:cNvSpPr/>
          <p:nvPr/>
        </p:nvSpPr>
        <p:spPr>
          <a:xfrm flipH="1" rot="10800000">
            <a:off x="5794920" y="2876040"/>
            <a:ext cx="957240" cy="274680"/>
          </a:xfrm>
          <a:prstGeom prst="rightArrow">
            <a:avLst>
              <a:gd name="adj1" fmla="val 50000"/>
              <a:gd name="adj2" fmla="val 50176"/>
            </a:avLst>
          </a:prstGeom>
          <a:solidFill>
            <a:srgbClr val="00b05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6875640" y="2124000"/>
            <a:ext cx="1590480" cy="1739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4078440" y="2124000"/>
            <a:ext cx="1573200" cy="17398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34920" y="2448000"/>
            <a:ext cx="29545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EU regional blending facilit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95200" y="4222800"/>
            <a:ext cx="2692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Turning red light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to gre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754440" y="4510080"/>
            <a:ext cx="504036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ressing risks, ensuring project financial sustainability, ensuring social and environmental returns, addressing capacity issu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 flipV="1">
            <a:off x="3708360" y="1552320"/>
            <a:ext cx="180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4140360" y="1557360"/>
            <a:ext cx="482436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irect investment grant and interest rate subsid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echnical assistance and investment preparat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isk capita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Guarantee mechanism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ther innovative financial too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8000" y="4006800"/>
            <a:ext cx="3311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fferent type of support to address different issu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24000" y="2139840"/>
            <a:ext cx="30956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EU regional blending facilit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1"/>
          <p:cNvSpPr/>
          <p:nvPr/>
        </p:nvSpPr>
        <p:spPr>
          <a:xfrm flipV="1">
            <a:off x="3780000" y="1552320"/>
            <a:ext cx="144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108000" y="2641680"/>
            <a:ext cx="33861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3600" spc="-1" strike="noStrike">
                <a:solidFill>
                  <a:srgbClr val="ffd624"/>
                </a:solidFill>
                <a:latin typeface="Arial"/>
                <a:ea typeface="Arial"/>
              </a:rPr>
              <a:t>IFP PROJECTS SUBMISSION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3600" spc="-1" strike="noStrike">
                <a:solidFill>
                  <a:srgbClr val="3c8c93"/>
                </a:solidFill>
                <a:latin typeface="Arial"/>
                <a:ea typeface="Arial"/>
              </a:rPr>
              <a:t>Who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4356000" y="1628640"/>
            <a:ext cx="41036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Eligible Finance Institutions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submit project proposals as Lead Financier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Multilateral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European Financ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nstitution (e.g. EIB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European public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national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velopment financ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nstitutions from Member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tates (e.g. AFD, KfW, …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acific Region Infrastructure Facility (PRIF) member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can participate in consortia with Eligible Finance Institution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sian Development Bank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articipates in IFP meetings as observ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68360" y="4335480"/>
            <a:ext cx="2979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3494160" y="2355840"/>
            <a:ext cx="792000" cy="285840"/>
          </a:xfrm>
          <a:prstGeom prst="rightArrow">
            <a:avLst>
              <a:gd name="adj1" fmla="val 50000"/>
              <a:gd name="adj2" fmla="val 69270"/>
            </a:avLst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1"/>
          <p:cNvSpPr/>
          <p:nvPr/>
        </p:nvSpPr>
        <p:spPr>
          <a:xfrm flipV="1">
            <a:off x="3635280" y="1552320"/>
            <a:ext cx="180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108000" y="2641680"/>
            <a:ext cx="33861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Blending is a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EU aid modalit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68360" y="4437000"/>
            <a:ext cx="2979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must adhere to the same principles as other aid modali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922560" y="1185840"/>
            <a:ext cx="482616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Arial"/>
              </a:rPr>
              <a:t>Any project will meet the following condition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</a:rPr>
              <a:t>Project is 100% in line with agreed policy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</a:rPr>
              <a:t>Environmental &amp; social standards are m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</a:rPr>
              <a:t>Preservation of macro-economic stabil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</a:rPr>
              <a:t>Market distortions are avoi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</a:rPr>
              <a:t>Additionality of grant element (ensuring viability, delivering for the poor, improved qualit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198440" indent="-45396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468360" y="1341360"/>
            <a:ext cx="838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4240">
              <a:tabLst>
                <a:tab algn="l" pos="0"/>
                <a:tab algn="l" pos="35892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vestment Facility for the Pacific</a:t>
            </a:r>
            <a:br>
              <a:rPr sz="3000"/>
            </a:br>
            <a:r>
              <a:rPr b="1" lang="en-GB" sz="2000" spc="-1" strike="noStrike">
                <a:solidFill>
                  <a:srgbClr val="ffd624"/>
                </a:solidFill>
                <a:latin typeface="Verdana"/>
              </a:rPr>
              <a:t>IFP grant funding for 2013: €10 mill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12840" y="2924280"/>
            <a:ext cx="145080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 algn="just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50920" y="2924280"/>
            <a:ext cx="194760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Cook Islan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Fiji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Kiribati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Marshall Islan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Micronesi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Naur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Niu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4824360" cy="3520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360" y="14400"/>
            <a:ext cx="770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347760"/>
          <a:ext cx="9148680" cy="403200"/>
        </p:xfrm>
        <a:graphic>
          <a:graphicData uri="http://schemas.openxmlformats.org/drawingml/2006/table">
            <a:tbl>
              <a:tblPr/>
              <a:tblGrid>
                <a:gridCol w="914868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Rectangle 8"/>
          <p:cNvSpPr/>
          <p:nvPr/>
        </p:nvSpPr>
        <p:spPr>
          <a:xfrm>
            <a:off x="360" y="14400"/>
            <a:ext cx="770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7267680" y="2924280"/>
            <a:ext cx="186516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Pala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Papua New Guine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Samo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Solomon Islan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Tong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Timor Lest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Tuval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ts val="2775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MS PGothic"/>
              </a:rPr>
              <a:t>Vanuat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Line 1"/>
          <p:cNvSpPr/>
          <p:nvPr/>
        </p:nvSpPr>
        <p:spPr>
          <a:xfrm flipV="1">
            <a:off x="3708360" y="1552320"/>
            <a:ext cx="180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3851280" y="1341360"/>
            <a:ext cx="5113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reated in 201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Grant Funds available in 2013: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€10 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Three project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ave received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provisional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approval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iji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– technical assistance(framework for the energy sector)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Samoa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– investment grant (Faleolo Airport Safety improvements)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Timor Leste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- technical assistance framework in the infrastructure and/or financial sect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f5494"/>
                </a:solidFill>
                <a:latin typeface="Verdana"/>
              </a:rPr>
              <a:t>11th EDF Financial framework </a:t>
            </a: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under discussion (indicative amount of </a:t>
            </a:r>
            <a:r>
              <a:rPr b="1" lang="fr-FR" sz="1800" spc="-1" strike="noStrike">
                <a:solidFill>
                  <a:srgbClr val="0f5494"/>
                </a:solidFill>
                <a:latin typeface="Verdana"/>
              </a:rPr>
              <a:t>€46 m </a:t>
            </a: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for the EU-Pacific Investment </a:t>
            </a:r>
            <a:r>
              <a:rPr b="1" lang="fr-FR" sz="1800" spc="-1" strike="noStrike">
                <a:solidFill>
                  <a:srgbClr val="3c8c93"/>
                </a:solidFill>
                <a:latin typeface="Verdana"/>
              </a:rPr>
              <a:t>Programme</a:t>
            </a: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08000" y="4006800"/>
            <a:ext cx="3311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tate of Pl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324000" y="2139840"/>
            <a:ext cx="30956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Investment Facility in Pacific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1"/>
          <p:cNvSpPr/>
          <p:nvPr/>
        </p:nvSpPr>
        <p:spPr>
          <a:xfrm flipV="1">
            <a:off x="3780000" y="1552320"/>
            <a:ext cx="144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08000" y="2492280"/>
            <a:ext cx="33861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uture of blending operations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995640" y="1341360"/>
            <a:ext cx="4176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Arial"/>
              </a:rPr>
              <a:t>Increased involvement of regional financial institu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Arial"/>
              </a:rPr>
              <a:t>Catalyse private financing, FDI or domestic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Arial"/>
              </a:rPr>
              <a:t>Explore innovative risk sharing mechanisms (structured funds, guarantee mechanism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0f5494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Arial"/>
              </a:rPr>
              <a:t>Expand partnerships and cooper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514440" y="4076640"/>
            <a:ext cx="2979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urther exploit the potent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3360" y="1628280"/>
            <a:ext cx="82249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hank you for your atten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6" name="Picture 4" descr="http://www.newcorpfinancial.com/images/financial-leverage.jpg"/>
          <p:cNvPicPr/>
          <p:nvPr/>
        </p:nvPicPr>
        <p:blipFill>
          <a:blip r:embed="rId1"/>
          <a:stretch/>
        </p:blipFill>
        <p:spPr>
          <a:xfrm>
            <a:off x="2411280" y="2924280"/>
            <a:ext cx="424836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1"/>
          <p:cNvSpPr/>
          <p:nvPr/>
        </p:nvSpPr>
        <p:spPr>
          <a:xfrm flipV="1">
            <a:off x="3708360" y="1552320"/>
            <a:ext cx="180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4140360" y="1413000"/>
            <a:ext cx="48243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8040" indent="-338040">
              <a:buClr>
                <a:srgbClr val="0f5494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lending window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Grant/Loa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roposals as in the present Facility (IFP), open to all P-ACP count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buClr>
                <a:srgbClr val="0f5494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pecific window,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pen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Grant/Grant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roposal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95240" indent="-3380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Microsoft YaHei"/>
              </a:rPr>
              <a:t>Ensuring access to investment funds for LDC-SIDS which cannot take loans (e.g. because of debt stres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95240" indent="-3380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Microsoft YaHei"/>
              </a:rPr>
              <a:t>Access/eligibility criteria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95240" indent="-3380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Microsoft YaHei"/>
              </a:rPr>
              <a:t>Priorities/selection criteria: minimum financing threshold, financing leverage, regional focal sectors and complementar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95240" indent="-3380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  <a:ea typeface="Microsoft YaHei"/>
              </a:rPr>
              <a:t>Example: ACSE Catalytic Compon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Aft>
                <a:spcPts val="1199"/>
              </a:spcAft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03320" y="4365720"/>
            <a:ext cx="3311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Leveraging investments   through the Regional Fu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324000" y="2139840"/>
            <a:ext cx="30956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EU Investment </a:t>
            </a:r>
            <a:r>
              <a:rPr b="1" lang="en-US" sz="3600" spc="-1" strike="noStrike">
                <a:solidFill>
                  <a:srgbClr val="3c8c93"/>
                </a:solidFill>
                <a:latin typeface="Arial"/>
              </a:rPr>
              <a:t>Program </a:t>
            </a: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in Pacific </a:t>
            </a:r>
            <a:r>
              <a:rPr b="1" lang="en-US" sz="3600" spc="-1" strike="noStrike">
                <a:solidFill>
                  <a:srgbClr val="3c8c93"/>
                </a:solidFill>
                <a:latin typeface="Arial"/>
              </a:rPr>
              <a:t>(IPP)</a:t>
            </a: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1339560"/>
            <a:ext cx="8224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Grant/grant financing: eligibilit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TextBox 7"/>
          <p:cNvSpPr/>
          <p:nvPr/>
        </p:nvSpPr>
        <p:spPr>
          <a:xfrm>
            <a:off x="684360" y="2133720"/>
            <a:ext cx="763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Aim: avoid crowding out non-grant financi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EcoFin criteria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LDC/ highly vulnerable count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Countries with low fiscal space or high debt stre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Very small market count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Projects with low or unclear financial benefits but clearly demonstrable economic, environmental or social benefi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Other criteria</a:t>
            </a: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Projects of particularly high risk that needs mitig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Project regiona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Compliance to the regional focal secto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Minimum financing threshol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4240"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c000"/>
                </a:solidFill>
                <a:latin typeface="Verdana"/>
              </a:rPr>
              <a:t>Blending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468360" y="2349360"/>
            <a:ext cx="822960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U Grants leveraging other resources into a single pack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403EC-59BE-4116-81DE-3F5368691B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658800" y="3357720"/>
            <a:ext cx="7556400" cy="2658960"/>
            <a:chOff x="658800" y="3357720"/>
            <a:chExt cx="7556400" cy="2658960"/>
          </a:xfrm>
        </p:grpSpPr>
        <p:sp>
          <p:nvSpPr>
            <p:cNvPr id="104" name="Oval 5"/>
            <p:cNvSpPr/>
            <p:nvPr/>
          </p:nvSpPr>
          <p:spPr>
            <a:xfrm>
              <a:off x="787320" y="3996720"/>
              <a:ext cx="2543400" cy="14263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uropean Union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Grants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3377520" y="3966480"/>
              <a:ext cx="2121840" cy="14263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Financial 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stitutions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 </a:t>
              </a:r>
              <a:r>
                <a:rPr b="0" lang="fr-BE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ressources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5545080" y="4146120"/>
              <a:ext cx="2543400" cy="99468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other resources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" name="Oval 8"/>
            <p:cNvSpPr/>
            <p:nvPr/>
          </p:nvSpPr>
          <p:spPr>
            <a:xfrm>
              <a:off x="658800" y="3357720"/>
              <a:ext cx="7556400" cy="2658960"/>
            </a:xfrm>
            <a:prstGeom prst="ellipse">
              <a:avLst/>
            </a:prstGeom>
            <a:noFill/>
            <a:ln cap="sq" w="5076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82249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Grant/grant financ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39640" y="245916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Priorities/selection criteria:</a:t>
            </a: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Financial lever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Complementarity to national focal sectors/strateg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Other classic project appraisal crite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Other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2" descr="http://www.mmbgims.com/Images/Selection%20Criteria.png"/>
          <p:cNvPicPr/>
          <p:nvPr/>
        </p:nvPicPr>
        <p:blipFill>
          <a:blip r:embed="rId1"/>
          <a:stretch/>
        </p:blipFill>
        <p:spPr>
          <a:xfrm>
            <a:off x="3062160" y="4005360"/>
            <a:ext cx="28767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8440" y="1125360"/>
            <a:ext cx="8223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Questions to answer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684360" y="177336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How much from the EUR 46m into the IFP and how much into the IPP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Split the IPP into allocated fixed envelopes for grant/loan or grant/grant financing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How to measure fiscal space or stress debt? IMF/WB definitions? U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Who is eligible to co-finance under IPP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Limit sectors to the regional focal areas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(i) sustainable management of natural resources, more specifically marine resources and waste manag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(ii) regional economic integration proje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  <a:ea typeface="Microsoft YaHei"/>
              </a:rPr>
              <a:t>Other question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360" y="1628280"/>
            <a:ext cx="822492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hank you for your atten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9" name="Picture 4" descr="http://www.newcorpfinancial.com/images/financial-leverage.jpg"/>
          <p:cNvPicPr/>
          <p:nvPr/>
        </p:nvPicPr>
        <p:blipFill>
          <a:blip r:embed="rId1"/>
          <a:stretch/>
        </p:blipFill>
        <p:spPr>
          <a:xfrm>
            <a:off x="2411280" y="2924280"/>
            <a:ext cx="424836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-11160" y="1268280"/>
            <a:ext cx="9144000" cy="54230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73F48-8BE2-4EF6-ACD6-EEB06B824F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1"/>
          <p:cNvSpPr/>
          <p:nvPr/>
        </p:nvSpPr>
        <p:spPr>
          <a:xfrm flipV="1">
            <a:off x="3780000" y="1574640"/>
            <a:ext cx="1440" cy="462312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92040" y="2641680"/>
            <a:ext cx="31021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  <a:ea typeface="Arial"/>
              </a:rPr>
              <a:t>RELEVANT SECTORS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  <a:ea typeface="Arial"/>
              </a:rPr>
              <a:t>for the EU regional blending facilit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03C61-359B-4ADB-BD2C-AA32429CDF1E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895560" y="1341360"/>
            <a:ext cx="5083200" cy="51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1"/>
          <p:cNvSpPr/>
          <p:nvPr/>
        </p:nvSpPr>
        <p:spPr>
          <a:xfrm flipV="1">
            <a:off x="3780000" y="1574640"/>
            <a:ext cx="1440" cy="462312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92040" y="2641680"/>
            <a:ext cx="31021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  <a:ea typeface="Arial"/>
              </a:rPr>
              <a:t>RELEVANT SECTORS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  <a:ea typeface="Arial"/>
              </a:rPr>
              <a:t>for the EU regional blending faciliti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E8920-8247-469A-9D33-38571AC2022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3786120" y="1341360"/>
            <a:ext cx="5072040" cy="48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 flipV="1">
            <a:off x="3780000" y="1552320"/>
            <a:ext cx="144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392040" y="2641680"/>
            <a:ext cx="31021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d624"/>
                </a:solidFill>
                <a:latin typeface="Arial"/>
                <a:ea typeface="MS PGothic"/>
              </a:rPr>
              <a:t>CLIMATE CHAN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68360" y="3933720"/>
            <a:ext cx="29797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  <a:ea typeface="MS PGothic"/>
              </a:rPr>
              <a:t>Cross cutting sector in the blending facili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067280" y="1700280"/>
            <a:ext cx="46800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Arial"/>
                <a:ea typeface="MS PGothic"/>
              </a:rPr>
              <a:t>CLIMATE CHANGE WINDOWS</a:t>
            </a:r>
            <a:r>
              <a:rPr b="0" lang="en-GB" sz="1600" spc="-1" strike="noStrike">
                <a:solidFill>
                  <a:srgbClr val="0f5494"/>
                </a:solidFill>
                <a:latin typeface="Arial"/>
                <a:ea typeface="MS PGothic"/>
              </a:rPr>
              <a:t> were announced in November 2010. They allow transparent tracking of climate change related projects in the EU regional blending facilities.  Contributions to climate change are tracked according to Rio markers - an internationally agreed system for tracking aid contributions with climate objectiv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092480" y="3863880"/>
            <a:ext cx="465480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Arial"/>
                <a:ea typeface="MS PGothic"/>
              </a:rPr>
              <a:t>More than €600 million in grants committed under the  EU regional blending facilities is counted as supporting climate change action (over 40% of all commitment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Arial"/>
                <a:ea typeface="MS PGothic"/>
              </a:rPr>
              <a:t>Additional €17 million from the ENRTP to the Neighbourhood and Latin America Investment Facilitie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08155-8CAC-45D4-B7F1-C7F1CBA306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1"/>
          <p:cNvSpPr/>
          <p:nvPr/>
        </p:nvSpPr>
        <p:spPr>
          <a:xfrm flipV="1">
            <a:off x="3780000" y="1552320"/>
            <a:ext cx="144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92040" y="2641680"/>
            <a:ext cx="31021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d624"/>
                </a:solidFill>
                <a:latin typeface="Arial"/>
                <a:ea typeface="MS PGothic"/>
              </a:rPr>
              <a:t>SECTORS COVER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12640" y="4119480"/>
            <a:ext cx="29797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  <a:ea typeface="MS PGothic"/>
              </a:rPr>
              <a:t>Cumulative Figur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  <a:ea typeface="MS PGothic"/>
              </a:rPr>
              <a:t>since incept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Arial"/>
                <a:ea typeface="MS PGothic"/>
              </a:rPr>
              <a:t>for all facili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3995640" y="1917720"/>
            <a:ext cx="4630680" cy="3892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A80C4-2955-445A-A4E3-16BFEEDD65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3995640" y="1917720"/>
            <a:ext cx="4613400" cy="38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1"/>
          <p:cNvSpPr/>
          <p:nvPr/>
        </p:nvSpPr>
        <p:spPr>
          <a:xfrm flipV="1">
            <a:off x="3564000" y="1552320"/>
            <a:ext cx="144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3480" y="2641680"/>
            <a:ext cx="33861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  <a:ea typeface="Arial"/>
              </a:rPr>
              <a:t>Objectives of Blending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Arial"/>
              </a:rPr>
              <a:t>Leverag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708360" y="1989000"/>
            <a:ext cx="511164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FINANCIAL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mobilize public and private resources for enhanced development impac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NON-FINANCIAL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mprove project sustainability quality and spee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OLICY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upport reforms in line with EU polici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Verdana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ID EFFECTIVENESS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mprove cooperation between European and non-European aid actors (donors and financial institution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buClr>
                <a:srgbClr val="0f5494"/>
              </a:buClr>
              <a:buFont typeface="Verdan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"/>
          <p:cNvSpPr/>
          <p:nvPr/>
        </p:nvSpPr>
        <p:spPr>
          <a:xfrm flipV="1">
            <a:off x="3780000" y="1552320"/>
            <a:ext cx="1440" cy="4622760"/>
          </a:xfrm>
          <a:prstGeom prst="line">
            <a:avLst/>
          </a:prstGeom>
          <a:ln cap="rnd" w="25560">
            <a:solidFill>
              <a:srgbClr val="0f54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4920" y="2448000"/>
            <a:ext cx="33861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d624"/>
                </a:solidFill>
                <a:latin typeface="Arial"/>
              </a:rPr>
              <a:t>EU regional blending facili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4294080"/>
            <a:ext cx="3124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inding the right financing mix to enable sustainable projec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067280" y="1700280"/>
            <a:ext cx="4680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F88F2-B4E0-48E0-9CF3-0F982A18E2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643280" y="1700280"/>
          <a:ext cx="3821400" cy="4321080"/>
        </p:xfrm>
        <a:graphic>
          <a:graphicData uri="http://schemas.openxmlformats.org/drawingml/2006/table">
            <a:tbl>
              <a:tblPr/>
              <a:tblGrid>
                <a:gridCol w="3821400"/>
              </a:tblGrid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Development projec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financing mi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24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Own funds (partner country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24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Private financi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24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Non-European Public finance institu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24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European Public finance institu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24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Grants from other dono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24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n-GB" sz="1400" spc="-1" strike="noStrike">
                          <a:solidFill>
                            <a:srgbClr val="2d5ec1"/>
                          </a:solidFill>
                          <a:latin typeface="Verdana"/>
                        </a:rPr>
                        <a:t>EU grant resourc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24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GC &amp; PEFA Secretariat</dc:creator>
  <dc:description/>
  <cp:keywords>PEFA Workshop-Brussels</cp:keywords>
  <dc:language>en-US</dc:language>
  <cp:lastModifiedBy>Pavlos</cp:lastModifiedBy>
  <cp:lastPrinted>2014-02-20T16:12:18Z</cp:lastPrinted>
  <dcterms:modified xsi:type="dcterms:W3CDTF">2014-05-13T23:34:04Z</dcterms:modified>
  <cp:revision>497</cp:revision>
  <dc:subject/>
  <dc:title>Slide 1</dc:title>
</cp:coreProperties>
</file>