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D25-C31C-4B9F-A93E-E7BD4BBD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EE5-33B0-43FF-A33B-2BFAEBD9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99743-1191-431C-BFCC-CD3FE551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45CB2-43BD-4B8F-A169-636B3236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CA2F5-36D8-4695-A606-B954A989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7E7C8-F2B3-4EA8-8E67-56B031EB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1D493-58AF-499C-B0AB-5A1D4115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350C6-7AD0-4CF6-B7FF-6A0E0B5F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DBFB8-9396-427F-A974-B1BAF45F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765C8-ECEE-4D31-9D3E-2AE7E274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CAC42-14DA-4B76-B043-7067E237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27298-F46B-49D9-9719-D59DA83E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43B-F351-4A9C-885F-3363D715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A453A-1C7D-43CC-A80F-D6D7E333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BB7F9-DB31-4B17-97E3-D6B210A4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49500-18DF-4567-9C90-AE084DFC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48EBA-4115-466D-B5C9-DE5B4B2A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FF15A-ECC1-4F24-B8C9-EBC99521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F837A-EF94-479D-AC30-527488A2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972A0-ABDD-4CA7-9327-379DB813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FEAD0-CE42-4967-8B30-D43361BB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263E6-DBB3-45D8-B899-C5D1A8A0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CD701-962F-4266-B4CF-2057DCFE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4E8-DBAA-4543-AC7D-7B7E5680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F71C8-7697-4C5D-BB43-5C495F49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68AA4-6F02-4820-95D0-1A864C36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C2BCD-9AED-4C50-9993-1AE66342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3E9CA-3DD8-4C6F-BA87-D1398CD9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B498F-40F8-45A4-BE62-D9DE87B6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F34B8-3C34-4D3A-B46C-66562DB3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04F6B-7473-4D44-B60E-E82BCB7C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E8B71-91EB-47A4-93B6-BC228AA2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7575A-D30A-422B-A18B-2D95A8AE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0628A-6F93-428D-9D1A-0C0CFD90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D862-5BA1-472F-A12C-8577507C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D7DC2-9FF9-4794-8807-2781C51B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887EF-9C0F-49B8-A4EF-E9AB8AE4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44397-E940-4EF0-B98B-1C785ED9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499D0-2336-4C8A-B799-036A9230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79309-E150-4A06-BAA4-DFF3CF16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52B7E-B9B8-40E1-9B8B-74AEC7C0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61D55-9987-4B0E-AF97-9D403B31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9D919-6D06-4349-A139-8A475123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59DE0-9397-40B4-834A-B47CA215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C6093-DB0E-4E02-9274-5F265B3A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0D9B-3F07-4CFE-BE78-DDFA4C83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4AF2D-DC55-4B99-9DD9-E9B96A55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EA755-B883-4CCA-82D1-5D13F23A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DD1E6-A0A6-4950-97C7-EFD9685D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BFA57-5E13-44BD-B5A9-DF852954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3410F-A6E4-41A9-B2F7-A049C4C7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B69F2-3219-4278-BB6D-6DA41D64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E055B-A731-4707-AAB8-D71A3647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9B251-3D7B-492F-B004-E6F1CD48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CB20C-6930-4C58-8DAE-6F5F3CD6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1D5CE-144B-4590-9506-52E601F3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1DBC-0A63-4954-A5D4-B123C1F0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F3B02-EAC6-4A38-8B35-91F2360B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27877-BB89-47B5-A15C-D3E3B57E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67451-A6B7-4177-A4FD-534C255E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95E8E-FA4E-4B26-9044-31CFFE42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30B32-13F4-4DF8-B5C1-EF404938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41458-8E2F-4ACC-BBD1-860DD3AF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E3B45-3E74-46AD-9EE0-07A5BC21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E91E3-1B47-48D2-93B5-76AEE8AC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902308-D354-464C-9BAC-E3F4E117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28C9A2-B33A-48E5-8454-78724DEF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8714-98F4-4D22-97F6-CB08C864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F34E99-9892-46AD-B44A-BC0AF437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F06A97-5E24-431B-8E65-1A4A498F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F3CE5B-50C6-4BE3-8939-E25A14F3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E7466-ADEC-43D1-AEA3-2CA497AA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AC6D7E-4EAD-4B22-8AAB-C620B14E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FE2B7-040B-4C79-8144-969774CA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59EC9-2689-4F1F-A278-9DD23A54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AEF745-AE79-413E-A0E8-DA8A93BB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2ABD37-A342-482A-9FCA-990D7764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BB03A9-34FB-439E-9865-71F1CEC2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A240-E85A-43A5-88F4-9C3C5AC5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A7A93F-135C-4807-8166-C8499B9B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6261D9-A054-4A6D-A1E7-87BD76C9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49756E-5D3C-40CC-8AD1-FFADC374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68292-7789-4ECC-B5DA-C6712290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E2E2C9-98C9-438C-8101-89184F47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B8EF6F-CC39-4AB5-A01B-6384C856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E2661F-06E9-4EE2-98EE-46BDC89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0EE660-C8E9-410C-885F-B62E2DC2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3542DA-61FC-4825-AF44-B6E21ACC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7FE8B9-40EA-4F9F-98C1-FC47609E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C528-9CB3-47E2-9F4C-3A2ED9BC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8045D4-A251-4C43-9FB2-E0D9FDC4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7C11EB-68DB-411E-8C22-5AE4E080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D7613F-94BB-4D8A-BF57-4DCA9EAE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D280EE-EFBA-4C67-A2B2-DD177EFA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467A72-7796-48F3-8254-2A9AC3E3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E63191-C6D2-433E-BEF7-BCB74772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3942F1-A7E4-4A29-814B-0983F088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25522B-E3ED-493E-97F4-351F7463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E537DA-31E1-403B-A04A-885B210C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94335B-6056-447D-978F-531C3597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1316-27F8-4696-B959-C7919842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D52899-4358-4A12-9A83-9D42BDE9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66073E-FB92-4057-9C1F-4123E6D8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8D9B89-0266-4D80-AF09-70E20B23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27D6F2-091D-49D5-B435-76FFC51E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528DD-543B-4AEF-B54B-472F3BA3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6A7BC7-8DBC-40B3-89C2-797664DE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52051D-4524-4371-97FE-A8BA1A8F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C56BB0-2DB2-4F95-8502-57E1E8D4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586D7D-45FA-49C9-8E88-15ACFDE3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9DA149-AD32-4513-8081-4BD456CA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779-93CE-4141-8DEA-3BB563E0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C4F2-17CF-4517-A01E-9384D382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9FE416-332D-4535-B848-7FA43F50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13A0C1-CFD3-4A62-98DD-E9ADAA9D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ACB716-FF4C-4F02-B038-7016BFE9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FB960A-198C-43A6-8537-4EF8E2F1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77D3DD-4998-4D33-B14C-C56999B3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EB7DF5-8F6A-4993-BCCC-47F936AA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1ED517-22A8-4F17-B9FB-96224E99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4247A8-1A0E-405A-AAE1-73F61FC2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059CC8-A3A0-4317-A79B-62BCA0A2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BEF063-E301-44C6-A8B1-4E84D4F2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1B62-F284-472F-83D0-0146104E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3C89B2-C528-4A24-8301-60E449B0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9B8744-E594-448A-98FF-49598F97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30D641-71E1-49D9-82E9-4E4B2441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8ABE88-B51E-47B7-B2A3-F7A485A7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F1C02D-08A1-4CE6-9854-5649844D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4F2253-0FA9-485E-B10D-720686FA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4AF0D6-3B74-4987-84F2-9D640C9B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5EDA-F8D4-40A0-ACAE-86B12923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7F4A-4281-4416-93F9-B8ADEABA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5A4C-E30C-4D1C-8CC6-592758C4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0AA57-56EA-49A5-81EE-61118F77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B8C64-3161-4DE2-AF56-8141C36D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9F929-C514-44A2-834E-C9928A28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7ED66-AE47-431C-BDE0-7730E271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31015-2F9F-4409-A436-17F7D7A5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010-540B-48C3-A327-7149455F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F4D94-AC95-4E9D-9D7E-210089AB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D3F1-DAFE-4286-B9F0-08E1B055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96F5B-DDCF-4DA7-9736-07B6F9A1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1078-4892-4F43-9440-43C5415A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BF43D-6B56-4A57-ABBD-0DD03DAB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764B3-DBC5-433D-8BF1-558CF203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50D62-9D4D-440D-8D83-0533182A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D92EA-28B0-4825-8CA8-7FCF79D5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729D9-E90F-410E-A6C9-0B0D4F87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27A7D-7187-48E0-864D-8628EDFC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F46-FA27-4BA4-8060-849EBC7E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594D8-B524-4E85-9C21-44CEBC72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85FE3-D664-4E6A-9237-CEBB5665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A7977-D066-432D-8660-982CEB7F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39C8B-EBAE-43BA-A90C-B0B84FBB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BBD08-8B79-4476-A5D3-3505BA13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DA125-6FB9-4B9E-80CB-37F83AA9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E28A9-6090-4EE6-8246-D9478DB3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0ADAD-C919-424D-A7DD-3712E44B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D932D-54EA-40CC-B025-2B95904A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B28F7-97A3-491D-96F3-024D75E8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EF9-D23A-4555-AEA8-083AED40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6AF72-83E6-4BEE-8CD1-3F937501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72FE8-E535-4229-AEBB-5C7EF8F0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9EEA9-4067-40EA-9C17-B6ABFBE3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BBAC7-C08C-4809-8F69-3C4B1F47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7FB69-C886-454C-B62F-1DAA4345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FEB4E-9929-49B3-A53A-BC655EE9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F714F-174D-4B36-A1B8-33FED222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D9197-DBAD-4803-80E8-C723A2AB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45C8F-A83F-409B-B411-C69F8544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C72B0-C7B5-4133-9344-4B9BEE8F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B78-F0EB-4F3E-AD83-A900D473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D0820-A42A-4047-AFA0-121836CC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5A600-BE64-4C0A-9394-763CFE83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4DF64-5BD8-4F91-B96C-CED6BCE0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65A91-D8B6-4BC1-8F0C-D49E803E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FEDED-EE84-4FC8-A3D2-74EBA2E9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BB473-0D49-4AC3-A266-3F922B6F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0CD69-884B-4A22-92E9-E4577A22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09145-3E06-4A06-9EE5-B80FC62C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61D3F-1E32-4C85-841C-A4DD475F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AEF00-1F86-468C-A1DA-078A2B45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625-D0B4-4BA5-9ACC-5CB44C1F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F219E-9816-4281-8BF1-5BA7C09F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FBA97-5CEC-48DD-BF26-12B523BE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CB7CA-4607-4ED2-A1A5-34EF30A0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F1790-EA41-459E-9BB7-64CB0723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2CFB6-E731-4763-9505-F9F56E1D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BB6C3-2CEA-4948-89DA-DBC9F988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D32E9-D614-4BF0-845C-09BEF4C7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B2368-EDF6-4E44-A8BD-6FD71823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8FC9E-55B1-47E6-B277-70842C1F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A90E8-0E89-4588-9A3F-99DA706D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62A-F9DC-448D-B22F-77E20CCC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42583-93F7-4414-A144-5DE30A80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51DCC-A8AB-4B88-871D-9831A11C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2D71F-8C98-463B-845A-3F4D59FC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C4DE4-8B71-463C-9F36-6A09AE8E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DC44A-1D0F-40C1-A067-CEB4057F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BF695-457A-4820-9B91-EF362A06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351E4-34D2-41B2-B2DC-F8F60AB0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C2ECE-358A-4993-97AC-CBDF0513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A925C-B75C-4CC3-8506-8AD661A0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173AC-16C1-47F0-ABF2-B2529059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CAD-2A2B-4936-B3B9-FD1832DF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95F72-A6E7-4FDD-9754-7919575F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5975D-1925-42EE-8EB7-1C224650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397AB-CB48-4FF3-ACF2-EB48CCFF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5066D-7BDE-468F-BFB1-D05363E9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72B4C-305F-438E-9006-E5117625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7FBD2-3A21-4E9C-880F-CDE8BAF2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26921-8D6C-46D0-B1A5-DEDA2141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68C06-6F83-4354-AFA0-D33D5570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50499-5483-460D-849D-99036588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94C0B-0823-4BF0-832C-8A2567AF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5740-0D82-42F6-8613-591CBF576C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7997-C969-4DC5-A88B-DD3DB94887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1419-76CD-4F2B-B68C-3BB639D7D4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DB3B-01C4-4B3E-9E26-25313D423D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F857-A0DA-4919-B975-C2C9CF604F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A797-FD45-42BB-9FC8-61BC2CD8EB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D103-9F8B-45E7-B29D-B33967FCDC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CDED-30D6-4C48-801D-109ECB328B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BB4A-D82A-4355-82F4-ADFF1A761D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AFDC-0084-446F-AE18-CAEBFC077F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7931-6F48-4334-B11F-8FFCA0BD5F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A883-6B83-4498-ABF9-5B31529129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3792-2E7A-4F71-BE07-A860E6F563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D0DF-67B6-4F51-9FFE-0E6CF898FE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1664-605B-4277-8BD8-BDFA2BDC60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2E49-88EA-43E7-AF64-248AAA7E12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4F53-A0C9-418C-AC0E-0FBDCDCB19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5832-D7EF-479B-AA1A-A579ABEBDC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2066760"/>
            <a:ext cx="8690040" cy="17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TextBox 3"/>
          <p:cNvSpPr/>
          <p:nvPr/>
        </p:nvSpPr>
        <p:spPr>
          <a:xfrm>
            <a:off x="1073160" y="2306520"/>
            <a:ext cx="1058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Regional water and energy seminar; 12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w Cen MT"/>
              </a:rPr>
              <a:t>th –</a:t>
            </a: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15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 may 2014 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VISION &amp; STAKEHOLD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VISION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525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LL SOLOMON ISLANDERS WITH EASY ACCESS TO SUFFICIENT QUANTITY AND QUALITY OF WATER, APPROPRIATE SANITATION, AND LIVING IN A SAFE AND HYGIENIC ENVIRONMENT”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IN STAKEHOLDER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52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IG: MMERE, MHMS, RDP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452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GOs: WORLD VISION, ADRA, CARITAS, RED CROSS, SIDT, and other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452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UNDING SUPPORT: DFAT, EU, World Bank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MAIN ISSU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10% OF ALL DEATHS IN SI ARE WASH RELATED…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=&gt; THOUGH ECONOMIC AND NATURAL RESOURCES BENEFITS ARE THERE, RWASH IS PRIMARILY ABOU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w Cen MT"/>
              </a:rPr>
              <a:t>PREVENTATIVE HEALTH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OOR REGULATORY BASE OF THE SECTOR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- NO WATER ACT, POLICY, STRATEGIC PLAN, TECHNICAL STANDARDS, and other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OOR COORDINATION &amp; PLANNING OF THE SECTOR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OOR SUSTAINABILITY OF WATER SUPPLY SYSTEMS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- 50% OF ALL NEW WATER SYSTEM BREAK DOWN WITHIN 2 YEARS AFTER COMPLETION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OOR SANITATION AND HYGIENE BEHAVIOR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- LOW SANITATION COVERAGE &lt;18% RURAL HOUSEHOLDS, EVEN LOWER FOR HAND WASHING WITH SOAP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MEASUR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VENTATIVE HEALTH: =&gt;INTEGRATED WASH PROJECT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AINSTREAMING SANITATION AND HYGIENE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AME CHANGE: RWSS -&gt; RWASH PROGRA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438840" indent="-438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GULATION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RAFT POLICY NOW AT EXECUTIVES FOR ENDORSEMENT, THEN CABINET; ( JUST ENDORSED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NGINEERING STANDARDS DRAFT 90% COMPLETE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WASH STRATEGIC PLAN UNDER DEVELOPMENT NOW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OMMUNITY ENGAGEMENT REQUIREMENTS – EXTERNAL INPUT EXPECTED 2014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MEASUR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914040" y="1728360"/>
            <a:ext cx="1036332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COORDINATION &amp; PLANNING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WASH STAKEHOLDER GROUP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RURAL WASH OVERSIGHT COMMITTE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CTOR COORDINATION DATABAS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BASELINE STUDY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HANGE OF ROLE OF THE GOVERNMENT (MHMS) FROM IMPLEMENTER TO REGULATOR/MONITOR/QUALITY CONTROL =&gt; REQUIRE MORE INVOLVEMENT OF SECTOR PARTNERS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USTAINABILITY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ENGINEERING STANDARDS AND STANDARD DESIGNS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MMUNITY ENGAGEMENT REQUIREMENTS,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including mobilization and planning, water committee training, water security, climate change, hygiene, basic plumbing skills, etc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ANITATION AND HYGIENE BEHAVIOR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NNOVATIVE SANITATION APPROACH ON NATIONAL SCAL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ATIONAL HYGIENE CAMPAIGN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ECONOMIC INVEST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ENEFIT – COST RATIO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HO REPORT (2012)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=&gt; THOUGH INVESTMENT IN WATER SUPPLY ALONE COSTS MONEY, INVESTMENT IN WATER SUPPLY &amp; SANITATION COMBINED HAS A NEAR DOUBLE RETURN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- MOST BENEFITS DUE TO TIME SAVINGS (70%), AND HEALTH CARE SAVINGS (10%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URRENTLY EHD/RWSS DOES APPROXIMATELY 45 WATER SUPPLY PROJECTS/YEAR, BUT 0 WASH PROJECTS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1281240" y="2798640"/>
          <a:ext cx="8127720" cy="1484280"/>
        </p:xfrm>
        <a:graphic>
          <a:graphicData uri="http://schemas.openxmlformats.org/drawingml/2006/table">
            <a:tbl>
              <a:tblPr/>
              <a:tblGrid>
                <a:gridCol w="2709720"/>
                <a:gridCol w="270828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a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OCE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a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OLOMON IS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a3e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AN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f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ATER SUP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c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MBINED WAT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1.8(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VINAKA VAKALEVU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03:45:03Z</dcterms:created>
  <dc:creator>rwss</dc:creator>
  <dc:description/>
  <dc:language>en-US</dc:language>
  <cp:lastModifiedBy>rose tungale</cp:lastModifiedBy>
  <dcterms:modified xsi:type="dcterms:W3CDTF">2014-05-13T05:58:11Z</dcterms:modified>
  <cp:revision>17</cp:revision>
  <dc:subject/>
  <dc:title>RURAL WATER SUPPLY, SANITATION &amp; HYGIENE</dc:title>
</cp:coreProperties>
</file>