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2911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05200" y="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17960" cy="36878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04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9360000"/>
            <a:ext cx="2911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8F7E5-24C4-4C25-8CF2-73F6EEAF055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0824C-197E-4D54-9F89-9F1ED1636F6F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0C85B-B5A8-4345-B5DF-CB51A276E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577D9-C796-478A-BCD6-DC7C8576225F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Blending turns red lights to gree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 grant ha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fundamental added valu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: without the EU grant a project would not have seen the day at all, only at a later stage or at an unsustainable cost for the partner country, or the project reaches more beneficiaries that otherwise would have been exclu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Blending also promotes use of international standards and financing partners have to reach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U's environmental and social standards as well as assure transparent and fair tend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57564-4659-4908-9328-F3D4AFA4AE4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 grant can be use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 different forms such as direct investment, interest rate subsidy, technical assistance, risk capital or guarante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 Each project will have specific needs, also taking into account the financing capacity of partner countries and taking into account debt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9336B-4F70-4ABD-B562-633ECE7EA7D7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A242A-0213-46B1-AB3C-31497138F967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75A8B-E092-4DEB-898E-A1EA250A08C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69679-1E9D-4918-90CC-4D3E926ACEFD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2F938-A717-4935-AEF2-47C424FAAFEA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A57B5-609B-4FA0-857C-C7D860D52C5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05CCF-8091-4DBF-9B46-9192147791E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89744-7BE1-4132-A05E-F62D28932C8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56CF6-A274-4184-9742-3C28A8B26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774A4-5C17-400A-A062-04DBA575A33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EC297-46A5-4FCE-89FF-6AA83AF14C2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7424E-D2D5-431C-9A5E-7EF4ED26C4E7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2BEDD-0F07-4789-BB58-1567F735E38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50611-F20F-49C2-A82C-015359BFEA2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E838E-06F8-4E6F-84F9-29F15BF9581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 cooperates with many different financing partners such as European public finance institutions, regional and international development banks and private financiers. In doing so, it encourage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nor and lender coordin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and enhances policy coherence and aid effectiven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F399-04C3-4C18-8596-9FF5B67D4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7AC4-8DE6-4C47-A0C2-EAC9D5B9C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DCB1-ED0E-492D-AEAF-9B7BF8F1F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64DF-BED4-45A8-84F2-1A4D1A580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0637D-4CD5-4B2F-AF63-EC4CEB37CC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D36E-919C-47DE-8263-ED945E5E37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B074-1476-4331-B25A-12D1CBB4F3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D706A-67BE-4087-A1A3-49D9224BE4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21FE-D514-4A12-BD7A-3C52CCA213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920" y="1339920"/>
            <a:ext cx="822492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1F7F-0928-4D5C-99EA-3FFA2F7877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A592-2FF7-4E68-AB43-0777C7C0A5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6490-4A4E-436F-B17D-B8003F5EA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4CA2-32C4-4D30-B4AC-2AF58C0CF7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A552-862B-4610-8524-FA55BB8565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4E06-0486-4896-BBBA-F6DE83444B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6F8A-2D94-41D7-AF64-779D55BB87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8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8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F109-B9AD-454C-8935-D6EBE52CA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0618-2EF2-4DF9-A32F-F2A5F570C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AE76-B87A-4646-B03A-49D9A9C4B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F5B1-B1D3-4038-BA14-549E25012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920" y="1339920"/>
            <a:ext cx="822492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D9C8-79CD-405D-A572-5F7060A26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135E-01EC-482A-966C-169A59C76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7808-8478-4DEF-A6B0-E5172CBF5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3E6B-0067-4BFE-8A4B-3C21DD699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f549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F0698-4B1A-46DC-81A2-C5ABE8D9B1E6}" type="slidenum">
              <a:rPr b="0" lang="en-GB" sz="2400" spc="-1" strike="noStrike">
                <a:solidFill>
                  <a:srgbClr val="0f549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cap="sq"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23EB9B-6BEA-49B2-A0FD-6FCDA77C3A5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31640" y="1052640"/>
            <a:ext cx="871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32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i="1" lang="fr-BE" sz="4800" spc="-1" strike="noStrike">
                <a:solidFill>
                  <a:srgbClr val="ffd624"/>
                </a:solidFill>
                <a:latin typeface="Arial"/>
                <a:ea typeface="Arial"/>
              </a:rPr>
              <a:t>"Blending" in the Pacific</a:t>
            </a:r>
            <a:br>
              <a:rPr sz="24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11280" y="4724280"/>
            <a:ext cx="8532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Ioannis-Pavlos Evangelidi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EU Delegation for the Pacific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14 April 2014, EU Seminar, Nad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1"/>
          <p:cNvSpPr/>
          <p:nvPr/>
        </p:nvSpPr>
        <p:spPr>
          <a:xfrm flipV="1">
            <a:off x="3276720" y="16189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2"/>
          <p:cNvSpPr/>
          <p:nvPr/>
        </p:nvSpPr>
        <p:spPr>
          <a:xfrm flipH="1" rot="10800000">
            <a:off x="5794920" y="2876040"/>
            <a:ext cx="957240" cy="274680"/>
          </a:xfrm>
          <a:prstGeom prst="rightArrow">
            <a:avLst>
              <a:gd name="adj1" fmla="val 50000"/>
              <a:gd name="adj2" fmla="val 50176"/>
            </a:avLst>
          </a:prstGeom>
          <a:solidFill>
            <a:srgbClr val="00b05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875640" y="2124000"/>
            <a:ext cx="1590480" cy="1739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4078440" y="2124000"/>
            <a:ext cx="1573200" cy="1739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4920" y="2448000"/>
            <a:ext cx="29545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95200" y="4222800"/>
            <a:ext cx="2692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Turning red ligh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to gre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54440" y="4510080"/>
            <a:ext cx="504036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ressing risks, ensuring project financial sustainability, ensuring social and environmental returns, addressing capacity 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 flipV="1">
            <a:off x="370836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140360" y="1557360"/>
            <a:ext cx="48243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rect investment grant and interest rate subsid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 and investment prepar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isk capita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Guarantee mechanis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innovative financial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8000" y="4006800"/>
            <a:ext cx="3311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fferent type of support to address different 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24000" y="2139840"/>
            <a:ext cx="309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08000" y="26416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3600" spc="-1" strike="noStrike">
                <a:solidFill>
                  <a:srgbClr val="ffd624"/>
                </a:solidFill>
                <a:latin typeface="Arial"/>
                <a:ea typeface="Arial"/>
              </a:rPr>
              <a:t>IFP PROJECTS SUBMISSION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3600" spc="-1" strike="noStrike">
                <a:solidFill>
                  <a:srgbClr val="3c8c93"/>
                </a:solidFill>
                <a:latin typeface="Arial"/>
                <a:ea typeface="Arial"/>
              </a:rPr>
              <a:t>Who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356000" y="1628640"/>
            <a:ext cx="4103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ligible Finance Institution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submit project proposals as Lead Financier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ultilateral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ropean Financ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stitution (e.g. EIB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European public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velopment financ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stitutions from Member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ates (e.g. AFD, KfW, …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acific Region Infrastructure Facility (PRIF) member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an participate in consortia with Eligible Finance Institution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sian Development Bank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articipates in IFP meetings as observ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68360" y="4335480"/>
            <a:ext cx="2979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3494160" y="2355840"/>
            <a:ext cx="792000" cy="285840"/>
          </a:xfrm>
          <a:prstGeom prst="rightArrow">
            <a:avLst>
              <a:gd name="adj1" fmla="val 50000"/>
              <a:gd name="adj2" fmla="val 69270"/>
            </a:avLst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1"/>
          <p:cNvSpPr/>
          <p:nvPr/>
        </p:nvSpPr>
        <p:spPr>
          <a:xfrm flipV="1">
            <a:off x="363528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08000" y="26416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Blending is 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aid modali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68360" y="4437000"/>
            <a:ext cx="2979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must adhere to the same principles as other aid modal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922560" y="1185840"/>
            <a:ext cx="482616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Any project will meet the following condition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Project is 100% in line with agreed policy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Environmental &amp; social standards are m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Preservation of macro-economic stabi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Market distortions are avoi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Additionality of grant element (ensuring viability, delivering for the poor, improved qualit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98440" indent="-45396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68360" y="1341360"/>
            <a:ext cx="838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4240">
              <a:tabLst>
                <a:tab algn="l" pos="0"/>
                <a:tab algn="l" pos="3589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vestment Facility for the Pacific</a:t>
            </a:r>
            <a:br>
              <a:rPr sz="3000"/>
            </a:b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IFP grant funding for 2013: €10 mill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12840" y="2924280"/>
            <a:ext cx="14508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 algn="just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50920" y="2924280"/>
            <a:ext cx="194760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Cook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Fij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Kiribat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Marshall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Micronesi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Nau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Niu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824360" cy="3520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360" y="14400"/>
            <a:ext cx="77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347760"/>
          <a:ext cx="9148680" cy="403200"/>
        </p:xfrm>
        <a:graphic>
          <a:graphicData uri="http://schemas.openxmlformats.org/drawingml/2006/table">
            <a:tbl>
              <a:tblPr/>
              <a:tblGrid>
                <a:gridCol w="91486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8"/>
          <p:cNvSpPr/>
          <p:nvPr/>
        </p:nvSpPr>
        <p:spPr>
          <a:xfrm>
            <a:off x="360" y="14400"/>
            <a:ext cx="77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267680" y="2924280"/>
            <a:ext cx="18651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Pala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Papua New Guine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Samo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Solomon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Tong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Timor Les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Tuval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Vanuat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1"/>
          <p:cNvSpPr/>
          <p:nvPr/>
        </p:nvSpPr>
        <p:spPr>
          <a:xfrm flipV="1">
            <a:off x="370836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851280" y="1341360"/>
            <a:ext cx="5113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reated in 201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rant Funds available in 2013: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€10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hree project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ave received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ovisional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approval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ji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– technical assistance(framework for the energy sector)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Samoa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– investment grant (Faleolo Airport Safety improvements)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imor Lest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- technical assistance framework in the infrastructure and/or financial sec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f5494"/>
                </a:solidFill>
                <a:latin typeface="Verdana"/>
              </a:rPr>
              <a:t>11th EDF Financial framework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under discussion (indicative amount of </a:t>
            </a:r>
            <a:r>
              <a:rPr b="1" lang="fr-FR" sz="1800" spc="-1" strike="noStrike">
                <a:solidFill>
                  <a:srgbClr val="0f5494"/>
                </a:solidFill>
                <a:latin typeface="Verdana"/>
              </a:rPr>
              <a:t>€46 m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for the EU-Pacific Investment </a:t>
            </a:r>
            <a:r>
              <a:rPr b="1" lang="fr-FR" sz="1800" spc="-1" strike="noStrike">
                <a:solidFill>
                  <a:srgbClr val="3c8c93"/>
                </a:solidFill>
                <a:latin typeface="Verdana"/>
              </a:rPr>
              <a:t>Programme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08000" y="4006800"/>
            <a:ext cx="3311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tate of P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24000" y="2139840"/>
            <a:ext cx="309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Investment Facility in Pacif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08000" y="24922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uture of blending operation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995640" y="1341360"/>
            <a:ext cx="4176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Increased involvement of regional financial institu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Catalyse private financing, FDI or domestic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Explore innovative risk sharing mechanisms (structured funds, guarantee mechanism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Expand partnerships and cooper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14440" y="4076640"/>
            <a:ext cx="2979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urther exploit the potent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3360" y="1628280"/>
            <a:ext cx="82249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6" name="Picture 4" descr="http://www.newcorpfinancial.com/images/financial-leverage.jpg"/>
          <p:cNvPicPr/>
          <p:nvPr/>
        </p:nvPicPr>
        <p:blipFill>
          <a:blip r:embed="rId1"/>
          <a:stretch/>
        </p:blipFill>
        <p:spPr>
          <a:xfrm>
            <a:off x="2411280" y="2924280"/>
            <a:ext cx="424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1"/>
          <p:cNvSpPr/>
          <p:nvPr/>
        </p:nvSpPr>
        <p:spPr>
          <a:xfrm flipV="1">
            <a:off x="370836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140360" y="1413000"/>
            <a:ext cx="4824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lending window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rant/Loa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roposals as in the present Facility (IFP), open to all P-ACP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pecific window,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pen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rant/Gra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posal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icrosoft YaHei"/>
              </a:rPr>
              <a:t>Ensuring access to investment funds for LDC-SIDS which cannot take loans (e.g. because of debt stres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icrosoft YaHei"/>
              </a:rPr>
              <a:t>Access/eligibility criteria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icrosoft YaHei"/>
              </a:rPr>
              <a:t>Priorities/selection criteria: minimum financing threshold, financing leverage, regional focal sectors and complementar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  <a:ea typeface="Microsoft YaHei"/>
              </a:rPr>
              <a:t>Example: ACSE Catalytic Compon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Aft>
                <a:spcPts val="1199"/>
              </a:spcAft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03320" y="4365720"/>
            <a:ext cx="3311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Leveraging investments   through the Regional 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24000" y="2139840"/>
            <a:ext cx="309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Investment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</a:rPr>
              <a:t>Program </a:t>
            </a: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in Pacific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</a:rPr>
              <a:t>(IPP)</a:t>
            </a: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339560"/>
            <a:ext cx="8224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Grant/grant financing: eligi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684360" y="213372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Aim: avoid crowding out non-grant financ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EcoFin criteria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LDC/ highly vulnerable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Countries with low fiscal space or high debt str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Very small market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ojects with low or unclear financial benefits but clearly demonstrable economic, environmental or social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 criteria</a:t>
            </a: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ojects of particularly high risk that needs mitig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oject region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Compliance to the regional focal sect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Minimum financing thresho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4240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Blending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68360" y="2349360"/>
            <a:ext cx="82296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U Grants leveraging other resources into a single pack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7012C-928D-4A4D-AF69-FB56ABA057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658800" y="3357720"/>
            <a:ext cx="7556400" cy="2658960"/>
            <a:chOff x="658800" y="3357720"/>
            <a:chExt cx="7556400" cy="2658960"/>
          </a:xfrm>
        </p:grpSpPr>
        <p:sp>
          <p:nvSpPr>
            <p:cNvPr id="104" name="Oval 5"/>
            <p:cNvSpPr/>
            <p:nvPr/>
          </p:nvSpPr>
          <p:spPr>
            <a:xfrm>
              <a:off x="787320" y="3996720"/>
              <a:ext cx="2543400" cy="14263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uropean Unio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Grant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3377520" y="3966480"/>
              <a:ext cx="2121840" cy="14263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inancial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stitution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essource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5545080" y="4146120"/>
              <a:ext cx="2543400" cy="99468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other resource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658800" y="3357720"/>
              <a:ext cx="7556400" cy="2658960"/>
            </a:xfrm>
            <a:prstGeom prst="ellipse">
              <a:avLst/>
            </a:prstGeom>
            <a:noFill/>
            <a:ln cap="sq" w="507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Grant/grant financ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9640" y="245916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iorities/selection criteria:</a:t>
            </a: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Financial lever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Complementarity to national focal sectors/strateg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 classic project appraisal crite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http://www.mmbgims.com/Images/Selection%20Criteria.png"/>
          <p:cNvPicPr/>
          <p:nvPr/>
        </p:nvPicPr>
        <p:blipFill>
          <a:blip r:embed="rId1"/>
          <a:stretch/>
        </p:blipFill>
        <p:spPr>
          <a:xfrm>
            <a:off x="3062160" y="4005360"/>
            <a:ext cx="2876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8440" y="1125360"/>
            <a:ext cx="8223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to answe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84360" y="177336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How much from the EUR 46m into the IFP and how much into the IP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Split the IPP into allocated fixed envelopes for grant/loan or grant/grant financ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How to measure fiscal space or stress debt? IMF/WB definitions? U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Who is eligible to co-finance under IP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Limit sectors to the regional focal areas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(i) sustainable management of natural resources, more specifically marine resources and waste manag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(ii) regional economic integration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 question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360" y="1628280"/>
            <a:ext cx="82249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9" name="Picture 4" descr="http://www.newcorpfinancial.com/images/financial-leverage.jpg"/>
          <p:cNvPicPr/>
          <p:nvPr/>
        </p:nvPicPr>
        <p:blipFill>
          <a:blip r:embed="rId1"/>
          <a:stretch/>
        </p:blipFill>
        <p:spPr>
          <a:xfrm>
            <a:off x="2411280" y="2924280"/>
            <a:ext cx="424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-11160" y="1268280"/>
            <a:ext cx="9144000" cy="5423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EB5AB-3F18-404C-98C1-CDFAA7F029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1"/>
          <p:cNvSpPr/>
          <p:nvPr/>
        </p:nvSpPr>
        <p:spPr>
          <a:xfrm flipV="1">
            <a:off x="3780000" y="1574640"/>
            <a:ext cx="1440" cy="462312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RELEVANT SECTOR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for the 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82843-8D89-4C82-B30F-FB621D611FC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895560" y="1341360"/>
            <a:ext cx="508320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1"/>
          <p:cNvSpPr/>
          <p:nvPr/>
        </p:nvSpPr>
        <p:spPr>
          <a:xfrm flipV="1">
            <a:off x="3780000" y="1574640"/>
            <a:ext cx="1440" cy="462312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RELEVANT SECTOR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for the 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D93AC-79B2-4EC5-8C76-5677DA814CC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786120" y="1341360"/>
            <a:ext cx="507204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Arial"/>
                <a:ea typeface="MS PGothic"/>
              </a:rPr>
              <a:t>CLIMATE CHAN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68360" y="3933720"/>
            <a:ext cx="2979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Cross cutting sector in the blending facil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067280" y="1700280"/>
            <a:ext cx="4680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CLIMATE CHANGE WINDOWS</a:t>
            </a:r>
            <a:r>
              <a:rPr b="0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 were announced in November 2010. They allow transparent tracking of climate change related projects in the EU regional blending facilities.  Contributions to climate change are tracked according to Rio markers - an internationally agreed system for tracking aid contributions with climate objectiv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092480" y="3863880"/>
            <a:ext cx="46548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More than €600 million in grants committed under the  EU regional blending facilities is counted as supporting climate change action (over 40% of all commitment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Additional €17 million from the ENRTP to the Neighbourhood and Latin America Investment Facilitie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8A2C2-CB65-400C-8C38-ECE5FAE903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Arial"/>
                <a:ea typeface="MS PGothic"/>
              </a:rPr>
              <a:t>SECTORS COVER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12640" y="4119480"/>
            <a:ext cx="2979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Cumulative Fig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since incep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for all facil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995640" y="1917720"/>
            <a:ext cx="4630680" cy="3892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92605-243E-4399-9D5E-83AB41BA0F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3995640" y="1917720"/>
            <a:ext cx="461340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1"/>
          <p:cNvSpPr/>
          <p:nvPr/>
        </p:nvSpPr>
        <p:spPr>
          <a:xfrm flipV="1">
            <a:off x="3564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3480" y="26416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Objectives of Blending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Arial"/>
              </a:rPr>
              <a:t>Leverag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708360" y="1989000"/>
            <a:ext cx="511164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INANCIAL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obilize public and private resources for enhanced development impac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ON-FINANCIAL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rove project sustainability quality and spe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upport reforms in line with EU polic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ID EFFECTIVENES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rove cooperation between European and non-European aid actors (donors and financial institution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buClr>
                <a:srgbClr val="0f5494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4920" y="244800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Arial"/>
              </a:rPr>
              <a:t>EU regional blending facil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4294080"/>
            <a:ext cx="3124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inding the right financing mix to enable sustainable proj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067280" y="1700280"/>
            <a:ext cx="4680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00662-AE88-4E7B-AA1E-E680BF0BF7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43280" y="1700280"/>
          <a:ext cx="3821400" cy="4321080"/>
        </p:xfrm>
        <a:graphic>
          <a:graphicData uri="http://schemas.openxmlformats.org/drawingml/2006/table">
            <a:tbl>
              <a:tblPr/>
              <a:tblGrid>
                <a:gridCol w="3821400"/>
              </a:tblGrid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Development projec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financing mi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Own funds (partner countr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Private financi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Non-European Public finance institu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European Public finance institu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Grants from other don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EU grant resour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GC &amp; PEFA Secretariat</dc:creator>
  <dc:description/>
  <cp:keywords>PEFA Workshop-Brussels</cp:keywords>
  <dc:language>en-US</dc:language>
  <cp:lastModifiedBy>Pavlos</cp:lastModifiedBy>
  <cp:lastPrinted>2014-02-20T16:12:18Z</cp:lastPrinted>
  <dcterms:modified xsi:type="dcterms:W3CDTF">2014-05-13T23:34:04Z</dcterms:modified>
  <cp:revision>497</cp:revision>
  <dc:subject/>
  <dc:title>Slide 1</dc:title>
</cp:coreProperties>
</file>