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5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BCE8-C762-4D1E-B6A8-35F5E72FE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DE4B-EDA0-4A6B-AE7A-EDBF109FB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02BE-715C-4D24-8E92-9DE0B8284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97CF-6CC3-4C20-AB97-52641181F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8FEE-5AE2-4F76-AF15-5CC7BB93E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A7C-9518-4665-8A97-7032E9DADB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A4CA-A6C7-4714-A680-4BDCD10C21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7526-D5D4-45FB-8F1A-494B5D50E9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5346-906C-4F00-8AFF-BD95AF1521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F783-DB92-43C5-ACF9-8B7B491357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F88C-A339-4F8F-A528-BFCA81D77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40CC-00FD-4590-ACD5-55BC1318A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C32A-FA75-4911-BC11-ECD8179007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0BDD-4947-4E1E-8212-A5247F9818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4B5A-C444-4477-B364-628573B51B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7F25-0C3C-4745-8B98-41C5CFCABA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A68E-BAC4-4463-96FB-EECDDCCA1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092D-E005-4FD9-AE41-87564F33D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2FD5-96DD-4B8B-A38E-B30289D18C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AF59-3266-4BC1-A6FA-8ADCA6ED0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0B60-FF65-4969-A1D0-6571A8E58C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1E0F-480B-4CEE-99D2-489D5EE03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B812-9B26-4031-B423-236E4DD803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BFB2-5499-41BC-B8E5-5CB541330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A3BE-ABEA-4928-BA3E-590A051D9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56DD-A7A5-4D5B-916C-21CDC28B64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01800" y="7603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ank you very much for listening – if the moderator will allow it then I’d be very happy to take any questions from the fl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90ED-E6C7-41CA-86E6-EEB84B6744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32A9-9578-418E-BD16-58C418AAC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7999-141C-4F99-93E6-D47DC1D6D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C978-1A0E-453C-BD62-E55FE78EF6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DB17-3765-4040-B8C1-38CD670C22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97A2-9C8D-46B5-B588-2B41F94ED8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C940-A848-42E3-B5EE-434E095CB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EF07-2678-4898-8160-5CA9BFFAF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DAAF-8835-4F9D-B590-BC2B2718D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CA99-15C2-4B71-A3AB-6E1763B188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F2AE-45FA-40B7-805F-543387695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54B5-F331-4BE6-83EE-A4D4242CF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BF64-D17A-45BF-9DF5-EBAE1CF91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21DD-B89B-4378-A04A-EDDFEEF30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5640" y="333000"/>
            <a:ext cx="5688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3F43-4545-4DB2-AE8C-1E39A2EF1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8307-2C8E-462B-BAE7-1DF2D56E7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83D2-7B03-4AF1-91C7-83358A6D6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4A5A-A77B-441A-BEE2-B433863B9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-3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80364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0A6F-E64B-4FAE-9940-246784634D9A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042D-A1EA-41E7-8D90-92088BF65699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43200" y="63244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03280" y="2781360"/>
            <a:ext cx="828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GB" sz="2800" spc="-1" strike="noStrike">
                <a:solidFill>
                  <a:srgbClr val="0066cc"/>
                </a:solidFill>
                <a:latin typeface="Arial"/>
              </a:rPr>
              <a:t>Presentation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cc"/>
                </a:solidFill>
                <a:latin typeface="Arial"/>
              </a:rPr>
              <a:t>EU Regional Water and Energy Semin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cc"/>
                </a:solidFill>
                <a:latin typeface="Arial"/>
              </a:rPr>
              <a:t>for the Pacifi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48320" y="836640"/>
            <a:ext cx="73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3300"/>
                </a:solidFill>
                <a:latin typeface="Arial"/>
              </a:rPr>
              <a:t>The European Investment Bank in the Pacific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733720"/>
            <a:ext cx="4859280" cy="6476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Katrin Bock</a:t>
            </a:r>
            <a:br>
              <a:rPr sz="2000"/>
            </a:b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EIB Pacific Regional Office</a:t>
            </a:r>
            <a:endParaRPr b="1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643280" y="5994360"/>
            <a:ext cx="4319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Nadi, 12 Ma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11A1-1729-4A15-A189-3223FEC2D752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971640" y="3679920"/>
            <a:ext cx="8064360" cy="9990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lnSpc>
                <a:spcPct val="11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ACPs &amp; OCT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B’s role focuses on the Financial Cooperation under the Cotonou Agreement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ing the</a:t>
            </a:r>
            <a:r>
              <a:rPr b="1" lang="en-GB" sz="1800" spc="-1" strike="noStrike">
                <a:solidFill>
                  <a:srgbClr val="015aab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Investment Facility (IF)</a:t>
            </a:r>
            <a:r>
              <a:rPr b="1" lang="en-GB" sz="1800" spc="-1" strike="noStrike">
                <a:solidFill>
                  <a:srgbClr val="015aab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 lending from its</a:t>
            </a:r>
            <a:r>
              <a:rPr b="1" lang="en-GB" sz="1800" spc="-1" strike="noStrike">
                <a:solidFill>
                  <a:srgbClr val="015aab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wn resources (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971640" y="1998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0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nce 2003: “Cotonou Partnership Agreemen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971640" y="1571760"/>
            <a:ext cx="806436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ACPs: The oldest mandate entrusted to the EIB (19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971640" y="2854440"/>
            <a:ext cx="806436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CTs: Since 1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71640" y="328140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nce 2001: “Overseas Association Decis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971640" y="24256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ilds on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45 years of experien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EIB’s Mandates &amp; Financial Resources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394000" y="5157720"/>
            <a:ext cx="4572000" cy="1224000"/>
          </a:xfrm>
          <a:prstGeom prst="rect">
            <a:avLst/>
          </a:prstGeom>
          <a:solidFill>
            <a:srgbClr val="9696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ources of fu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Development Fund (ED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Capital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 rot="5400000">
            <a:off x="4500360" y="4737240"/>
            <a:ext cx="360360" cy="360360"/>
          </a:xfrm>
          <a:custGeom>
            <a:avLst/>
            <a:gdLst>
              <a:gd name="textAreaLeft" fmla="*/ 56160 w 360360"/>
              <a:gd name="textAreaRight" fmla="*/ 315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4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87" name="Text Box 15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252D-B6CB-4061-BA0C-F6CC9D6F91F9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slide overview"/>
          <p:cNvPicPr/>
          <p:nvPr/>
        </p:nvPicPr>
        <p:blipFill>
          <a:blip r:embed="rId1"/>
          <a:stretch/>
        </p:blipFill>
        <p:spPr>
          <a:xfrm>
            <a:off x="973080" y="1069920"/>
            <a:ext cx="7920000" cy="5335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780840" cy="33336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971640" y="506520"/>
            <a:ext cx="6335640" cy="379440"/>
            <a:chOff x="971640" y="506520"/>
            <a:chExt cx="6335640" cy="379440"/>
          </a:xfrm>
        </p:grpSpPr>
        <p:sp>
          <p:nvSpPr>
            <p:cNvPr id="194" name="Text Box 5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6"/>
            <p:cNvSpPr/>
            <p:nvPr/>
          </p:nvSpPr>
          <p:spPr>
            <a:xfrm>
              <a:off x="1619280" y="51768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7"/>
          <p:cNvSpPr/>
          <p:nvPr/>
        </p:nvSpPr>
        <p:spPr>
          <a:xfrm>
            <a:off x="1332000" y="3573360"/>
            <a:ext cx="792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87b00"/>
                </a:solidFill>
                <a:latin typeface="Arial"/>
                <a:ea typeface="Times New Roman"/>
              </a:rPr>
              <a:t>G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91FC-207C-4664-998E-EBDA17ACC2AD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71640" y="981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CTs Mandate and Funds managed by the E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71640" y="1913040"/>
            <a:ext cx="7921440" cy="173196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971640" y="23526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001"/>
              </a:spcBef>
              <a:buSzPct val="102812"/>
              <a:buBlip>
                <a:blip r:embed="rId1"/>
              </a:buBlip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oncluded on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27 November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971640" y="1925640"/>
            <a:ext cx="792144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CTs “Overseas Association Decis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971640" y="27828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001"/>
              </a:spcBef>
              <a:buSzPct val="102812"/>
              <a:buBlip>
                <a:blip r:embed="rId2"/>
              </a:buBlip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xpiring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31 December 20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971640" y="321300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Beneficiaries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20 OC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971640" y="3860640"/>
            <a:ext cx="792144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Sources of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971640" y="4227480"/>
            <a:ext cx="2376360" cy="1619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Investment Facility </a:t>
            </a:r>
            <a:br>
              <a:rPr sz="1600"/>
            </a:b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EDF resources)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395520" y="4227480"/>
            <a:ext cx="3095640" cy="78588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Risk-bearing revolving fund </a:t>
            </a:r>
            <a:br>
              <a:rPr sz="1600"/>
            </a:b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to grant:</a:t>
            </a:r>
            <a:br>
              <a:rPr sz="1600"/>
            </a:b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loans, equity &amp;  guarantees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6529320" y="4227480"/>
            <a:ext cx="1224000" cy="7952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54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UR 48.5 m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395520" y="5048280"/>
            <a:ext cx="3095640" cy="78588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Interest rate subsidies &amp; technical assistance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6529320" y="5038560"/>
            <a:ext cx="1224000" cy="7956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54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UR   1.5 m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7777080" y="4218120"/>
            <a:ext cx="1116000" cy="1619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UR 50 m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990720" y="5899320"/>
            <a:ext cx="2376360" cy="4348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IB own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3414600" y="5899320"/>
            <a:ext cx="3095640" cy="43488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Senior loans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6548400" y="5899320"/>
            <a:ext cx="2344680" cy="4348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UR 30 m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1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216" name="Text Box 22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3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D3B1-1810-4789-90F8-22817FBDEC83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Content Placeholder 169985"/>
          <p:cNvGrpSpPr/>
          <p:nvPr/>
        </p:nvGrpSpPr>
        <p:grpSpPr>
          <a:xfrm>
            <a:off x="-200520" y="2167200"/>
            <a:ext cx="5722920" cy="4339080"/>
            <a:chOff x="-200520" y="2167200"/>
            <a:chExt cx="5722920" cy="4339080"/>
          </a:xfrm>
        </p:grpSpPr>
        <p:sp>
          <p:nvSpPr>
            <p:cNvPr id="221" name="_s1028"/>
            <p:cNvSpPr/>
            <p:nvPr/>
          </p:nvSpPr>
          <p:spPr>
            <a:xfrm>
              <a:off x="770400" y="2253240"/>
              <a:ext cx="3781080" cy="2827080"/>
            </a:xfrm>
            <a:custGeom>
              <a:avLst/>
              <a:gdLst>
                <a:gd name="textAreaLeft" fmla="*/ 0 w 3781080"/>
                <a:gd name="textAreaRight" fmla="*/ 3781440 w 3781080"/>
                <a:gd name="textAreaTop" fmla="*/ 0 h 2827080"/>
                <a:gd name="textAreaBottom" fmla="*/ 2827440 h 28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9"/>
            <p:cNvSpPr/>
            <p:nvPr/>
          </p:nvSpPr>
          <p:spPr>
            <a:xfrm rot="7200000">
              <a:off x="1764720" y="2446200"/>
              <a:ext cx="2827080" cy="3781080"/>
            </a:xfrm>
            <a:custGeom>
              <a:avLst/>
              <a:gdLst>
                <a:gd name="textAreaLeft" fmla="*/ 0 w 2827080"/>
                <a:gd name="textAreaRight" fmla="*/ 2827440 w 2827080"/>
                <a:gd name="textAreaTop" fmla="*/ 0 h 3781080"/>
                <a:gd name="textAreaBottom" fmla="*/ 3781440 h 37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30"/>
            <p:cNvSpPr/>
            <p:nvPr/>
          </p:nvSpPr>
          <p:spPr>
            <a:xfrm rot="14400000">
              <a:off x="729360" y="2446560"/>
              <a:ext cx="2827080" cy="3780720"/>
            </a:xfrm>
            <a:custGeom>
              <a:avLst/>
              <a:gdLst>
                <a:gd name="textAreaLeft" fmla="*/ 0 w 2827080"/>
                <a:gd name="textAreaRight" fmla="*/ 2827440 w 2827080"/>
                <a:gd name="textAreaTop" fmla="*/ 0 h 3780720"/>
                <a:gd name="textAreaBottom" fmla="*/ 3781080 h 37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1"/>
            <p:cNvSpPr/>
            <p:nvPr/>
          </p:nvSpPr>
          <p:spPr>
            <a:xfrm>
              <a:off x="3696120" y="2772360"/>
              <a:ext cx="151632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Economic grow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2"/>
            <p:cNvSpPr/>
            <p:nvPr/>
          </p:nvSpPr>
          <p:spPr>
            <a:xfrm>
              <a:off x="1902600" y="5094000"/>
              <a:ext cx="1516320" cy="11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Poverty re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Millennium Development Go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3"/>
            <p:cNvSpPr/>
            <p:nvPr/>
          </p:nvSpPr>
          <p:spPr>
            <a:xfrm>
              <a:off x="109440" y="2772360"/>
              <a:ext cx="151632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Private sect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development, throu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buClr>
                  <a:srgbClr val="99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eign Direct Investors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buClr>
                  <a:srgbClr val="99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cal private sec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buClr>
                  <a:srgbClr val="99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 sect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buClr>
                  <a:srgbClr val="99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ercialy viable public entiti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0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228" name="Text Box 11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2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13"/>
          <p:cNvSpPr/>
          <p:nvPr/>
        </p:nvSpPr>
        <p:spPr>
          <a:xfrm>
            <a:off x="971640" y="981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The EIB Mandate &amp; the IF: Principal Objectives &amp;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227160" y="1779480"/>
            <a:ext cx="532764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2222640" y="14288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5608800" y="1908000"/>
            <a:ext cx="287280" cy="4319640"/>
          </a:xfrm>
          <a:custGeom>
            <a:avLst/>
            <a:gdLst>
              <a:gd name="textAreaLeft" fmla="*/ 0 w 287280"/>
              <a:gd name="textAreaRight" fmla="*/ 103680 w 28728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3"/>
          <p:cNvGrpSpPr/>
          <p:nvPr/>
        </p:nvGrpSpPr>
        <p:grpSpPr>
          <a:xfrm>
            <a:off x="6018120" y="1413000"/>
            <a:ext cx="2940120" cy="368280"/>
            <a:chOff x="6018120" y="1413000"/>
            <a:chExt cx="2940120" cy="368280"/>
          </a:xfrm>
        </p:grpSpPr>
        <p:sp>
          <p:nvSpPr>
            <p:cNvPr id="235" name="Line 17"/>
            <p:cNvSpPr/>
            <p:nvPr/>
          </p:nvSpPr>
          <p:spPr>
            <a:xfrm>
              <a:off x="6018120" y="1754280"/>
              <a:ext cx="294012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8"/>
            <p:cNvSpPr/>
            <p:nvPr/>
          </p:nvSpPr>
          <p:spPr>
            <a:xfrm>
              <a:off x="7042680" y="14130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19"/>
          <p:cNvSpPr/>
          <p:nvPr/>
        </p:nvSpPr>
        <p:spPr>
          <a:xfrm>
            <a:off x="5886360" y="206064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k-bearing instruments (value-added of the I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6804000" y="2727360"/>
            <a:ext cx="100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Loa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6804000" y="3013200"/>
            <a:ext cx="151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Quasi-equ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6804000" y="3298680"/>
            <a:ext cx="9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qu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6804000" y="3583080"/>
            <a:ext cx="144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Guarante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32"/>
          <p:cNvGrpSpPr/>
          <p:nvPr/>
        </p:nvGrpSpPr>
        <p:grpSpPr>
          <a:xfrm>
            <a:off x="6018120" y="4141800"/>
            <a:ext cx="2940120" cy="368280"/>
            <a:chOff x="6018120" y="4141800"/>
            <a:chExt cx="2940120" cy="368280"/>
          </a:xfrm>
        </p:grpSpPr>
        <p:sp>
          <p:nvSpPr>
            <p:cNvPr id="243" name="Line 28"/>
            <p:cNvSpPr/>
            <p:nvPr/>
          </p:nvSpPr>
          <p:spPr>
            <a:xfrm>
              <a:off x="6018120" y="4483080"/>
              <a:ext cx="294012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6762960" y="414180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a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30"/>
          <p:cNvSpPr/>
          <p:nvPr/>
        </p:nvSpPr>
        <p:spPr>
          <a:xfrm>
            <a:off x="5940360" y="458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224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the long ter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sustainabil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F throug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sk-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5940360" y="558324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224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igate the risk of MS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ors vs. develop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D613-96B0-4B6E-BC06-94F816701162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98360" y="2482920"/>
            <a:ext cx="6765840" cy="5904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36000" bIns="10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le / Risk-bearing Financial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(d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enominated in EUR, widely traded currencies or local currenc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251" name="Text Box 4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5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6"/>
          <p:cNvSpPr/>
          <p:nvPr/>
        </p:nvSpPr>
        <p:spPr>
          <a:xfrm>
            <a:off x="198360" y="981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Instruments of the Investment Facility </a:t>
            </a:r>
            <a:r>
              <a:rPr b="1" lang="fr-CH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98360" y="1413000"/>
            <a:ext cx="6750000" cy="5760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is a Revolving Fund</a:t>
            </a:r>
            <a:br>
              <a:rPr sz="1800"/>
            </a:br>
            <a:r>
              <a:rPr b="0" lang="fr-B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(total financial resources under Cotonou: EUR 3,137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3105720" y="194004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600" spc="-1" strike="noStrike">
                <a:solidFill>
                  <a:srgbClr val="5f5f5f"/>
                </a:solidFill>
                <a:latin typeface="Arial"/>
              </a:rPr>
              <a:t>provi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3608280" y="2219400"/>
            <a:ext cx="0" cy="216000"/>
          </a:xfrm>
          <a:prstGeom prst="line">
            <a:avLst/>
          </a:prstGeom>
          <a:ln w="442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7020000" y="3068640"/>
            <a:ext cx="287280" cy="3375000"/>
          </a:xfrm>
          <a:custGeom>
            <a:avLst/>
            <a:gdLst>
              <a:gd name="textAreaLeft" fmla="*/ 0 w 287280"/>
              <a:gd name="textAreaRight" fmla="*/ 103680 w 287280"/>
              <a:gd name="textAreaTop" fmla="*/ 87840 h 3375000"/>
              <a:gd name="textAreaBottom" fmla="*/ 3287160 h 33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7456320" y="3094200"/>
            <a:ext cx="1508400" cy="3311280"/>
          </a:xfrm>
          <a:prstGeom prst="rect">
            <a:avLst/>
          </a:prstGeom>
          <a:solidFill>
            <a:srgbClr val="969696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25200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Sector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00"/>
                </a:solidFill>
                <a:latin typeface="Arial"/>
              </a:rPr>
              <a:t>requiring</a:t>
            </a:r>
            <a:r>
              <a:rPr b="0" lang="en-GB" sz="1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3300"/>
                </a:solidFill>
                <a:latin typeface="Arial"/>
              </a:rPr>
              <a:t>risk-bearing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198360" y="3094200"/>
            <a:ext cx="6765840" cy="306360"/>
            <a:chOff x="198360" y="3094200"/>
            <a:chExt cx="6765840" cy="306360"/>
          </a:xfrm>
        </p:grpSpPr>
        <p:sp>
          <p:nvSpPr>
            <p:cNvPr id="260" name="Rectangle 13"/>
            <p:cNvSpPr/>
            <p:nvPr/>
          </p:nvSpPr>
          <p:spPr>
            <a:xfrm>
              <a:off x="485640" y="3094200"/>
              <a:ext cx="647856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Direct loans / senior debt</a:t>
              </a:r>
              <a:r>
                <a:rPr b="1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198360" y="3094200"/>
              <a:ext cx="27000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198360" y="3446640"/>
            <a:ext cx="6765840" cy="306360"/>
            <a:chOff x="198360" y="3446640"/>
            <a:chExt cx="6765840" cy="306360"/>
          </a:xfrm>
        </p:grpSpPr>
        <p:sp>
          <p:nvSpPr>
            <p:cNvPr id="263" name="Rectangle 16"/>
            <p:cNvSpPr/>
            <p:nvPr/>
          </p:nvSpPr>
          <p:spPr>
            <a:xfrm>
              <a:off x="485640" y="3446640"/>
              <a:ext cx="647856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Junior / subordinated debt</a:t>
              </a:r>
              <a:r>
                <a:rPr b="1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198360" y="3446640"/>
              <a:ext cx="27000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8"/>
          <p:cNvGrpSpPr/>
          <p:nvPr/>
        </p:nvGrpSpPr>
        <p:grpSpPr>
          <a:xfrm>
            <a:off x="198360" y="3800520"/>
            <a:ext cx="6765840" cy="306360"/>
            <a:chOff x="198360" y="3800520"/>
            <a:chExt cx="6765840" cy="306360"/>
          </a:xfrm>
        </p:grpSpPr>
        <p:sp>
          <p:nvSpPr>
            <p:cNvPr id="266" name="Rectangle 19"/>
            <p:cNvSpPr/>
            <p:nvPr/>
          </p:nvSpPr>
          <p:spPr>
            <a:xfrm>
              <a:off x="485640" y="3800520"/>
              <a:ext cx="647856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Intermediated Loans</a:t>
              </a:r>
              <a:r>
                <a:rPr b="1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198360" y="3800520"/>
              <a:ext cx="27000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21"/>
          <p:cNvGrpSpPr/>
          <p:nvPr/>
        </p:nvGrpSpPr>
        <p:grpSpPr>
          <a:xfrm>
            <a:off x="198360" y="4152960"/>
            <a:ext cx="6765840" cy="306360"/>
            <a:chOff x="198360" y="4152960"/>
            <a:chExt cx="6765840" cy="306360"/>
          </a:xfrm>
        </p:grpSpPr>
        <p:sp>
          <p:nvSpPr>
            <p:cNvPr id="269" name="Rectangle 22"/>
            <p:cNvSpPr/>
            <p:nvPr/>
          </p:nvSpPr>
          <p:spPr>
            <a:xfrm>
              <a:off x="485640" y="4152960"/>
              <a:ext cx="647856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Quasi-equity operatio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3"/>
            <p:cNvSpPr/>
            <p:nvPr/>
          </p:nvSpPr>
          <p:spPr>
            <a:xfrm>
              <a:off x="198360" y="4152960"/>
              <a:ext cx="27000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4"/>
          <p:cNvGrpSpPr/>
          <p:nvPr/>
        </p:nvGrpSpPr>
        <p:grpSpPr>
          <a:xfrm>
            <a:off x="198360" y="4506840"/>
            <a:ext cx="6765840" cy="306360"/>
            <a:chOff x="198360" y="4506840"/>
            <a:chExt cx="6765840" cy="306360"/>
          </a:xfrm>
        </p:grpSpPr>
        <p:sp>
          <p:nvSpPr>
            <p:cNvPr id="272" name="Rectangle 25"/>
            <p:cNvSpPr/>
            <p:nvPr/>
          </p:nvSpPr>
          <p:spPr>
            <a:xfrm>
              <a:off x="485640" y="4506840"/>
              <a:ext cx="647856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Equity Investments and Investments in Venture Capital Funds </a:t>
              </a:r>
              <a:r>
                <a:rPr b="1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6"/>
            <p:cNvSpPr/>
            <p:nvPr/>
          </p:nvSpPr>
          <p:spPr>
            <a:xfrm>
              <a:off x="198360" y="4506840"/>
              <a:ext cx="27000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7"/>
          <p:cNvGrpSpPr/>
          <p:nvPr/>
        </p:nvGrpSpPr>
        <p:grpSpPr>
          <a:xfrm>
            <a:off x="198360" y="4859280"/>
            <a:ext cx="6765840" cy="306360"/>
            <a:chOff x="198360" y="4859280"/>
            <a:chExt cx="6765840" cy="306360"/>
          </a:xfrm>
        </p:grpSpPr>
        <p:sp>
          <p:nvSpPr>
            <p:cNvPr id="275" name="Rectangle 28"/>
            <p:cNvSpPr/>
            <p:nvPr/>
          </p:nvSpPr>
          <p:spPr>
            <a:xfrm>
              <a:off x="485640" y="4859280"/>
              <a:ext cx="647856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Guarantee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9"/>
            <p:cNvSpPr/>
            <p:nvPr/>
          </p:nvSpPr>
          <p:spPr>
            <a:xfrm>
              <a:off x="198360" y="4859280"/>
              <a:ext cx="27000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0"/>
          <p:cNvGrpSpPr/>
          <p:nvPr/>
        </p:nvGrpSpPr>
        <p:grpSpPr>
          <a:xfrm>
            <a:off x="198360" y="5213520"/>
            <a:ext cx="6765840" cy="533160"/>
            <a:chOff x="198360" y="5213520"/>
            <a:chExt cx="6765840" cy="533160"/>
          </a:xfrm>
        </p:grpSpPr>
        <p:sp>
          <p:nvSpPr>
            <p:cNvPr id="278" name="Rectangle 31"/>
            <p:cNvSpPr/>
            <p:nvPr/>
          </p:nvSpPr>
          <p:spPr>
            <a:xfrm>
              <a:off x="485640" y="5213520"/>
              <a:ext cx="6478560" cy="53172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tabLst>
                  <a:tab algn="l" pos="0"/>
                  <a:tab algn="l" pos="447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Currencies and foreign exchange risk </a:t>
              </a:r>
              <a:br>
                <a:rPr sz="1800"/>
              </a:br>
              <a:r>
                <a:rPr b="0" lang="fr-BE" sz="1600" spc="-1" strike="noStrike">
                  <a:solidFill>
                    <a:srgbClr val="5f5f5f"/>
                  </a:solidFill>
                  <a:latin typeface="Arial"/>
                </a:rPr>
                <a:t>(widely traded currencies &amp; local currencies)</a:t>
              </a: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2"/>
            <p:cNvSpPr/>
            <p:nvPr/>
          </p:nvSpPr>
          <p:spPr>
            <a:xfrm>
              <a:off x="198360" y="5213520"/>
              <a:ext cx="270000" cy="5331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3"/>
          <p:cNvGrpSpPr/>
          <p:nvPr/>
        </p:nvGrpSpPr>
        <p:grpSpPr>
          <a:xfrm>
            <a:off x="198360" y="5792760"/>
            <a:ext cx="6765840" cy="306360"/>
            <a:chOff x="198360" y="5792760"/>
            <a:chExt cx="6765840" cy="306360"/>
          </a:xfrm>
        </p:grpSpPr>
        <p:sp>
          <p:nvSpPr>
            <p:cNvPr id="281" name="Rectangle 34"/>
            <p:cNvSpPr/>
            <p:nvPr/>
          </p:nvSpPr>
          <p:spPr>
            <a:xfrm>
              <a:off x="485640" y="5792760"/>
              <a:ext cx="647856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Interest rate subsid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35"/>
            <p:cNvSpPr/>
            <p:nvPr/>
          </p:nvSpPr>
          <p:spPr>
            <a:xfrm>
              <a:off x="198360" y="5792760"/>
              <a:ext cx="27000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36"/>
          <p:cNvGrpSpPr/>
          <p:nvPr/>
        </p:nvGrpSpPr>
        <p:grpSpPr>
          <a:xfrm>
            <a:off x="198360" y="6146640"/>
            <a:ext cx="6765840" cy="306720"/>
            <a:chOff x="198360" y="6146640"/>
            <a:chExt cx="6765840" cy="306720"/>
          </a:xfrm>
        </p:grpSpPr>
        <p:sp>
          <p:nvSpPr>
            <p:cNvPr id="284" name="Rectangle 37"/>
            <p:cNvSpPr/>
            <p:nvPr/>
          </p:nvSpPr>
          <p:spPr>
            <a:xfrm>
              <a:off x="485640" y="6146640"/>
              <a:ext cx="6478560" cy="30672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Project-related technical assista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198360" y="6146640"/>
              <a:ext cx="270000" cy="30672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36F3-8819-4878-9A60-E228064D331A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971640" y="981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Main Objectives of EIB Mandate in the ACP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0"/>
          <p:cNvGrpSpPr/>
          <p:nvPr/>
        </p:nvGrpSpPr>
        <p:grpSpPr>
          <a:xfrm>
            <a:off x="971640" y="1557360"/>
            <a:ext cx="7921440" cy="1370160"/>
            <a:chOff x="971640" y="1557360"/>
            <a:chExt cx="7921440" cy="1370160"/>
          </a:xfrm>
        </p:grpSpPr>
        <p:grpSp>
          <p:nvGrpSpPr>
            <p:cNvPr id="290" name="Group 24"/>
            <p:cNvGrpSpPr/>
            <p:nvPr/>
          </p:nvGrpSpPr>
          <p:grpSpPr>
            <a:xfrm>
              <a:off x="971640" y="1557360"/>
              <a:ext cx="7921440" cy="1366920"/>
              <a:chOff x="971640" y="1557360"/>
              <a:chExt cx="7921440" cy="1366920"/>
            </a:xfrm>
          </p:grpSpPr>
          <p:sp>
            <p:nvSpPr>
              <p:cNvPr id="291" name="Text Box 3"/>
              <p:cNvSpPr/>
              <p:nvPr/>
            </p:nvSpPr>
            <p:spPr>
              <a:xfrm>
                <a:off x="971640" y="1557360"/>
                <a:ext cx="7921440" cy="1366920"/>
              </a:xfrm>
              <a:prstGeom prst="rect">
                <a:avLst/>
              </a:prstGeom>
              <a:solidFill>
                <a:srgbClr val="ddddd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8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266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5"/>
              <p:cNvSpPr/>
              <p:nvPr/>
            </p:nvSpPr>
            <p:spPr>
              <a:xfrm>
                <a:off x="971640" y="1567080"/>
                <a:ext cx="7921440" cy="36828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993300"/>
                    </a:solidFill>
                    <a:latin typeface="Arial"/>
                  </a:rPr>
                  <a:t>Development Objec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4"/>
            <p:cNvSpPr/>
            <p:nvPr/>
          </p:nvSpPr>
          <p:spPr>
            <a:xfrm>
              <a:off x="971640" y="1996920"/>
              <a:ext cx="7921440" cy="9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1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Measure added-value of projects from an economical, environmental, social</a:t>
              </a:r>
              <a:br>
                <a:rPr sz="1600"/>
              </a:b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and governance perspective </a:t>
              </a:r>
              <a:br>
                <a:rPr sz="1600"/>
              </a:b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(Environmental and Social impact Assessment Framework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1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295" name="Text Box 22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3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7"/>
          <p:cNvGrpSpPr/>
          <p:nvPr/>
        </p:nvGrpSpPr>
        <p:grpSpPr>
          <a:xfrm>
            <a:off x="971640" y="3068640"/>
            <a:ext cx="7921440" cy="1979640"/>
            <a:chOff x="971640" y="3068640"/>
            <a:chExt cx="7921440" cy="1979640"/>
          </a:xfrm>
        </p:grpSpPr>
        <p:sp>
          <p:nvSpPr>
            <p:cNvPr id="298" name="Text Box 33"/>
            <p:cNvSpPr/>
            <p:nvPr/>
          </p:nvSpPr>
          <p:spPr>
            <a:xfrm>
              <a:off x="971640" y="3068640"/>
              <a:ext cx="7921440" cy="197964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4"/>
            <p:cNvSpPr/>
            <p:nvPr/>
          </p:nvSpPr>
          <p:spPr>
            <a:xfrm>
              <a:off x="971640" y="306864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Complementarit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35"/>
            <p:cNvSpPr/>
            <p:nvPr/>
          </p:nvSpPr>
          <p:spPr>
            <a:xfrm>
              <a:off x="971640" y="3500640"/>
              <a:ext cx="7921440" cy="66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2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Blending with operations and instruments of the EU, bilateral and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multilateral institutions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7"/>
            <p:cNvSpPr/>
            <p:nvPr/>
          </p:nvSpPr>
          <p:spPr>
            <a:xfrm>
              <a:off x="971640" y="4132440"/>
              <a:ext cx="79214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Pacific Regional Infrastructure Facility (PRI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SzPct val="102837"/>
                <a:buBlip>
                  <a:blip r:embed="rId4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EU’s Investment Facility for the Pacific (IFP)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45"/>
          <p:cNvGrpSpPr/>
          <p:nvPr/>
        </p:nvGrpSpPr>
        <p:grpSpPr>
          <a:xfrm>
            <a:off x="971640" y="5157720"/>
            <a:ext cx="7921440" cy="1224000"/>
            <a:chOff x="971640" y="5157720"/>
            <a:chExt cx="7921440" cy="1224000"/>
          </a:xfrm>
        </p:grpSpPr>
        <p:sp>
          <p:nvSpPr>
            <p:cNvPr id="303" name="Text Box 43"/>
            <p:cNvSpPr/>
            <p:nvPr/>
          </p:nvSpPr>
          <p:spPr>
            <a:xfrm>
              <a:off x="971640" y="5157720"/>
              <a:ext cx="7921440" cy="1224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971640" y="515772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Cataly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1"/>
            <p:cNvSpPr/>
            <p:nvPr/>
          </p:nvSpPr>
          <p:spPr>
            <a:xfrm>
              <a:off x="971640" y="5572080"/>
              <a:ext cx="7921440" cy="66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5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Play a catalytic role in mobilising local resources and encouraging foreign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lending and investment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A6C2-0E3E-44B4-88C8-AD886F462209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6"/>
          <p:cNvGrpSpPr/>
          <p:nvPr/>
        </p:nvGrpSpPr>
        <p:grpSpPr>
          <a:xfrm>
            <a:off x="971640" y="1557360"/>
            <a:ext cx="7921440" cy="2087280"/>
            <a:chOff x="971640" y="1557360"/>
            <a:chExt cx="7921440" cy="2087280"/>
          </a:xfrm>
        </p:grpSpPr>
        <p:grpSp>
          <p:nvGrpSpPr>
            <p:cNvPr id="309" name="Group 11"/>
            <p:cNvGrpSpPr/>
            <p:nvPr/>
          </p:nvGrpSpPr>
          <p:grpSpPr>
            <a:xfrm>
              <a:off x="971640" y="1557360"/>
              <a:ext cx="7921440" cy="2087280"/>
              <a:chOff x="971640" y="1557360"/>
              <a:chExt cx="7921440" cy="2087280"/>
            </a:xfrm>
          </p:grpSpPr>
          <p:sp>
            <p:nvSpPr>
              <p:cNvPr id="310" name="Text Box 12"/>
              <p:cNvSpPr/>
              <p:nvPr/>
            </p:nvSpPr>
            <p:spPr>
              <a:xfrm>
                <a:off x="971640" y="1557360"/>
                <a:ext cx="7921440" cy="2087280"/>
              </a:xfrm>
              <a:prstGeom prst="rect">
                <a:avLst/>
              </a:prstGeom>
              <a:solidFill>
                <a:srgbClr val="ddddd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8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266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13"/>
              <p:cNvSpPr/>
              <p:nvPr/>
            </p:nvSpPr>
            <p:spPr>
              <a:xfrm>
                <a:off x="971640" y="1572480"/>
                <a:ext cx="7921440" cy="36828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993300"/>
                    </a:solidFill>
                    <a:latin typeface="Arial"/>
                  </a:rPr>
                  <a:t>Available to increase concessionality f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Text Box 14"/>
            <p:cNvSpPr/>
            <p:nvPr/>
          </p:nvSpPr>
          <p:spPr>
            <a:xfrm>
              <a:off x="971640" y="1996920"/>
              <a:ext cx="7921440" cy="15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spAutoFit/>
            </a:bodyPr>
            <a:p>
              <a:pPr marL="361800" indent="-361800">
                <a:spcBef>
                  <a:spcPts val="451"/>
                </a:spcBef>
                <a:buClr>
                  <a:srgbClr val="993300"/>
                </a:buClr>
                <a:buFont typeface="Wingdings" charset="2"/>
                <a:buChar char=""/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frastructure projects in Least Developed Countries, post-conflict and post-natural disaster countries, HIPC coun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361800">
                <a:spcBef>
                  <a:spcPts val="451"/>
                </a:spcBef>
                <a:buClr>
                  <a:srgbClr val="993300"/>
                </a:buClr>
                <a:buFont typeface="Wingdings" charset="2"/>
                <a:buChar char=""/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jects with substantial and clearly demonstrable environmental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 social bene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361800">
                <a:spcBef>
                  <a:spcPts val="451"/>
                </a:spcBef>
                <a:buClr>
                  <a:srgbClr val="993300"/>
                </a:buClr>
                <a:buFont typeface="Wingdings" charset="2"/>
                <a:buChar char=""/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restructuring operations in the framework of privatis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5"/>
          <p:cNvSpPr/>
          <p:nvPr/>
        </p:nvSpPr>
        <p:spPr>
          <a:xfrm>
            <a:off x="1547640" y="5157720"/>
            <a:ext cx="734544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Between 2003 and 2012, 45 projects benefited from over EUR 330 M in interest rate subsidies in the ACPs and O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315" name="Text Box 7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8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9"/>
          <p:cNvSpPr/>
          <p:nvPr/>
        </p:nvSpPr>
        <p:spPr>
          <a:xfrm>
            <a:off x="971640" y="981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Interest Rate Subsidi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8"/>
          <p:cNvGrpSpPr/>
          <p:nvPr/>
        </p:nvGrpSpPr>
        <p:grpSpPr>
          <a:xfrm>
            <a:off x="971640" y="3789360"/>
            <a:ext cx="7921440" cy="1141200"/>
            <a:chOff x="971640" y="3789360"/>
            <a:chExt cx="7921440" cy="1141200"/>
          </a:xfrm>
        </p:grpSpPr>
        <p:sp>
          <p:nvSpPr>
            <p:cNvPr id="319" name="Text Box 19"/>
            <p:cNvSpPr/>
            <p:nvPr/>
          </p:nvSpPr>
          <p:spPr>
            <a:xfrm>
              <a:off x="971640" y="3789360"/>
              <a:ext cx="7921440" cy="1141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971640" y="380232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General rules app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21"/>
          <p:cNvSpPr/>
          <p:nvPr/>
        </p:nvSpPr>
        <p:spPr>
          <a:xfrm>
            <a:off x="971640" y="4229280"/>
            <a:ext cx="7921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 marL="361800" indent="-36180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est rate subsidy: maximum 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l rate of loan: cannot be less than 50% of the reference 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1042920" y="5299200"/>
            <a:ext cx="360360" cy="360360"/>
          </a:xfrm>
          <a:custGeom>
            <a:avLst/>
            <a:gdLst>
              <a:gd name="textAreaLeft" fmla="*/ 56160 w 360360"/>
              <a:gd name="textAreaRight" fmla="*/ 315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459-9ACD-4B43-A645-B50F0E5E63EC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0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326" name="Text Box 11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2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3"/>
          <p:cNvSpPr/>
          <p:nvPr/>
        </p:nvSpPr>
        <p:spPr>
          <a:xfrm>
            <a:off x="971640" y="981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Technical As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971640" y="2041560"/>
            <a:ext cx="67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1042920" y="3481560"/>
            <a:ext cx="496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project quality and success-r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1042920" y="3767040"/>
            <a:ext cx="605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the efficiency of EIB’s investment activ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1042920" y="4052880"/>
            <a:ext cx="59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menting other EIB produ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971640" y="1341360"/>
            <a:ext cx="6750000" cy="57636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 to EUR 40 m (ACPs) and 0.15 m (O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Over the 2008-2013 period to prov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2"/>
          <p:cNvSpPr/>
          <p:nvPr/>
        </p:nvSpPr>
        <p:spPr>
          <a:xfrm>
            <a:off x="4356000" y="2133720"/>
            <a:ext cx="0" cy="215640"/>
          </a:xfrm>
          <a:prstGeom prst="line">
            <a:avLst/>
          </a:prstGeom>
          <a:ln w="442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5"/>
          <p:cNvSpPr/>
          <p:nvPr/>
        </p:nvSpPr>
        <p:spPr>
          <a:xfrm>
            <a:off x="971640" y="2421000"/>
            <a:ext cx="6765840" cy="5904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36000" bIns="10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-related technical assistance grant fund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vering the whole projec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8"/>
          <p:cNvSpPr/>
          <p:nvPr/>
        </p:nvSpPr>
        <p:spPr>
          <a:xfrm>
            <a:off x="1044720" y="30686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4"/>
          <p:cNvSpPr/>
          <p:nvPr/>
        </p:nvSpPr>
        <p:spPr>
          <a:xfrm>
            <a:off x="1045440" y="4384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9"/>
          <p:cNvSpPr/>
          <p:nvPr/>
        </p:nvSpPr>
        <p:spPr>
          <a:xfrm>
            <a:off x="1042920" y="5305320"/>
            <a:ext cx="676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na River Hydropower Development Project – SI (EUR 0.95 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0"/>
          <p:cNvSpPr/>
          <p:nvPr/>
        </p:nvSpPr>
        <p:spPr>
          <a:xfrm>
            <a:off x="1042920" y="5594400"/>
            <a:ext cx="605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ME Access to Finance Facility in the Pacific (EUR 1 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1"/>
          <p:cNvSpPr/>
          <p:nvPr/>
        </p:nvSpPr>
        <p:spPr>
          <a:xfrm>
            <a:off x="1042920" y="5884920"/>
            <a:ext cx="59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WPPF TA Project – Samoa (EUR 0.25 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1042920" y="6173640"/>
            <a:ext cx="59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WPPF TA Project – Cook Islands (EUR 0.15 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6"/>
          <p:cNvSpPr/>
          <p:nvPr/>
        </p:nvSpPr>
        <p:spPr>
          <a:xfrm>
            <a:off x="971640" y="4724280"/>
            <a:ext cx="67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8"/>
          <p:cNvSpPr/>
          <p:nvPr/>
        </p:nvSpPr>
        <p:spPr>
          <a:xfrm>
            <a:off x="971640" y="3429000"/>
            <a:ext cx="67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1042920" y="4724280"/>
            <a:ext cx="676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acific Regional Financial Sector Review (EUR 0.5 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9"/>
          <p:cNvSpPr/>
          <p:nvPr/>
        </p:nvSpPr>
        <p:spPr>
          <a:xfrm>
            <a:off x="1042920" y="5014800"/>
            <a:ext cx="676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viation TA – Samoa and Cook Islands (EUR 0.85 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9269-F8CF-4F97-AB5E-1D3DF654D8AA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971640" y="981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The Financial Amounts under the 11</a:t>
            </a:r>
            <a:r>
              <a:rPr b="1" lang="en-GB" sz="18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EDF for the EIB Operations in the ACP/OCT Countries for the period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30"/>
          <p:cNvGrpSpPr/>
          <p:nvPr/>
        </p:nvGrpSpPr>
        <p:grpSpPr>
          <a:xfrm>
            <a:off x="971640" y="1973160"/>
            <a:ext cx="7921440" cy="1455840"/>
            <a:chOff x="971640" y="1973160"/>
            <a:chExt cx="7921440" cy="1455840"/>
          </a:xfrm>
        </p:grpSpPr>
        <p:grpSp>
          <p:nvGrpSpPr>
            <p:cNvPr id="350" name="Group 24"/>
            <p:cNvGrpSpPr/>
            <p:nvPr/>
          </p:nvGrpSpPr>
          <p:grpSpPr>
            <a:xfrm>
              <a:off x="971640" y="1973160"/>
              <a:ext cx="7921440" cy="1455840"/>
              <a:chOff x="971640" y="1973160"/>
              <a:chExt cx="7921440" cy="1455840"/>
            </a:xfrm>
          </p:grpSpPr>
          <p:sp>
            <p:nvSpPr>
              <p:cNvPr id="351" name="Text Box 3"/>
              <p:cNvSpPr/>
              <p:nvPr/>
            </p:nvSpPr>
            <p:spPr>
              <a:xfrm>
                <a:off x="971640" y="1973160"/>
                <a:ext cx="7921440" cy="1455840"/>
              </a:xfrm>
              <a:prstGeom prst="rect">
                <a:avLst/>
              </a:prstGeom>
              <a:solidFill>
                <a:srgbClr val="ddddd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8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266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5"/>
              <p:cNvSpPr/>
              <p:nvPr/>
            </p:nvSpPr>
            <p:spPr>
              <a:xfrm>
                <a:off x="971640" y="1982880"/>
                <a:ext cx="7921440" cy="36828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993300"/>
                    </a:solidFill>
                    <a:latin typeface="Arial"/>
                  </a:rPr>
                  <a:t>Investment Facil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4"/>
            <p:cNvSpPr/>
            <p:nvPr/>
          </p:nvSpPr>
          <p:spPr>
            <a:xfrm>
              <a:off x="971640" y="2412720"/>
              <a:ext cx="79214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spAutoFit/>
            </a:bodyPr>
            <a:p>
              <a:pPr>
                <a:lnSpc>
                  <a:spcPct val="110000"/>
                </a:lnSpc>
                <a:spcAft>
                  <a:spcPts val="601"/>
                </a:spcAft>
                <a:buSzPct val="102812"/>
                <a:buBlip>
                  <a:blip r:embed="rId1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New endowment of EUR 500 M dedicated to Impact Investing (higher risks for 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more development), bringing total endowments to </a:t>
              </a:r>
              <a:r>
                <a:rPr b="1" lang="en-GB" sz="1600" spc="-1" strike="noStrike" u="sng">
                  <a:solidFill>
                    <a:srgbClr val="4d4d4d"/>
                  </a:solidFill>
                  <a:uFillTx/>
                  <a:latin typeface="Arial"/>
                </a:rPr>
                <a:t>EUR 3.637 b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Aft>
                  <a:spcPts val="601"/>
                </a:spcAft>
                <a:buSzPct val="102837"/>
                <a:buBlip>
                  <a:blip r:embed="rId2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No refill for O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1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355" name="Text Box 22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3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7"/>
          <p:cNvGrpSpPr/>
          <p:nvPr/>
        </p:nvGrpSpPr>
        <p:grpSpPr>
          <a:xfrm>
            <a:off x="971640" y="3575160"/>
            <a:ext cx="7921440" cy="1222200"/>
            <a:chOff x="971640" y="3575160"/>
            <a:chExt cx="7921440" cy="1222200"/>
          </a:xfrm>
        </p:grpSpPr>
        <p:sp>
          <p:nvSpPr>
            <p:cNvPr id="358" name="Text Box 33"/>
            <p:cNvSpPr/>
            <p:nvPr/>
          </p:nvSpPr>
          <p:spPr>
            <a:xfrm>
              <a:off x="971640" y="3575160"/>
              <a:ext cx="7921440" cy="1222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971640" y="357516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Subsid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971640" y="4006800"/>
              <a:ext cx="79214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EUR 634 M, of which 15% can be allocated to 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SzPct val="102837"/>
                <a:buBlip>
                  <a:blip r:embed="rId4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EUR 5 M for O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45"/>
          <p:cNvGrpSpPr/>
          <p:nvPr/>
        </p:nvGrpSpPr>
        <p:grpSpPr>
          <a:xfrm>
            <a:off x="971640" y="4941720"/>
            <a:ext cx="7921440" cy="1224000"/>
            <a:chOff x="971640" y="4941720"/>
            <a:chExt cx="7921440" cy="1224000"/>
          </a:xfrm>
        </p:grpSpPr>
        <p:sp>
          <p:nvSpPr>
            <p:cNvPr id="362" name="Text Box 43"/>
            <p:cNvSpPr/>
            <p:nvPr/>
          </p:nvSpPr>
          <p:spPr>
            <a:xfrm>
              <a:off x="971640" y="4941720"/>
              <a:ext cx="7921440" cy="1224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40"/>
            <p:cNvSpPr/>
            <p:nvPr/>
          </p:nvSpPr>
          <p:spPr>
            <a:xfrm>
              <a:off x="971640" y="494172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EIB Own Resour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1"/>
            <p:cNvSpPr/>
            <p:nvPr/>
          </p:nvSpPr>
          <p:spPr>
            <a:xfrm>
              <a:off x="971640" y="5356080"/>
              <a:ext cx="79214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5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 u="sng">
                  <a:solidFill>
                    <a:srgbClr val="4d4d4d"/>
                  </a:solidFill>
                  <a:uFillTx/>
                  <a:latin typeface="Arial"/>
                </a:rPr>
                <a:t>EUR 2.5 bn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and a possible increase to be decided at a mid-term re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SzPct val="102837"/>
                <a:buBlip>
                  <a:blip r:embed="rId6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EUR 100 M allocated to O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B7A2-4733-438D-A3D7-C0F13E5E4209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4" descr="carpaclogo1"/>
          <p:cNvPicPr/>
          <p:nvPr/>
        </p:nvPicPr>
        <p:blipFill>
          <a:blip r:embed="rId1"/>
          <a:stretch/>
        </p:blipFill>
        <p:spPr>
          <a:xfrm>
            <a:off x="127080" y="4525920"/>
            <a:ext cx="8916840" cy="1951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971640" y="1844640"/>
            <a:ext cx="6335640" cy="368280"/>
            <a:chOff x="971640" y="1844640"/>
            <a:chExt cx="6335640" cy="368280"/>
          </a:xfrm>
        </p:grpSpPr>
        <p:sp>
          <p:nvSpPr>
            <p:cNvPr id="370" name="Text Box 4"/>
            <p:cNvSpPr/>
            <p:nvPr/>
          </p:nvSpPr>
          <p:spPr>
            <a:xfrm>
              <a:off x="971640" y="18478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5"/>
            <p:cNvSpPr/>
            <p:nvPr/>
          </p:nvSpPr>
          <p:spPr>
            <a:xfrm>
              <a:off x="1619280" y="18446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6"/>
          <p:cNvGrpSpPr/>
          <p:nvPr/>
        </p:nvGrpSpPr>
        <p:grpSpPr>
          <a:xfrm>
            <a:off x="971640" y="2516040"/>
            <a:ext cx="6335640" cy="368280"/>
            <a:chOff x="971640" y="2516040"/>
            <a:chExt cx="6335640" cy="368280"/>
          </a:xfrm>
        </p:grpSpPr>
        <p:sp>
          <p:nvSpPr>
            <p:cNvPr id="373" name="Text Box 7"/>
            <p:cNvSpPr/>
            <p:nvPr/>
          </p:nvSpPr>
          <p:spPr>
            <a:xfrm>
              <a:off x="971640" y="25192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1619280" y="25160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9"/>
          <p:cNvGrpSpPr/>
          <p:nvPr/>
        </p:nvGrpSpPr>
        <p:grpSpPr>
          <a:xfrm>
            <a:off x="971640" y="3187800"/>
            <a:ext cx="6335640" cy="368280"/>
            <a:chOff x="971640" y="3187800"/>
            <a:chExt cx="6335640" cy="368280"/>
          </a:xfrm>
        </p:grpSpPr>
        <p:sp>
          <p:nvSpPr>
            <p:cNvPr id="376" name="Text Box 10"/>
            <p:cNvSpPr/>
            <p:nvPr/>
          </p:nvSpPr>
          <p:spPr>
            <a:xfrm>
              <a:off x="971640" y="3190680"/>
              <a:ext cx="360360" cy="3600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1"/>
            <p:cNvSpPr/>
            <p:nvPr/>
          </p:nvSpPr>
          <p:spPr>
            <a:xfrm>
              <a:off x="1619280" y="318780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EIB Activities in the Pacific Reg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12"/>
          <p:cNvSpPr/>
          <p:nvPr/>
        </p:nvSpPr>
        <p:spPr>
          <a:xfrm>
            <a:off x="971640" y="3863880"/>
            <a:ext cx="360360" cy="360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1619280" y="386064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Cooperation with EC, other EU Institutions and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5"/>
          <p:cNvSpPr/>
          <p:nvPr/>
        </p:nvSpPr>
        <p:spPr>
          <a:xfrm>
            <a:off x="468360" y="32115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0A31-995F-458F-BDB1-227167F12FF0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Arial"/>
              </a:rPr>
              <a:t>Briefing Contents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971640" y="1844640"/>
            <a:ext cx="6335640" cy="368280"/>
            <a:chOff x="971640" y="1844640"/>
            <a:chExt cx="6335640" cy="368280"/>
          </a:xfrm>
        </p:grpSpPr>
        <p:sp>
          <p:nvSpPr>
            <p:cNvPr id="57" name="Text Box 4"/>
            <p:cNvSpPr/>
            <p:nvPr/>
          </p:nvSpPr>
          <p:spPr>
            <a:xfrm>
              <a:off x="971640" y="18478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5"/>
            <p:cNvSpPr/>
            <p:nvPr/>
          </p:nvSpPr>
          <p:spPr>
            <a:xfrm>
              <a:off x="1619280" y="18446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971640" y="2516040"/>
            <a:ext cx="6335640" cy="368280"/>
            <a:chOff x="971640" y="2516040"/>
            <a:chExt cx="6335640" cy="368280"/>
          </a:xfrm>
        </p:grpSpPr>
        <p:sp>
          <p:nvSpPr>
            <p:cNvPr id="60" name="Text Box 8"/>
            <p:cNvSpPr/>
            <p:nvPr/>
          </p:nvSpPr>
          <p:spPr>
            <a:xfrm>
              <a:off x="971640" y="25192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9"/>
            <p:cNvSpPr/>
            <p:nvPr/>
          </p:nvSpPr>
          <p:spPr>
            <a:xfrm>
              <a:off x="1619280" y="25160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971640" y="3187800"/>
            <a:ext cx="6335640" cy="368280"/>
            <a:chOff x="971640" y="3187800"/>
            <a:chExt cx="6335640" cy="368280"/>
          </a:xfrm>
        </p:grpSpPr>
        <p:sp>
          <p:nvSpPr>
            <p:cNvPr id="63" name="Text Box 11"/>
            <p:cNvSpPr/>
            <p:nvPr/>
          </p:nvSpPr>
          <p:spPr>
            <a:xfrm>
              <a:off x="971640" y="3190680"/>
              <a:ext cx="360360" cy="3600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2"/>
            <p:cNvSpPr/>
            <p:nvPr/>
          </p:nvSpPr>
          <p:spPr>
            <a:xfrm>
              <a:off x="1619280" y="318780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EIB Activities in the Pacific Reg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4"/>
          <p:cNvSpPr/>
          <p:nvPr/>
        </p:nvSpPr>
        <p:spPr>
          <a:xfrm>
            <a:off x="971640" y="3863880"/>
            <a:ext cx="360360" cy="360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619280" y="386064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Cooperation with EC, other EU Institutions and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carpaclogo1"/>
          <p:cNvPicPr/>
          <p:nvPr/>
        </p:nvPicPr>
        <p:blipFill>
          <a:blip r:embed="rId1"/>
          <a:stretch/>
        </p:blipFill>
        <p:spPr>
          <a:xfrm>
            <a:off x="127080" y="4525920"/>
            <a:ext cx="89168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940E-F4BF-44FF-AC9B-569BE4443FDC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Object 35"/>
          <p:cNvGraphicFramePr/>
          <p:nvPr/>
        </p:nvGraphicFramePr>
        <p:xfrm>
          <a:off x="1260360" y="3476520"/>
          <a:ext cx="7201080" cy="30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3476520"/>
                    <a:ext cx="720108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386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5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Facts &amp; Figures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971640" y="151452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19 beneficiary countries and terr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971640" y="192096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Total of loans and equity ≈ EUR 600 m (or AUD 900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971640" y="2338560"/>
            <a:ext cx="7777080" cy="6426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1125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Close cooperation with other donors:</a:t>
            </a:r>
            <a:br>
              <a:rPr sz="1800"/>
            </a:b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World Bank/IFC, ADB, AusAID, NZAID &amp; and EC where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971640" y="304020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ver 100 contracts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2592360" y="36133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3300"/>
                </a:solidFill>
                <a:latin typeface="Arial"/>
              </a:rPr>
              <a:t>Total signed amounts by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8"/>
          <p:cNvGrpSpPr/>
          <p:nvPr/>
        </p:nvGrpSpPr>
        <p:grpSpPr>
          <a:xfrm>
            <a:off x="971640" y="3486240"/>
            <a:ext cx="7777080" cy="215640"/>
            <a:chOff x="971640" y="3486240"/>
            <a:chExt cx="7777080" cy="215640"/>
          </a:xfrm>
        </p:grpSpPr>
        <p:sp>
          <p:nvSpPr>
            <p:cNvPr id="395" name="Line 29"/>
            <p:cNvSpPr/>
            <p:nvPr/>
          </p:nvSpPr>
          <p:spPr>
            <a:xfrm>
              <a:off x="971640" y="3486240"/>
              <a:ext cx="777708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0"/>
            <p:cNvSpPr/>
            <p:nvPr/>
          </p:nvSpPr>
          <p:spPr>
            <a:xfrm>
              <a:off x="4716360" y="3486240"/>
              <a:ext cx="0" cy="215640"/>
            </a:xfrm>
            <a:prstGeom prst="line">
              <a:avLst/>
            </a:prstGeom>
            <a:ln w="31680">
              <a:solidFill>
                <a:srgbClr val="99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1" descr=""/>
          <p:cNvPicPr/>
          <p:nvPr/>
        </p:nvPicPr>
        <p:blipFill>
          <a:blip r:embed="rId1"/>
          <a:stretch/>
        </p:blipFill>
        <p:spPr>
          <a:xfrm>
            <a:off x="395280" y="1373040"/>
            <a:ext cx="4464000" cy="2611440"/>
          </a:xfrm>
          <a:prstGeom prst="rect">
            <a:avLst/>
          </a:prstGeom>
          <a:ln w="0">
            <a:noFill/>
          </a:ln>
        </p:spPr>
      </p:pic>
      <p:sp>
        <p:nvSpPr>
          <p:cNvPr id="398" name="Footer Placeholder 5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6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1088-6263-47AA-93C1-227581A726FA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04640" y="3803760"/>
            <a:ext cx="759960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verage Annual Lending since 2001 – EUR 4.6M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Y 2010 Lending = EUR 24.0M in 4 operations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FY 2011 – 4 operations cancelled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onga Solar  (post-appraisal) – government change of approach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NG Bemobile (apprasial) – weak sponsor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Vanuatu Submarine Cable  (pre-appraisal) – IG investigation, sponsor withdrew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ook Islands Water &amp; Sanitation  (feasibility studies) – government change of approach 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FY 2012/13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ahiti Centre Hospitalier SWAC – Signed EUR 8.0M (MRI led by AFD)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Banque de Tahiti GL – Signed EUR 8.0M disbursment pending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ocredo GL VI – Signed EUR 32.5M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rent portfolio of 47 active operations (11 regional, 36 national)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grpSp>
        <p:nvGrpSpPr>
          <p:cNvPr id="401" name="Group 56"/>
          <p:cNvGrpSpPr/>
          <p:nvPr/>
        </p:nvGrpSpPr>
        <p:grpSpPr>
          <a:xfrm>
            <a:off x="5591520" y="1477800"/>
            <a:ext cx="3152880" cy="2864520"/>
            <a:chOff x="5591520" y="1477800"/>
            <a:chExt cx="3152880" cy="2864520"/>
          </a:xfrm>
        </p:grpSpPr>
        <p:grpSp>
          <p:nvGrpSpPr>
            <p:cNvPr id="402" name="Group 57"/>
            <p:cNvGrpSpPr/>
            <p:nvPr/>
          </p:nvGrpSpPr>
          <p:grpSpPr>
            <a:xfrm>
              <a:off x="5591520" y="1615680"/>
              <a:ext cx="2189160" cy="2618640"/>
              <a:chOff x="5591520" y="1615680"/>
              <a:chExt cx="2189160" cy="2618640"/>
            </a:xfrm>
          </p:grpSpPr>
          <p:sp>
            <p:nvSpPr>
              <p:cNvPr id="403" name="Freeform 58"/>
              <p:cNvSpPr/>
              <p:nvPr/>
            </p:nvSpPr>
            <p:spPr>
              <a:xfrm rot="3500400">
                <a:off x="6687360" y="2879640"/>
                <a:ext cx="722160" cy="656640"/>
              </a:xfrm>
              <a:custGeom>
                <a:avLst/>
                <a:gdLst/>
                <a:ahLst/>
                <a:rect l="l" t="t" r="r" b="b"/>
                <a:pathLst>
                  <a:path w="715" h="680">
                    <a:moveTo>
                      <a:pt x="0" y="291"/>
                    </a:moveTo>
                    <a:lnTo>
                      <a:pt x="715" y="0"/>
                    </a:lnTo>
                    <a:lnTo>
                      <a:pt x="715" y="389"/>
                    </a:lnTo>
                    <a:lnTo>
                      <a:pt x="0" y="680"/>
                    </a:lnTo>
                    <a:lnTo>
                      <a:pt x="0" y="291"/>
                    </a:lnTo>
                    <a:close/>
                  </a:path>
                </a:pathLst>
              </a:custGeom>
              <a:solidFill>
                <a:srgbClr val="6680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9"/>
              <p:cNvSpPr/>
              <p:nvPr/>
            </p:nvSpPr>
            <p:spPr>
              <a:xfrm rot="3500400">
                <a:off x="6877440" y="2913840"/>
                <a:ext cx="722160" cy="352800"/>
              </a:xfrm>
              <a:custGeom>
                <a:avLst/>
                <a:gdLst/>
                <a:ahLst/>
                <a:rect l="l" t="t" r="r" b="b"/>
                <a:pathLst>
                  <a:path w="715" h="365">
                    <a:moveTo>
                      <a:pt x="0" y="0"/>
                    </a:moveTo>
                    <a:lnTo>
                      <a:pt x="21" y="0"/>
                    </a:lnTo>
                    <a:lnTo>
                      <a:pt x="41" y="0"/>
                    </a:lnTo>
                    <a:lnTo>
                      <a:pt x="62" y="0"/>
                    </a:lnTo>
                    <a:lnTo>
                      <a:pt x="83" y="0"/>
                    </a:lnTo>
                    <a:lnTo>
                      <a:pt x="103" y="0"/>
                    </a:lnTo>
                    <a:lnTo>
                      <a:pt x="124" y="0"/>
                    </a:lnTo>
                    <a:lnTo>
                      <a:pt x="145" y="0"/>
                    </a:lnTo>
                    <a:lnTo>
                      <a:pt x="165" y="0"/>
                    </a:lnTo>
                    <a:lnTo>
                      <a:pt x="186" y="5"/>
                    </a:lnTo>
                    <a:lnTo>
                      <a:pt x="206" y="5"/>
                    </a:lnTo>
                    <a:lnTo>
                      <a:pt x="227" y="5"/>
                    </a:lnTo>
                    <a:lnTo>
                      <a:pt x="248" y="5"/>
                    </a:lnTo>
                    <a:lnTo>
                      <a:pt x="268" y="10"/>
                    </a:lnTo>
                    <a:lnTo>
                      <a:pt x="285" y="10"/>
                    </a:lnTo>
                    <a:lnTo>
                      <a:pt x="306" y="10"/>
                    </a:lnTo>
                    <a:lnTo>
                      <a:pt x="326" y="14"/>
                    </a:lnTo>
                    <a:lnTo>
                      <a:pt x="347" y="14"/>
                    </a:lnTo>
                    <a:lnTo>
                      <a:pt x="368" y="14"/>
                    </a:lnTo>
                    <a:lnTo>
                      <a:pt x="388" y="19"/>
                    </a:lnTo>
                    <a:lnTo>
                      <a:pt x="405" y="19"/>
                    </a:lnTo>
                    <a:lnTo>
                      <a:pt x="425" y="24"/>
                    </a:lnTo>
                    <a:lnTo>
                      <a:pt x="446" y="24"/>
                    </a:lnTo>
                    <a:lnTo>
                      <a:pt x="463" y="29"/>
                    </a:lnTo>
                    <a:lnTo>
                      <a:pt x="483" y="29"/>
                    </a:lnTo>
                    <a:lnTo>
                      <a:pt x="500" y="34"/>
                    </a:lnTo>
                    <a:lnTo>
                      <a:pt x="521" y="34"/>
                    </a:lnTo>
                    <a:lnTo>
                      <a:pt x="541" y="39"/>
                    </a:lnTo>
                    <a:lnTo>
                      <a:pt x="558" y="39"/>
                    </a:lnTo>
                    <a:lnTo>
                      <a:pt x="574" y="44"/>
                    </a:lnTo>
                    <a:lnTo>
                      <a:pt x="595" y="49"/>
                    </a:lnTo>
                    <a:lnTo>
                      <a:pt x="611" y="49"/>
                    </a:lnTo>
                    <a:lnTo>
                      <a:pt x="628" y="54"/>
                    </a:lnTo>
                    <a:lnTo>
                      <a:pt x="649" y="59"/>
                    </a:lnTo>
                    <a:lnTo>
                      <a:pt x="665" y="59"/>
                    </a:lnTo>
                    <a:lnTo>
                      <a:pt x="682" y="64"/>
                    </a:lnTo>
                    <a:lnTo>
                      <a:pt x="698" y="69"/>
                    </a:lnTo>
                    <a:lnTo>
                      <a:pt x="715" y="74"/>
                    </a:lnTo>
                    <a:lnTo>
                      <a:pt x="0" y="3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60"/>
              <p:cNvSpPr/>
              <p:nvPr/>
            </p:nvSpPr>
            <p:spPr>
              <a:xfrm rot="3500400">
                <a:off x="6051600" y="1703880"/>
                <a:ext cx="6840" cy="417960"/>
              </a:xfrm>
              <a:custGeom>
                <a:avLst/>
                <a:gdLst/>
                <a:ahLst/>
                <a:rect l="l" t="t" r="r" b="b"/>
                <a:pathLst>
                  <a:path w="8" h="434">
                    <a:moveTo>
                      <a:pt x="8" y="45"/>
                    </a:moveTo>
                    <a:lnTo>
                      <a:pt x="4" y="40"/>
                    </a:lnTo>
                    <a:lnTo>
                      <a:pt x="4" y="35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390"/>
                    </a:lnTo>
                    <a:lnTo>
                      <a:pt x="0" y="400"/>
                    </a:lnTo>
                    <a:lnTo>
                      <a:pt x="0" y="405"/>
                    </a:lnTo>
                    <a:lnTo>
                      <a:pt x="0" y="410"/>
                    </a:lnTo>
                    <a:lnTo>
                      <a:pt x="0" y="415"/>
                    </a:lnTo>
                    <a:lnTo>
                      <a:pt x="4" y="424"/>
                    </a:lnTo>
                    <a:lnTo>
                      <a:pt x="4" y="429"/>
                    </a:lnTo>
                    <a:lnTo>
                      <a:pt x="8" y="434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804d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1"/>
              <p:cNvSpPr/>
              <p:nvPr/>
            </p:nvSpPr>
            <p:spPr>
              <a:xfrm rot="3500400">
                <a:off x="5772960" y="2215800"/>
                <a:ext cx="1195200" cy="417960"/>
              </a:xfrm>
              <a:custGeom>
                <a:avLst/>
                <a:gdLst/>
                <a:ahLst/>
                <a:rect l="l" t="t" r="r" b="b"/>
                <a:pathLst>
                  <a:path w="1182" h="434">
                    <a:moveTo>
                      <a:pt x="1182" y="0"/>
                    </a:moveTo>
                    <a:lnTo>
                      <a:pt x="0" y="45"/>
                    </a:lnTo>
                    <a:lnTo>
                      <a:pt x="0" y="434"/>
                    </a:lnTo>
                    <a:lnTo>
                      <a:pt x="1182" y="390"/>
                    </a:lnTo>
                    <a:lnTo>
                      <a:pt x="1182" y="0"/>
                    </a:lnTo>
                    <a:close/>
                  </a:path>
                </a:pathLst>
              </a:custGeom>
              <a:solidFill>
                <a:srgbClr val="804d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2"/>
              <p:cNvSpPr/>
              <p:nvPr/>
            </p:nvSpPr>
            <p:spPr>
              <a:xfrm rot="3500400">
                <a:off x="6077160" y="2033280"/>
                <a:ext cx="1202040" cy="394920"/>
              </a:xfrm>
              <a:custGeom>
                <a:avLst/>
                <a:gdLst/>
                <a:ahLst/>
                <a:rect l="l" t="t" r="r" b="b"/>
                <a:pathLst>
                  <a:path w="1190" h="409">
                    <a:moveTo>
                      <a:pt x="8" y="409"/>
                    </a:moveTo>
                    <a:lnTo>
                      <a:pt x="4" y="404"/>
                    </a:lnTo>
                    <a:lnTo>
                      <a:pt x="4" y="399"/>
                    </a:lnTo>
                    <a:lnTo>
                      <a:pt x="0" y="389"/>
                    </a:lnTo>
                    <a:lnTo>
                      <a:pt x="0" y="384"/>
                    </a:lnTo>
                    <a:lnTo>
                      <a:pt x="0" y="379"/>
                    </a:lnTo>
                    <a:lnTo>
                      <a:pt x="0" y="374"/>
                    </a:lnTo>
                    <a:lnTo>
                      <a:pt x="0" y="364"/>
                    </a:lnTo>
                    <a:lnTo>
                      <a:pt x="0" y="360"/>
                    </a:lnTo>
                    <a:lnTo>
                      <a:pt x="0" y="355"/>
                    </a:lnTo>
                    <a:lnTo>
                      <a:pt x="0" y="345"/>
                    </a:lnTo>
                    <a:lnTo>
                      <a:pt x="0" y="340"/>
                    </a:lnTo>
                    <a:lnTo>
                      <a:pt x="4" y="335"/>
                    </a:lnTo>
                    <a:lnTo>
                      <a:pt x="4" y="325"/>
                    </a:lnTo>
                    <a:lnTo>
                      <a:pt x="8" y="320"/>
                    </a:lnTo>
                    <a:lnTo>
                      <a:pt x="12" y="315"/>
                    </a:lnTo>
                    <a:lnTo>
                      <a:pt x="12" y="310"/>
                    </a:lnTo>
                    <a:lnTo>
                      <a:pt x="17" y="300"/>
                    </a:lnTo>
                    <a:lnTo>
                      <a:pt x="21" y="295"/>
                    </a:lnTo>
                    <a:lnTo>
                      <a:pt x="25" y="291"/>
                    </a:lnTo>
                    <a:lnTo>
                      <a:pt x="29" y="281"/>
                    </a:lnTo>
                    <a:lnTo>
                      <a:pt x="33" y="276"/>
                    </a:lnTo>
                    <a:lnTo>
                      <a:pt x="41" y="271"/>
                    </a:lnTo>
                    <a:lnTo>
                      <a:pt x="45" y="266"/>
                    </a:lnTo>
                    <a:lnTo>
                      <a:pt x="50" y="256"/>
                    </a:lnTo>
                    <a:lnTo>
                      <a:pt x="58" y="251"/>
                    </a:lnTo>
                    <a:lnTo>
                      <a:pt x="62" y="246"/>
                    </a:lnTo>
                    <a:lnTo>
                      <a:pt x="70" y="241"/>
                    </a:lnTo>
                    <a:lnTo>
                      <a:pt x="79" y="236"/>
                    </a:lnTo>
                    <a:lnTo>
                      <a:pt x="87" y="226"/>
                    </a:lnTo>
                    <a:lnTo>
                      <a:pt x="95" y="221"/>
                    </a:lnTo>
                    <a:lnTo>
                      <a:pt x="103" y="217"/>
                    </a:lnTo>
                    <a:lnTo>
                      <a:pt x="112" y="212"/>
                    </a:lnTo>
                    <a:lnTo>
                      <a:pt x="120" y="207"/>
                    </a:lnTo>
                    <a:lnTo>
                      <a:pt x="128" y="197"/>
                    </a:lnTo>
                    <a:lnTo>
                      <a:pt x="136" y="192"/>
                    </a:lnTo>
                    <a:lnTo>
                      <a:pt x="149" y="187"/>
                    </a:lnTo>
                    <a:lnTo>
                      <a:pt x="157" y="182"/>
                    </a:lnTo>
                    <a:lnTo>
                      <a:pt x="169" y="177"/>
                    </a:lnTo>
                    <a:lnTo>
                      <a:pt x="182" y="172"/>
                    </a:lnTo>
                    <a:lnTo>
                      <a:pt x="190" y="167"/>
                    </a:lnTo>
                    <a:lnTo>
                      <a:pt x="202" y="162"/>
                    </a:lnTo>
                    <a:lnTo>
                      <a:pt x="215" y="157"/>
                    </a:lnTo>
                    <a:lnTo>
                      <a:pt x="227" y="148"/>
                    </a:lnTo>
                    <a:lnTo>
                      <a:pt x="240" y="143"/>
                    </a:lnTo>
                    <a:lnTo>
                      <a:pt x="252" y="138"/>
                    </a:lnTo>
                    <a:lnTo>
                      <a:pt x="264" y="133"/>
                    </a:lnTo>
                    <a:lnTo>
                      <a:pt x="277" y="128"/>
                    </a:lnTo>
                    <a:lnTo>
                      <a:pt x="289" y="123"/>
                    </a:lnTo>
                    <a:lnTo>
                      <a:pt x="306" y="118"/>
                    </a:lnTo>
                    <a:lnTo>
                      <a:pt x="318" y="113"/>
                    </a:lnTo>
                    <a:lnTo>
                      <a:pt x="335" y="108"/>
                    </a:lnTo>
                    <a:lnTo>
                      <a:pt x="347" y="108"/>
                    </a:lnTo>
                    <a:lnTo>
                      <a:pt x="364" y="103"/>
                    </a:lnTo>
                    <a:lnTo>
                      <a:pt x="376" y="98"/>
                    </a:lnTo>
                    <a:lnTo>
                      <a:pt x="393" y="93"/>
                    </a:lnTo>
                    <a:lnTo>
                      <a:pt x="409" y="88"/>
                    </a:lnTo>
                    <a:lnTo>
                      <a:pt x="426" y="83"/>
                    </a:lnTo>
                    <a:lnTo>
                      <a:pt x="442" y="78"/>
                    </a:lnTo>
                    <a:lnTo>
                      <a:pt x="454" y="78"/>
                    </a:lnTo>
                    <a:lnTo>
                      <a:pt x="471" y="74"/>
                    </a:lnTo>
                    <a:lnTo>
                      <a:pt x="488" y="69"/>
                    </a:lnTo>
                    <a:lnTo>
                      <a:pt x="508" y="64"/>
                    </a:lnTo>
                    <a:lnTo>
                      <a:pt x="525" y="59"/>
                    </a:lnTo>
                    <a:lnTo>
                      <a:pt x="541" y="59"/>
                    </a:lnTo>
                    <a:lnTo>
                      <a:pt x="558" y="54"/>
                    </a:lnTo>
                    <a:lnTo>
                      <a:pt x="574" y="49"/>
                    </a:lnTo>
                    <a:lnTo>
                      <a:pt x="595" y="49"/>
                    </a:lnTo>
                    <a:lnTo>
                      <a:pt x="612" y="44"/>
                    </a:lnTo>
                    <a:lnTo>
                      <a:pt x="632" y="39"/>
                    </a:lnTo>
                    <a:lnTo>
                      <a:pt x="649" y="39"/>
                    </a:lnTo>
                    <a:lnTo>
                      <a:pt x="669" y="34"/>
                    </a:lnTo>
                    <a:lnTo>
                      <a:pt x="686" y="34"/>
                    </a:lnTo>
                    <a:lnTo>
                      <a:pt x="707" y="29"/>
                    </a:lnTo>
                    <a:lnTo>
                      <a:pt x="723" y="29"/>
                    </a:lnTo>
                    <a:lnTo>
                      <a:pt x="744" y="24"/>
                    </a:lnTo>
                    <a:lnTo>
                      <a:pt x="764" y="24"/>
                    </a:lnTo>
                    <a:lnTo>
                      <a:pt x="781" y="19"/>
                    </a:lnTo>
                    <a:lnTo>
                      <a:pt x="802" y="19"/>
                    </a:lnTo>
                    <a:lnTo>
                      <a:pt x="822" y="14"/>
                    </a:lnTo>
                    <a:lnTo>
                      <a:pt x="843" y="14"/>
                    </a:lnTo>
                    <a:lnTo>
                      <a:pt x="859" y="14"/>
                    </a:lnTo>
                    <a:lnTo>
                      <a:pt x="880" y="9"/>
                    </a:lnTo>
                    <a:lnTo>
                      <a:pt x="901" y="9"/>
                    </a:lnTo>
                    <a:lnTo>
                      <a:pt x="921" y="9"/>
                    </a:lnTo>
                    <a:lnTo>
                      <a:pt x="942" y="5"/>
                    </a:lnTo>
                    <a:lnTo>
                      <a:pt x="963" y="5"/>
                    </a:lnTo>
                    <a:lnTo>
                      <a:pt x="983" y="5"/>
                    </a:lnTo>
                    <a:lnTo>
                      <a:pt x="1004" y="5"/>
                    </a:lnTo>
                    <a:lnTo>
                      <a:pt x="1025" y="0"/>
                    </a:lnTo>
                    <a:lnTo>
                      <a:pt x="1045" y="0"/>
                    </a:lnTo>
                    <a:lnTo>
                      <a:pt x="1066" y="0"/>
                    </a:lnTo>
                    <a:lnTo>
                      <a:pt x="1087" y="0"/>
                    </a:lnTo>
                    <a:lnTo>
                      <a:pt x="1107" y="0"/>
                    </a:lnTo>
                    <a:lnTo>
                      <a:pt x="1128" y="0"/>
                    </a:lnTo>
                    <a:lnTo>
                      <a:pt x="1149" y="0"/>
                    </a:lnTo>
                    <a:lnTo>
                      <a:pt x="1169" y="0"/>
                    </a:lnTo>
                    <a:lnTo>
                      <a:pt x="1190" y="0"/>
                    </a:lnTo>
                    <a:lnTo>
                      <a:pt x="1190" y="364"/>
                    </a:lnTo>
                    <a:lnTo>
                      <a:pt x="8" y="409"/>
                    </a:lnTo>
                    <a:close/>
                  </a:path>
                </a:pathLst>
              </a:custGeom>
              <a:solidFill>
                <a:srgbClr val="ff99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3"/>
              <p:cNvSpPr/>
              <p:nvPr/>
            </p:nvSpPr>
            <p:spPr>
              <a:xfrm rot="3500400">
                <a:off x="7179840" y="3740040"/>
                <a:ext cx="163440" cy="556560"/>
              </a:xfrm>
              <a:custGeom>
                <a:avLst/>
                <a:gdLst/>
                <a:ahLst/>
                <a:rect l="l" t="t" r="r" b="b"/>
                <a:pathLst>
                  <a:path w="161" h="577">
                    <a:moveTo>
                      <a:pt x="161" y="0"/>
                    </a:moveTo>
                    <a:lnTo>
                      <a:pt x="161" y="10"/>
                    </a:lnTo>
                    <a:lnTo>
                      <a:pt x="161" y="15"/>
                    </a:lnTo>
                    <a:lnTo>
                      <a:pt x="157" y="20"/>
                    </a:lnTo>
                    <a:lnTo>
                      <a:pt x="157" y="25"/>
                    </a:lnTo>
                    <a:lnTo>
                      <a:pt x="157" y="35"/>
                    </a:lnTo>
                    <a:lnTo>
                      <a:pt x="153" y="40"/>
                    </a:lnTo>
                    <a:lnTo>
                      <a:pt x="153" y="45"/>
                    </a:lnTo>
                    <a:lnTo>
                      <a:pt x="149" y="55"/>
                    </a:lnTo>
                    <a:lnTo>
                      <a:pt x="145" y="59"/>
                    </a:lnTo>
                    <a:lnTo>
                      <a:pt x="140" y="64"/>
                    </a:lnTo>
                    <a:lnTo>
                      <a:pt x="136" y="69"/>
                    </a:lnTo>
                    <a:lnTo>
                      <a:pt x="132" y="79"/>
                    </a:lnTo>
                    <a:lnTo>
                      <a:pt x="128" y="84"/>
                    </a:lnTo>
                    <a:lnTo>
                      <a:pt x="124" y="89"/>
                    </a:lnTo>
                    <a:lnTo>
                      <a:pt x="120" y="99"/>
                    </a:lnTo>
                    <a:lnTo>
                      <a:pt x="116" y="104"/>
                    </a:lnTo>
                    <a:lnTo>
                      <a:pt x="107" y="109"/>
                    </a:lnTo>
                    <a:lnTo>
                      <a:pt x="103" y="114"/>
                    </a:lnTo>
                    <a:lnTo>
                      <a:pt x="95" y="124"/>
                    </a:lnTo>
                    <a:lnTo>
                      <a:pt x="87" y="129"/>
                    </a:lnTo>
                    <a:lnTo>
                      <a:pt x="83" y="133"/>
                    </a:lnTo>
                    <a:lnTo>
                      <a:pt x="74" y="138"/>
                    </a:lnTo>
                    <a:lnTo>
                      <a:pt x="66" y="143"/>
                    </a:lnTo>
                    <a:lnTo>
                      <a:pt x="58" y="153"/>
                    </a:lnTo>
                    <a:lnTo>
                      <a:pt x="50" y="158"/>
                    </a:lnTo>
                    <a:lnTo>
                      <a:pt x="41" y="163"/>
                    </a:lnTo>
                    <a:lnTo>
                      <a:pt x="29" y="168"/>
                    </a:lnTo>
                    <a:lnTo>
                      <a:pt x="21" y="173"/>
                    </a:lnTo>
                    <a:lnTo>
                      <a:pt x="12" y="178"/>
                    </a:lnTo>
                    <a:lnTo>
                      <a:pt x="0" y="188"/>
                    </a:lnTo>
                    <a:lnTo>
                      <a:pt x="0" y="577"/>
                    </a:lnTo>
                    <a:lnTo>
                      <a:pt x="12" y="567"/>
                    </a:lnTo>
                    <a:lnTo>
                      <a:pt x="21" y="562"/>
                    </a:lnTo>
                    <a:lnTo>
                      <a:pt x="29" y="557"/>
                    </a:lnTo>
                    <a:lnTo>
                      <a:pt x="41" y="553"/>
                    </a:lnTo>
                    <a:lnTo>
                      <a:pt x="50" y="548"/>
                    </a:lnTo>
                    <a:lnTo>
                      <a:pt x="58" y="543"/>
                    </a:lnTo>
                    <a:lnTo>
                      <a:pt x="66" y="533"/>
                    </a:lnTo>
                    <a:lnTo>
                      <a:pt x="74" y="528"/>
                    </a:lnTo>
                    <a:lnTo>
                      <a:pt x="83" y="523"/>
                    </a:lnTo>
                    <a:lnTo>
                      <a:pt x="87" y="518"/>
                    </a:lnTo>
                    <a:lnTo>
                      <a:pt x="95" y="513"/>
                    </a:lnTo>
                    <a:lnTo>
                      <a:pt x="103" y="503"/>
                    </a:lnTo>
                    <a:lnTo>
                      <a:pt x="107" y="498"/>
                    </a:lnTo>
                    <a:lnTo>
                      <a:pt x="116" y="493"/>
                    </a:lnTo>
                    <a:lnTo>
                      <a:pt x="120" y="488"/>
                    </a:lnTo>
                    <a:lnTo>
                      <a:pt x="124" y="479"/>
                    </a:lnTo>
                    <a:lnTo>
                      <a:pt x="128" y="474"/>
                    </a:lnTo>
                    <a:lnTo>
                      <a:pt x="132" y="469"/>
                    </a:lnTo>
                    <a:lnTo>
                      <a:pt x="136" y="459"/>
                    </a:lnTo>
                    <a:lnTo>
                      <a:pt x="140" y="454"/>
                    </a:lnTo>
                    <a:lnTo>
                      <a:pt x="145" y="449"/>
                    </a:lnTo>
                    <a:lnTo>
                      <a:pt x="149" y="444"/>
                    </a:lnTo>
                    <a:lnTo>
                      <a:pt x="153" y="434"/>
                    </a:lnTo>
                    <a:lnTo>
                      <a:pt x="153" y="429"/>
                    </a:lnTo>
                    <a:lnTo>
                      <a:pt x="157" y="424"/>
                    </a:lnTo>
                    <a:lnTo>
                      <a:pt x="157" y="414"/>
                    </a:lnTo>
                    <a:lnTo>
                      <a:pt x="157" y="410"/>
                    </a:lnTo>
                    <a:lnTo>
                      <a:pt x="161" y="405"/>
                    </a:lnTo>
                    <a:lnTo>
                      <a:pt x="161" y="400"/>
                    </a:lnTo>
                    <a:lnTo>
                      <a:pt x="161" y="39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4"/>
              <p:cNvSpPr/>
              <p:nvPr/>
            </p:nvSpPr>
            <p:spPr>
              <a:xfrm rot="3500400">
                <a:off x="6427440" y="3228840"/>
                <a:ext cx="1040040" cy="551880"/>
              </a:xfrm>
              <a:custGeom>
                <a:avLst/>
                <a:gdLst/>
                <a:ahLst/>
                <a:rect l="l" t="t" r="r" b="b"/>
                <a:pathLst>
                  <a:path w="1029" h="572">
                    <a:moveTo>
                      <a:pt x="0" y="0"/>
                    </a:moveTo>
                    <a:lnTo>
                      <a:pt x="1029" y="183"/>
                    </a:lnTo>
                    <a:lnTo>
                      <a:pt x="1029" y="572"/>
                    </a:lnTo>
                    <a:lnTo>
                      <a:pt x="0" y="3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65"/>
              <p:cNvSpPr/>
              <p:nvPr/>
            </p:nvSpPr>
            <p:spPr>
              <a:xfrm rot="3500400">
                <a:off x="6666120" y="3172320"/>
                <a:ext cx="1203840" cy="462240"/>
              </a:xfrm>
              <a:custGeom>
                <a:avLst/>
                <a:gdLst/>
                <a:ahLst/>
                <a:rect l="l" t="t" r="r" b="b"/>
                <a:pathLst>
                  <a:path w="1190" h="479">
                    <a:moveTo>
                      <a:pt x="715" y="0"/>
                    </a:moveTo>
                    <a:lnTo>
                      <a:pt x="732" y="5"/>
                    </a:lnTo>
                    <a:lnTo>
                      <a:pt x="748" y="5"/>
                    </a:lnTo>
                    <a:lnTo>
                      <a:pt x="765" y="10"/>
                    </a:lnTo>
                    <a:lnTo>
                      <a:pt x="781" y="15"/>
                    </a:lnTo>
                    <a:lnTo>
                      <a:pt x="794" y="20"/>
                    </a:lnTo>
                    <a:lnTo>
                      <a:pt x="810" y="25"/>
                    </a:lnTo>
                    <a:lnTo>
                      <a:pt x="827" y="30"/>
                    </a:lnTo>
                    <a:lnTo>
                      <a:pt x="839" y="35"/>
                    </a:lnTo>
                    <a:lnTo>
                      <a:pt x="855" y="35"/>
                    </a:lnTo>
                    <a:lnTo>
                      <a:pt x="868" y="40"/>
                    </a:lnTo>
                    <a:lnTo>
                      <a:pt x="884" y="45"/>
                    </a:lnTo>
                    <a:lnTo>
                      <a:pt x="897" y="50"/>
                    </a:lnTo>
                    <a:lnTo>
                      <a:pt x="909" y="55"/>
                    </a:lnTo>
                    <a:lnTo>
                      <a:pt x="926" y="60"/>
                    </a:lnTo>
                    <a:lnTo>
                      <a:pt x="938" y="65"/>
                    </a:lnTo>
                    <a:lnTo>
                      <a:pt x="951" y="69"/>
                    </a:lnTo>
                    <a:lnTo>
                      <a:pt x="963" y="74"/>
                    </a:lnTo>
                    <a:lnTo>
                      <a:pt x="975" y="84"/>
                    </a:lnTo>
                    <a:lnTo>
                      <a:pt x="988" y="89"/>
                    </a:lnTo>
                    <a:lnTo>
                      <a:pt x="996" y="94"/>
                    </a:lnTo>
                    <a:lnTo>
                      <a:pt x="1008" y="99"/>
                    </a:lnTo>
                    <a:lnTo>
                      <a:pt x="1021" y="104"/>
                    </a:lnTo>
                    <a:lnTo>
                      <a:pt x="1029" y="109"/>
                    </a:lnTo>
                    <a:lnTo>
                      <a:pt x="1041" y="114"/>
                    </a:lnTo>
                    <a:lnTo>
                      <a:pt x="1050" y="119"/>
                    </a:lnTo>
                    <a:lnTo>
                      <a:pt x="1058" y="124"/>
                    </a:lnTo>
                    <a:lnTo>
                      <a:pt x="1070" y="134"/>
                    </a:lnTo>
                    <a:lnTo>
                      <a:pt x="1079" y="138"/>
                    </a:lnTo>
                    <a:lnTo>
                      <a:pt x="1087" y="143"/>
                    </a:lnTo>
                    <a:lnTo>
                      <a:pt x="1095" y="148"/>
                    </a:lnTo>
                    <a:lnTo>
                      <a:pt x="1103" y="153"/>
                    </a:lnTo>
                    <a:lnTo>
                      <a:pt x="1112" y="163"/>
                    </a:lnTo>
                    <a:lnTo>
                      <a:pt x="1116" y="168"/>
                    </a:lnTo>
                    <a:lnTo>
                      <a:pt x="1124" y="173"/>
                    </a:lnTo>
                    <a:lnTo>
                      <a:pt x="1132" y="178"/>
                    </a:lnTo>
                    <a:lnTo>
                      <a:pt x="1136" y="183"/>
                    </a:lnTo>
                    <a:lnTo>
                      <a:pt x="1145" y="193"/>
                    </a:lnTo>
                    <a:lnTo>
                      <a:pt x="1149" y="198"/>
                    </a:lnTo>
                    <a:lnTo>
                      <a:pt x="1153" y="203"/>
                    </a:lnTo>
                    <a:lnTo>
                      <a:pt x="1157" y="208"/>
                    </a:lnTo>
                    <a:lnTo>
                      <a:pt x="1161" y="217"/>
                    </a:lnTo>
                    <a:lnTo>
                      <a:pt x="1165" y="222"/>
                    </a:lnTo>
                    <a:lnTo>
                      <a:pt x="1169" y="227"/>
                    </a:lnTo>
                    <a:lnTo>
                      <a:pt x="1174" y="237"/>
                    </a:lnTo>
                    <a:lnTo>
                      <a:pt x="1178" y="242"/>
                    </a:lnTo>
                    <a:lnTo>
                      <a:pt x="1182" y="247"/>
                    </a:lnTo>
                    <a:lnTo>
                      <a:pt x="1182" y="252"/>
                    </a:lnTo>
                    <a:lnTo>
                      <a:pt x="1186" y="262"/>
                    </a:lnTo>
                    <a:lnTo>
                      <a:pt x="1186" y="267"/>
                    </a:lnTo>
                    <a:lnTo>
                      <a:pt x="1186" y="272"/>
                    </a:lnTo>
                    <a:lnTo>
                      <a:pt x="1190" y="281"/>
                    </a:lnTo>
                    <a:lnTo>
                      <a:pt x="1190" y="286"/>
                    </a:lnTo>
                    <a:lnTo>
                      <a:pt x="1190" y="291"/>
                    </a:lnTo>
                    <a:lnTo>
                      <a:pt x="1190" y="301"/>
                    </a:lnTo>
                    <a:lnTo>
                      <a:pt x="1190" y="306"/>
                    </a:lnTo>
                    <a:lnTo>
                      <a:pt x="1186" y="311"/>
                    </a:lnTo>
                    <a:lnTo>
                      <a:pt x="1186" y="316"/>
                    </a:lnTo>
                    <a:lnTo>
                      <a:pt x="1186" y="326"/>
                    </a:lnTo>
                    <a:lnTo>
                      <a:pt x="1182" y="331"/>
                    </a:lnTo>
                    <a:lnTo>
                      <a:pt x="1182" y="336"/>
                    </a:lnTo>
                    <a:lnTo>
                      <a:pt x="1178" y="346"/>
                    </a:lnTo>
                    <a:lnTo>
                      <a:pt x="1174" y="350"/>
                    </a:lnTo>
                    <a:lnTo>
                      <a:pt x="1169" y="355"/>
                    </a:lnTo>
                    <a:lnTo>
                      <a:pt x="1165" y="360"/>
                    </a:lnTo>
                    <a:lnTo>
                      <a:pt x="1161" y="370"/>
                    </a:lnTo>
                    <a:lnTo>
                      <a:pt x="1157" y="375"/>
                    </a:lnTo>
                    <a:lnTo>
                      <a:pt x="1153" y="380"/>
                    </a:lnTo>
                    <a:lnTo>
                      <a:pt x="1149" y="390"/>
                    </a:lnTo>
                    <a:lnTo>
                      <a:pt x="1145" y="395"/>
                    </a:lnTo>
                    <a:lnTo>
                      <a:pt x="1136" y="400"/>
                    </a:lnTo>
                    <a:lnTo>
                      <a:pt x="1132" y="405"/>
                    </a:lnTo>
                    <a:lnTo>
                      <a:pt x="1124" y="415"/>
                    </a:lnTo>
                    <a:lnTo>
                      <a:pt x="1116" y="420"/>
                    </a:lnTo>
                    <a:lnTo>
                      <a:pt x="1112" y="424"/>
                    </a:lnTo>
                    <a:lnTo>
                      <a:pt x="1103" y="429"/>
                    </a:lnTo>
                    <a:lnTo>
                      <a:pt x="1095" y="434"/>
                    </a:lnTo>
                    <a:lnTo>
                      <a:pt x="1087" y="444"/>
                    </a:lnTo>
                    <a:lnTo>
                      <a:pt x="1079" y="449"/>
                    </a:lnTo>
                    <a:lnTo>
                      <a:pt x="1070" y="454"/>
                    </a:lnTo>
                    <a:lnTo>
                      <a:pt x="1058" y="459"/>
                    </a:lnTo>
                    <a:lnTo>
                      <a:pt x="1050" y="464"/>
                    </a:lnTo>
                    <a:lnTo>
                      <a:pt x="1041" y="469"/>
                    </a:lnTo>
                    <a:lnTo>
                      <a:pt x="1029" y="479"/>
                    </a:lnTo>
                    <a:lnTo>
                      <a:pt x="0" y="291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66"/>
              <p:cNvSpPr/>
              <p:nvPr/>
            </p:nvSpPr>
            <p:spPr>
              <a:xfrm rot="3500400">
                <a:off x="6306120" y="3345480"/>
                <a:ext cx="956880" cy="551880"/>
              </a:xfrm>
              <a:custGeom>
                <a:avLst/>
                <a:gdLst/>
                <a:ahLst/>
                <a:rect l="l" t="t" r="r" b="b"/>
                <a:pathLst>
                  <a:path w="946" h="572">
                    <a:moveTo>
                      <a:pt x="946" y="0"/>
                    </a:moveTo>
                    <a:lnTo>
                      <a:pt x="938" y="5"/>
                    </a:lnTo>
                    <a:lnTo>
                      <a:pt x="925" y="10"/>
                    </a:lnTo>
                    <a:lnTo>
                      <a:pt x="913" y="15"/>
                    </a:lnTo>
                    <a:lnTo>
                      <a:pt x="905" y="20"/>
                    </a:lnTo>
                    <a:lnTo>
                      <a:pt x="892" y="25"/>
                    </a:lnTo>
                    <a:lnTo>
                      <a:pt x="880" y="30"/>
                    </a:lnTo>
                    <a:lnTo>
                      <a:pt x="868" y="35"/>
                    </a:lnTo>
                    <a:lnTo>
                      <a:pt x="855" y="40"/>
                    </a:lnTo>
                    <a:lnTo>
                      <a:pt x="843" y="45"/>
                    </a:lnTo>
                    <a:lnTo>
                      <a:pt x="826" y="50"/>
                    </a:lnTo>
                    <a:lnTo>
                      <a:pt x="814" y="55"/>
                    </a:lnTo>
                    <a:lnTo>
                      <a:pt x="801" y="60"/>
                    </a:lnTo>
                    <a:lnTo>
                      <a:pt x="785" y="65"/>
                    </a:lnTo>
                    <a:lnTo>
                      <a:pt x="773" y="69"/>
                    </a:lnTo>
                    <a:lnTo>
                      <a:pt x="756" y="74"/>
                    </a:lnTo>
                    <a:lnTo>
                      <a:pt x="744" y="79"/>
                    </a:lnTo>
                    <a:lnTo>
                      <a:pt x="727" y="84"/>
                    </a:lnTo>
                    <a:lnTo>
                      <a:pt x="711" y="89"/>
                    </a:lnTo>
                    <a:lnTo>
                      <a:pt x="698" y="89"/>
                    </a:lnTo>
                    <a:lnTo>
                      <a:pt x="682" y="94"/>
                    </a:lnTo>
                    <a:lnTo>
                      <a:pt x="665" y="99"/>
                    </a:lnTo>
                    <a:lnTo>
                      <a:pt x="649" y="104"/>
                    </a:lnTo>
                    <a:lnTo>
                      <a:pt x="632" y="109"/>
                    </a:lnTo>
                    <a:lnTo>
                      <a:pt x="616" y="114"/>
                    </a:lnTo>
                    <a:lnTo>
                      <a:pt x="599" y="114"/>
                    </a:lnTo>
                    <a:lnTo>
                      <a:pt x="583" y="119"/>
                    </a:lnTo>
                    <a:lnTo>
                      <a:pt x="566" y="124"/>
                    </a:lnTo>
                    <a:lnTo>
                      <a:pt x="545" y="124"/>
                    </a:lnTo>
                    <a:lnTo>
                      <a:pt x="529" y="129"/>
                    </a:lnTo>
                    <a:lnTo>
                      <a:pt x="512" y="134"/>
                    </a:lnTo>
                    <a:lnTo>
                      <a:pt x="492" y="134"/>
                    </a:lnTo>
                    <a:lnTo>
                      <a:pt x="475" y="138"/>
                    </a:lnTo>
                    <a:lnTo>
                      <a:pt x="459" y="143"/>
                    </a:lnTo>
                    <a:lnTo>
                      <a:pt x="438" y="143"/>
                    </a:lnTo>
                    <a:lnTo>
                      <a:pt x="417" y="148"/>
                    </a:lnTo>
                    <a:lnTo>
                      <a:pt x="401" y="148"/>
                    </a:lnTo>
                    <a:lnTo>
                      <a:pt x="380" y="153"/>
                    </a:lnTo>
                    <a:lnTo>
                      <a:pt x="364" y="153"/>
                    </a:lnTo>
                    <a:lnTo>
                      <a:pt x="343" y="158"/>
                    </a:lnTo>
                    <a:lnTo>
                      <a:pt x="322" y="158"/>
                    </a:lnTo>
                    <a:lnTo>
                      <a:pt x="306" y="163"/>
                    </a:lnTo>
                    <a:lnTo>
                      <a:pt x="285" y="163"/>
                    </a:lnTo>
                    <a:lnTo>
                      <a:pt x="264" y="163"/>
                    </a:lnTo>
                    <a:lnTo>
                      <a:pt x="244" y="168"/>
                    </a:lnTo>
                    <a:lnTo>
                      <a:pt x="223" y="168"/>
                    </a:lnTo>
                    <a:lnTo>
                      <a:pt x="202" y="173"/>
                    </a:lnTo>
                    <a:lnTo>
                      <a:pt x="186" y="173"/>
                    </a:lnTo>
                    <a:lnTo>
                      <a:pt x="165" y="173"/>
                    </a:lnTo>
                    <a:lnTo>
                      <a:pt x="145" y="173"/>
                    </a:lnTo>
                    <a:lnTo>
                      <a:pt x="124" y="178"/>
                    </a:lnTo>
                    <a:lnTo>
                      <a:pt x="103" y="178"/>
                    </a:lnTo>
                    <a:lnTo>
                      <a:pt x="83" y="178"/>
                    </a:lnTo>
                    <a:lnTo>
                      <a:pt x="62" y="178"/>
                    </a:lnTo>
                    <a:lnTo>
                      <a:pt x="41" y="178"/>
                    </a:lnTo>
                    <a:lnTo>
                      <a:pt x="21" y="178"/>
                    </a:lnTo>
                    <a:lnTo>
                      <a:pt x="0" y="183"/>
                    </a:lnTo>
                    <a:lnTo>
                      <a:pt x="0" y="572"/>
                    </a:lnTo>
                    <a:lnTo>
                      <a:pt x="21" y="567"/>
                    </a:lnTo>
                    <a:lnTo>
                      <a:pt x="41" y="567"/>
                    </a:lnTo>
                    <a:lnTo>
                      <a:pt x="62" y="567"/>
                    </a:lnTo>
                    <a:lnTo>
                      <a:pt x="83" y="567"/>
                    </a:lnTo>
                    <a:lnTo>
                      <a:pt x="103" y="567"/>
                    </a:lnTo>
                    <a:lnTo>
                      <a:pt x="124" y="567"/>
                    </a:lnTo>
                    <a:lnTo>
                      <a:pt x="145" y="562"/>
                    </a:lnTo>
                    <a:lnTo>
                      <a:pt x="165" y="562"/>
                    </a:lnTo>
                    <a:lnTo>
                      <a:pt x="186" y="562"/>
                    </a:lnTo>
                    <a:lnTo>
                      <a:pt x="202" y="562"/>
                    </a:lnTo>
                    <a:lnTo>
                      <a:pt x="223" y="558"/>
                    </a:lnTo>
                    <a:lnTo>
                      <a:pt x="244" y="558"/>
                    </a:lnTo>
                    <a:lnTo>
                      <a:pt x="264" y="553"/>
                    </a:lnTo>
                    <a:lnTo>
                      <a:pt x="285" y="553"/>
                    </a:lnTo>
                    <a:lnTo>
                      <a:pt x="306" y="553"/>
                    </a:lnTo>
                    <a:lnTo>
                      <a:pt x="322" y="548"/>
                    </a:lnTo>
                    <a:lnTo>
                      <a:pt x="343" y="548"/>
                    </a:lnTo>
                    <a:lnTo>
                      <a:pt x="364" y="543"/>
                    </a:lnTo>
                    <a:lnTo>
                      <a:pt x="380" y="543"/>
                    </a:lnTo>
                    <a:lnTo>
                      <a:pt x="401" y="538"/>
                    </a:lnTo>
                    <a:lnTo>
                      <a:pt x="417" y="538"/>
                    </a:lnTo>
                    <a:lnTo>
                      <a:pt x="438" y="533"/>
                    </a:lnTo>
                    <a:lnTo>
                      <a:pt x="459" y="533"/>
                    </a:lnTo>
                    <a:lnTo>
                      <a:pt x="475" y="528"/>
                    </a:lnTo>
                    <a:lnTo>
                      <a:pt x="492" y="523"/>
                    </a:lnTo>
                    <a:lnTo>
                      <a:pt x="512" y="523"/>
                    </a:lnTo>
                    <a:lnTo>
                      <a:pt x="529" y="518"/>
                    </a:lnTo>
                    <a:lnTo>
                      <a:pt x="545" y="513"/>
                    </a:lnTo>
                    <a:lnTo>
                      <a:pt x="566" y="513"/>
                    </a:lnTo>
                    <a:lnTo>
                      <a:pt x="583" y="508"/>
                    </a:lnTo>
                    <a:lnTo>
                      <a:pt x="599" y="503"/>
                    </a:lnTo>
                    <a:lnTo>
                      <a:pt x="616" y="503"/>
                    </a:lnTo>
                    <a:lnTo>
                      <a:pt x="632" y="498"/>
                    </a:lnTo>
                    <a:lnTo>
                      <a:pt x="649" y="493"/>
                    </a:lnTo>
                    <a:lnTo>
                      <a:pt x="665" y="489"/>
                    </a:lnTo>
                    <a:lnTo>
                      <a:pt x="682" y="484"/>
                    </a:lnTo>
                    <a:lnTo>
                      <a:pt x="698" y="479"/>
                    </a:lnTo>
                    <a:lnTo>
                      <a:pt x="711" y="479"/>
                    </a:lnTo>
                    <a:lnTo>
                      <a:pt x="727" y="474"/>
                    </a:lnTo>
                    <a:lnTo>
                      <a:pt x="744" y="469"/>
                    </a:lnTo>
                    <a:lnTo>
                      <a:pt x="756" y="464"/>
                    </a:lnTo>
                    <a:lnTo>
                      <a:pt x="773" y="459"/>
                    </a:lnTo>
                    <a:lnTo>
                      <a:pt x="785" y="454"/>
                    </a:lnTo>
                    <a:lnTo>
                      <a:pt x="801" y="449"/>
                    </a:lnTo>
                    <a:lnTo>
                      <a:pt x="814" y="444"/>
                    </a:lnTo>
                    <a:lnTo>
                      <a:pt x="826" y="439"/>
                    </a:lnTo>
                    <a:lnTo>
                      <a:pt x="843" y="434"/>
                    </a:lnTo>
                    <a:lnTo>
                      <a:pt x="855" y="429"/>
                    </a:lnTo>
                    <a:lnTo>
                      <a:pt x="868" y="424"/>
                    </a:lnTo>
                    <a:lnTo>
                      <a:pt x="880" y="420"/>
                    </a:lnTo>
                    <a:lnTo>
                      <a:pt x="892" y="415"/>
                    </a:lnTo>
                    <a:lnTo>
                      <a:pt x="905" y="410"/>
                    </a:lnTo>
                    <a:lnTo>
                      <a:pt x="913" y="405"/>
                    </a:lnTo>
                    <a:lnTo>
                      <a:pt x="925" y="400"/>
                    </a:lnTo>
                    <a:lnTo>
                      <a:pt x="938" y="395"/>
                    </a:lnTo>
                    <a:lnTo>
                      <a:pt x="946" y="390"/>
                    </a:lnTo>
                    <a:lnTo>
                      <a:pt x="946" y="0"/>
                    </a:lnTo>
                    <a:close/>
                  </a:path>
                </a:pathLst>
              </a:custGeom>
              <a:solidFill>
                <a:srgbClr val="80804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7"/>
              <p:cNvSpPr/>
              <p:nvPr/>
            </p:nvSpPr>
            <p:spPr>
              <a:xfrm rot="3500400">
                <a:off x="6477120" y="3260880"/>
                <a:ext cx="1041840" cy="356760"/>
              </a:xfrm>
              <a:custGeom>
                <a:avLst/>
                <a:gdLst/>
                <a:ahLst/>
                <a:rect l="l" t="t" r="r" b="b"/>
                <a:pathLst>
                  <a:path w="1029" h="370">
                    <a:moveTo>
                      <a:pt x="1029" y="187"/>
                    </a:moveTo>
                    <a:lnTo>
                      <a:pt x="1021" y="192"/>
                    </a:lnTo>
                    <a:lnTo>
                      <a:pt x="1008" y="197"/>
                    </a:lnTo>
                    <a:lnTo>
                      <a:pt x="996" y="202"/>
                    </a:lnTo>
                    <a:lnTo>
                      <a:pt x="988" y="207"/>
                    </a:lnTo>
                    <a:lnTo>
                      <a:pt x="975" y="212"/>
                    </a:lnTo>
                    <a:lnTo>
                      <a:pt x="963" y="217"/>
                    </a:lnTo>
                    <a:lnTo>
                      <a:pt x="951" y="222"/>
                    </a:lnTo>
                    <a:lnTo>
                      <a:pt x="938" y="227"/>
                    </a:lnTo>
                    <a:lnTo>
                      <a:pt x="926" y="232"/>
                    </a:lnTo>
                    <a:lnTo>
                      <a:pt x="909" y="237"/>
                    </a:lnTo>
                    <a:lnTo>
                      <a:pt x="897" y="242"/>
                    </a:lnTo>
                    <a:lnTo>
                      <a:pt x="884" y="247"/>
                    </a:lnTo>
                    <a:lnTo>
                      <a:pt x="868" y="252"/>
                    </a:lnTo>
                    <a:lnTo>
                      <a:pt x="856" y="256"/>
                    </a:lnTo>
                    <a:lnTo>
                      <a:pt x="839" y="261"/>
                    </a:lnTo>
                    <a:lnTo>
                      <a:pt x="827" y="266"/>
                    </a:lnTo>
                    <a:lnTo>
                      <a:pt x="810" y="271"/>
                    </a:lnTo>
                    <a:lnTo>
                      <a:pt x="794" y="276"/>
                    </a:lnTo>
                    <a:lnTo>
                      <a:pt x="781" y="276"/>
                    </a:lnTo>
                    <a:lnTo>
                      <a:pt x="765" y="281"/>
                    </a:lnTo>
                    <a:lnTo>
                      <a:pt x="748" y="286"/>
                    </a:lnTo>
                    <a:lnTo>
                      <a:pt x="732" y="291"/>
                    </a:lnTo>
                    <a:lnTo>
                      <a:pt x="715" y="296"/>
                    </a:lnTo>
                    <a:lnTo>
                      <a:pt x="699" y="301"/>
                    </a:lnTo>
                    <a:lnTo>
                      <a:pt x="682" y="301"/>
                    </a:lnTo>
                    <a:lnTo>
                      <a:pt x="666" y="306"/>
                    </a:lnTo>
                    <a:lnTo>
                      <a:pt x="649" y="311"/>
                    </a:lnTo>
                    <a:lnTo>
                      <a:pt x="628" y="311"/>
                    </a:lnTo>
                    <a:lnTo>
                      <a:pt x="612" y="316"/>
                    </a:lnTo>
                    <a:lnTo>
                      <a:pt x="595" y="321"/>
                    </a:lnTo>
                    <a:lnTo>
                      <a:pt x="575" y="321"/>
                    </a:lnTo>
                    <a:lnTo>
                      <a:pt x="558" y="325"/>
                    </a:lnTo>
                    <a:lnTo>
                      <a:pt x="542" y="330"/>
                    </a:lnTo>
                    <a:lnTo>
                      <a:pt x="521" y="330"/>
                    </a:lnTo>
                    <a:lnTo>
                      <a:pt x="500" y="335"/>
                    </a:lnTo>
                    <a:lnTo>
                      <a:pt x="484" y="335"/>
                    </a:lnTo>
                    <a:lnTo>
                      <a:pt x="463" y="340"/>
                    </a:lnTo>
                    <a:lnTo>
                      <a:pt x="447" y="340"/>
                    </a:lnTo>
                    <a:lnTo>
                      <a:pt x="426" y="345"/>
                    </a:lnTo>
                    <a:lnTo>
                      <a:pt x="405" y="345"/>
                    </a:lnTo>
                    <a:lnTo>
                      <a:pt x="389" y="350"/>
                    </a:lnTo>
                    <a:lnTo>
                      <a:pt x="368" y="350"/>
                    </a:lnTo>
                    <a:lnTo>
                      <a:pt x="347" y="350"/>
                    </a:lnTo>
                    <a:lnTo>
                      <a:pt x="327" y="355"/>
                    </a:lnTo>
                    <a:lnTo>
                      <a:pt x="306" y="355"/>
                    </a:lnTo>
                    <a:lnTo>
                      <a:pt x="285" y="360"/>
                    </a:lnTo>
                    <a:lnTo>
                      <a:pt x="269" y="360"/>
                    </a:lnTo>
                    <a:lnTo>
                      <a:pt x="248" y="360"/>
                    </a:lnTo>
                    <a:lnTo>
                      <a:pt x="228" y="360"/>
                    </a:lnTo>
                    <a:lnTo>
                      <a:pt x="207" y="365"/>
                    </a:lnTo>
                    <a:lnTo>
                      <a:pt x="186" y="365"/>
                    </a:lnTo>
                    <a:lnTo>
                      <a:pt x="166" y="365"/>
                    </a:lnTo>
                    <a:lnTo>
                      <a:pt x="145" y="365"/>
                    </a:lnTo>
                    <a:lnTo>
                      <a:pt x="124" y="365"/>
                    </a:lnTo>
                    <a:lnTo>
                      <a:pt x="104" y="365"/>
                    </a:lnTo>
                    <a:lnTo>
                      <a:pt x="83" y="370"/>
                    </a:lnTo>
                    <a:lnTo>
                      <a:pt x="0" y="0"/>
                    </a:lnTo>
                    <a:lnTo>
                      <a:pt x="1029" y="187"/>
                    </a:lnTo>
                    <a:close/>
                  </a:path>
                </a:pathLst>
              </a:custGeom>
              <a:solidFill>
                <a:srgbClr val="ffff99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8"/>
              <p:cNvSpPr/>
              <p:nvPr/>
            </p:nvSpPr>
            <p:spPr>
              <a:xfrm rot="3500400">
                <a:off x="5581440" y="2230920"/>
                <a:ext cx="1278720" cy="690120"/>
              </a:xfrm>
              <a:custGeom>
                <a:avLst/>
                <a:gdLst/>
                <a:ahLst/>
                <a:rect l="l" t="t" r="r" b="b"/>
                <a:pathLst>
                  <a:path w="1264" h="715">
                    <a:moveTo>
                      <a:pt x="1264" y="326"/>
                    </a:moveTo>
                    <a:lnTo>
                      <a:pt x="1243" y="326"/>
                    </a:lnTo>
                    <a:lnTo>
                      <a:pt x="1223" y="326"/>
                    </a:lnTo>
                    <a:lnTo>
                      <a:pt x="1202" y="326"/>
                    </a:lnTo>
                    <a:lnTo>
                      <a:pt x="1181" y="326"/>
                    </a:lnTo>
                    <a:lnTo>
                      <a:pt x="1161" y="326"/>
                    </a:lnTo>
                    <a:lnTo>
                      <a:pt x="1140" y="326"/>
                    </a:lnTo>
                    <a:lnTo>
                      <a:pt x="1119" y="326"/>
                    </a:lnTo>
                    <a:lnTo>
                      <a:pt x="1099" y="326"/>
                    </a:lnTo>
                    <a:lnTo>
                      <a:pt x="1078" y="321"/>
                    </a:lnTo>
                    <a:lnTo>
                      <a:pt x="1057" y="321"/>
                    </a:lnTo>
                    <a:lnTo>
                      <a:pt x="1037" y="321"/>
                    </a:lnTo>
                    <a:lnTo>
                      <a:pt x="1016" y="321"/>
                    </a:lnTo>
                    <a:lnTo>
                      <a:pt x="995" y="321"/>
                    </a:lnTo>
                    <a:lnTo>
                      <a:pt x="975" y="321"/>
                    </a:lnTo>
                    <a:lnTo>
                      <a:pt x="954" y="316"/>
                    </a:lnTo>
                    <a:lnTo>
                      <a:pt x="933" y="316"/>
                    </a:lnTo>
                    <a:lnTo>
                      <a:pt x="913" y="316"/>
                    </a:lnTo>
                    <a:lnTo>
                      <a:pt x="892" y="316"/>
                    </a:lnTo>
                    <a:lnTo>
                      <a:pt x="871" y="311"/>
                    </a:lnTo>
                    <a:lnTo>
                      <a:pt x="851" y="311"/>
                    </a:lnTo>
                    <a:lnTo>
                      <a:pt x="834" y="306"/>
                    </a:lnTo>
                    <a:lnTo>
                      <a:pt x="813" y="306"/>
                    </a:lnTo>
                    <a:lnTo>
                      <a:pt x="793" y="306"/>
                    </a:lnTo>
                    <a:lnTo>
                      <a:pt x="772" y="301"/>
                    </a:lnTo>
                    <a:lnTo>
                      <a:pt x="756" y="301"/>
                    </a:lnTo>
                    <a:lnTo>
                      <a:pt x="735" y="296"/>
                    </a:lnTo>
                    <a:lnTo>
                      <a:pt x="714" y="296"/>
                    </a:lnTo>
                    <a:lnTo>
                      <a:pt x="698" y="291"/>
                    </a:lnTo>
                    <a:lnTo>
                      <a:pt x="677" y="291"/>
                    </a:lnTo>
                    <a:lnTo>
                      <a:pt x="661" y="286"/>
                    </a:lnTo>
                    <a:lnTo>
                      <a:pt x="640" y="286"/>
                    </a:lnTo>
                    <a:lnTo>
                      <a:pt x="623" y="281"/>
                    </a:lnTo>
                    <a:lnTo>
                      <a:pt x="603" y="277"/>
                    </a:lnTo>
                    <a:lnTo>
                      <a:pt x="586" y="277"/>
                    </a:lnTo>
                    <a:lnTo>
                      <a:pt x="566" y="272"/>
                    </a:lnTo>
                    <a:lnTo>
                      <a:pt x="549" y="267"/>
                    </a:lnTo>
                    <a:lnTo>
                      <a:pt x="533" y="267"/>
                    </a:lnTo>
                    <a:lnTo>
                      <a:pt x="516" y="262"/>
                    </a:lnTo>
                    <a:lnTo>
                      <a:pt x="499" y="257"/>
                    </a:lnTo>
                    <a:lnTo>
                      <a:pt x="479" y="257"/>
                    </a:lnTo>
                    <a:lnTo>
                      <a:pt x="462" y="252"/>
                    </a:lnTo>
                    <a:lnTo>
                      <a:pt x="446" y="247"/>
                    </a:lnTo>
                    <a:lnTo>
                      <a:pt x="433" y="242"/>
                    </a:lnTo>
                    <a:lnTo>
                      <a:pt x="417" y="237"/>
                    </a:lnTo>
                    <a:lnTo>
                      <a:pt x="400" y="232"/>
                    </a:lnTo>
                    <a:lnTo>
                      <a:pt x="384" y="232"/>
                    </a:lnTo>
                    <a:lnTo>
                      <a:pt x="367" y="227"/>
                    </a:lnTo>
                    <a:lnTo>
                      <a:pt x="355" y="222"/>
                    </a:lnTo>
                    <a:lnTo>
                      <a:pt x="338" y="217"/>
                    </a:lnTo>
                    <a:lnTo>
                      <a:pt x="326" y="212"/>
                    </a:lnTo>
                    <a:lnTo>
                      <a:pt x="309" y="208"/>
                    </a:lnTo>
                    <a:lnTo>
                      <a:pt x="297" y="203"/>
                    </a:lnTo>
                    <a:lnTo>
                      <a:pt x="280" y="198"/>
                    </a:lnTo>
                    <a:lnTo>
                      <a:pt x="268" y="193"/>
                    </a:lnTo>
                    <a:lnTo>
                      <a:pt x="256" y="188"/>
                    </a:lnTo>
                    <a:lnTo>
                      <a:pt x="243" y="183"/>
                    </a:lnTo>
                    <a:lnTo>
                      <a:pt x="231" y="178"/>
                    </a:lnTo>
                    <a:lnTo>
                      <a:pt x="219" y="173"/>
                    </a:lnTo>
                    <a:lnTo>
                      <a:pt x="206" y="168"/>
                    </a:lnTo>
                    <a:lnTo>
                      <a:pt x="194" y="163"/>
                    </a:lnTo>
                    <a:lnTo>
                      <a:pt x="181" y="158"/>
                    </a:lnTo>
                    <a:lnTo>
                      <a:pt x="173" y="153"/>
                    </a:lnTo>
                    <a:lnTo>
                      <a:pt x="161" y="148"/>
                    </a:lnTo>
                    <a:lnTo>
                      <a:pt x="148" y="143"/>
                    </a:lnTo>
                    <a:lnTo>
                      <a:pt x="140" y="134"/>
                    </a:lnTo>
                    <a:lnTo>
                      <a:pt x="128" y="129"/>
                    </a:lnTo>
                    <a:lnTo>
                      <a:pt x="119" y="124"/>
                    </a:lnTo>
                    <a:lnTo>
                      <a:pt x="111" y="119"/>
                    </a:lnTo>
                    <a:lnTo>
                      <a:pt x="103" y="114"/>
                    </a:lnTo>
                    <a:lnTo>
                      <a:pt x="95" y="109"/>
                    </a:lnTo>
                    <a:lnTo>
                      <a:pt x="86" y="99"/>
                    </a:lnTo>
                    <a:lnTo>
                      <a:pt x="78" y="94"/>
                    </a:lnTo>
                    <a:lnTo>
                      <a:pt x="70" y="89"/>
                    </a:lnTo>
                    <a:lnTo>
                      <a:pt x="62" y="84"/>
                    </a:lnTo>
                    <a:lnTo>
                      <a:pt x="53" y="79"/>
                    </a:lnTo>
                    <a:lnTo>
                      <a:pt x="49" y="69"/>
                    </a:lnTo>
                    <a:lnTo>
                      <a:pt x="41" y="65"/>
                    </a:lnTo>
                    <a:lnTo>
                      <a:pt x="37" y="60"/>
                    </a:lnTo>
                    <a:lnTo>
                      <a:pt x="33" y="55"/>
                    </a:lnTo>
                    <a:lnTo>
                      <a:pt x="24" y="45"/>
                    </a:lnTo>
                    <a:lnTo>
                      <a:pt x="20" y="40"/>
                    </a:lnTo>
                    <a:lnTo>
                      <a:pt x="16" y="35"/>
                    </a:lnTo>
                    <a:lnTo>
                      <a:pt x="12" y="25"/>
                    </a:lnTo>
                    <a:lnTo>
                      <a:pt x="8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390"/>
                    </a:lnTo>
                    <a:lnTo>
                      <a:pt x="4" y="400"/>
                    </a:lnTo>
                    <a:lnTo>
                      <a:pt x="4" y="405"/>
                    </a:lnTo>
                    <a:lnTo>
                      <a:pt x="8" y="410"/>
                    </a:lnTo>
                    <a:lnTo>
                      <a:pt x="12" y="415"/>
                    </a:lnTo>
                    <a:lnTo>
                      <a:pt x="16" y="424"/>
                    </a:lnTo>
                    <a:lnTo>
                      <a:pt x="20" y="429"/>
                    </a:lnTo>
                    <a:lnTo>
                      <a:pt x="24" y="434"/>
                    </a:lnTo>
                    <a:lnTo>
                      <a:pt x="33" y="444"/>
                    </a:lnTo>
                    <a:lnTo>
                      <a:pt x="37" y="449"/>
                    </a:lnTo>
                    <a:lnTo>
                      <a:pt x="41" y="454"/>
                    </a:lnTo>
                    <a:lnTo>
                      <a:pt x="49" y="459"/>
                    </a:lnTo>
                    <a:lnTo>
                      <a:pt x="53" y="469"/>
                    </a:lnTo>
                    <a:lnTo>
                      <a:pt x="62" y="474"/>
                    </a:lnTo>
                    <a:lnTo>
                      <a:pt x="70" y="479"/>
                    </a:lnTo>
                    <a:lnTo>
                      <a:pt x="78" y="484"/>
                    </a:lnTo>
                    <a:lnTo>
                      <a:pt x="86" y="489"/>
                    </a:lnTo>
                    <a:lnTo>
                      <a:pt x="95" y="498"/>
                    </a:lnTo>
                    <a:lnTo>
                      <a:pt x="103" y="503"/>
                    </a:lnTo>
                    <a:lnTo>
                      <a:pt x="111" y="508"/>
                    </a:lnTo>
                    <a:lnTo>
                      <a:pt x="119" y="513"/>
                    </a:lnTo>
                    <a:lnTo>
                      <a:pt x="128" y="518"/>
                    </a:lnTo>
                    <a:lnTo>
                      <a:pt x="140" y="523"/>
                    </a:lnTo>
                    <a:lnTo>
                      <a:pt x="148" y="533"/>
                    </a:lnTo>
                    <a:lnTo>
                      <a:pt x="161" y="538"/>
                    </a:lnTo>
                    <a:lnTo>
                      <a:pt x="173" y="543"/>
                    </a:lnTo>
                    <a:lnTo>
                      <a:pt x="181" y="548"/>
                    </a:lnTo>
                    <a:lnTo>
                      <a:pt x="194" y="553"/>
                    </a:lnTo>
                    <a:lnTo>
                      <a:pt x="206" y="558"/>
                    </a:lnTo>
                    <a:lnTo>
                      <a:pt x="219" y="563"/>
                    </a:lnTo>
                    <a:lnTo>
                      <a:pt x="231" y="567"/>
                    </a:lnTo>
                    <a:lnTo>
                      <a:pt x="243" y="572"/>
                    </a:lnTo>
                    <a:lnTo>
                      <a:pt x="256" y="577"/>
                    </a:lnTo>
                    <a:lnTo>
                      <a:pt x="268" y="582"/>
                    </a:lnTo>
                    <a:lnTo>
                      <a:pt x="280" y="587"/>
                    </a:lnTo>
                    <a:lnTo>
                      <a:pt x="297" y="592"/>
                    </a:lnTo>
                    <a:lnTo>
                      <a:pt x="309" y="597"/>
                    </a:lnTo>
                    <a:lnTo>
                      <a:pt x="326" y="602"/>
                    </a:lnTo>
                    <a:lnTo>
                      <a:pt x="338" y="607"/>
                    </a:lnTo>
                    <a:lnTo>
                      <a:pt x="355" y="612"/>
                    </a:lnTo>
                    <a:lnTo>
                      <a:pt x="367" y="617"/>
                    </a:lnTo>
                    <a:lnTo>
                      <a:pt x="384" y="622"/>
                    </a:lnTo>
                    <a:lnTo>
                      <a:pt x="400" y="622"/>
                    </a:lnTo>
                    <a:lnTo>
                      <a:pt x="417" y="627"/>
                    </a:lnTo>
                    <a:lnTo>
                      <a:pt x="433" y="632"/>
                    </a:lnTo>
                    <a:lnTo>
                      <a:pt x="446" y="636"/>
                    </a:lnTo>
                    <a:lnTo>
                      <a:pt x="462" y="641"/>
                    </a:lnTo>
                    <a:lnTo>
                      <a:pt x="479" y="646"/>
                    </a:lnTo>
                    <a:lnTo>
                      <a:pt x="499" y="646"/>
                    </a:lnTo>
                    <a:lnTo>
                      <a:pt x="516" y="651"/>
                    </a:lnTo>
                    <a:lnTo>
                      <a:pt x="533" y="656"/>
                    </a:lnTo>
                    <a:lnTo>
                      <a:pt x="549" y="656"/>
                    </a:lnTo>
                    <a:lnTo>
                      <a:pt x="566" y="661"/>
                    </a:lnTo>
                    <a:lnTo>
                      <a:pt x="586" y="666"/>
                    </a:lnTo>
                    <a:lnTo>
                      <a:pt x="603" y="666"/>
                    </a:lnTo>
                    <a:lnTo>
                      <a:pt x="623" y="671"/>
                    </a:lnTo>
                    <a:lnTo>
                      <a:pt x="640" y="676"/>
                    </a:lnTo>
                    <a:lnTo>
                      <a:pt x="661" y="676"/>
                    </a:lnTo>
                    <a:lnTo>
                      <a:pt x="677" y="681"/>
                    </a:lnTo>
                    <a:lnTo>
                      <a:pt x="698" y="681"/>
                    </a:lnTo>
                    <a:lnTo>
                      <a:pt x="714" y="686"/>
                    </a:lnTo>
                    <a:lnTo>
                      <a:pt x="735" y="686"/>
                    </a:lnTo>
                    <a:lnTo>
                      <a:pt x="756" y="691"/>
                    </a:lnTo>
                    <a:lnTo>
                      <a:pt x="772" y="691"/>
                    </a:lnTo>
                    <a:lnTo>
                      <a:pt x="793" y="696"/>
                    </a:lnTo>
                    <a:lnTo>
                      <a:pt x="813" y="696"/>
                    </a:lnTo>
                    <a:lnTo>
                      <a:pt x="834" y="696"/>
                    </a:lnTo>
                    <a:lnTo>
                      <a:pt x="851" y="701"/>
                    </a:lnTo>
                    <a:lnTo>
                      <a:pt x="871" y="701"/>
                    </a:lnTo>
                    <a:lnTo>
                      <a:pt x="892" y="705"/>
                    </a:lnTo>
                    <a:lnTo>
                      <a:pt x="913" y="705"/>
                    </a:lnTo>
                    <a:lnTo>
                      <a:pt x="933" y="705"/>
                    </a:lnTo>
                    <a:lnTo>
                      <a:pt x="954" y="705"/>
                    </a:lnTo>
                    <a:lnTo>
                      <a:pt x="975" y="710"/>
                    </a:lnTo>
                    <a:lnTo>
                      <a:pt x="995" y="710"/>
                    </a:lnTo>
                    <a:lnTo>
                      <a:pt x="1016" y="710"/>
                    </a:lnTo>
                    <a:lnTo>
                      <a:pt x="1037" y="710"/>
                    </a:lnTo>
                    <a:lnTo>
                      <a:pt x="1057" y="710"/>
                    </a:lnTo>
                    <a:lnTo>
                      <a:pt x="1078" y="710"/>
                    </a:lnTo>
                    <a:lnTo>
                      <a:pt x="1099" y="715"/>
                    </a:lnTo>
                    <a:lnTo>
                      <a:pt x="1119" y="715"/>
                    </a:lnTo>
                    <a:lnTo>
                      <a:pt x="1140" y="715"/>
                    </a:lnTo>
                    <a:lnTo>
                      <a:pt x="1161" y="715"/>
                    </a:lnTo>
                    <a:lnTo>
                      <a:pt x="1181" y="715"/>
                    </a:lnTo>
                    <a:lnTo>
                      <a:pt x="1202" y="715"/>
                    </a:lnTo>
                    <a:lnTo>
                      <a:pt x="1223" y="715"/>
                    </a:lnTo>
                    <a:lnTo>
                      <a:pt x="1243" y="715"/>
                    </a:lnTo>
                    <a:lnTo>
                      <a:pt x="1264" y="715"/>
                    </a:lnTo>
                    <a:lnTo>
                      <a:pt x="1264" y="326"/>
                    </a:lnTo>
                    <a:close/>
                  </a:path>
                </a:pathLst>
              </a:custGeom>
              <a:solidFill>
                <a:srgbClr val="4d66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9"/>
              <p:cNvSpPr/>
              <p:nvPr/>
            </p:nvSpPr>
            <p:spPr>
              <a:xfrm rot="3500400">
                <a:off x="5759280" y="2288160"/>
                <a:ext cx="1278720" cy="356760"/>
              </a:xfrm>
              <a:custGeom>
                <a:avLst/>
                <a:gdLst/>
                <a:ahLst/>
                <a:rect l="l" t="t" r="r" b="b"/>
                <a:pathLst>
                  <a:path w="1264" h="370">
                    <a:moveTo>
                      <a:pt x="1264" y="370"/>
                    </a:moveTo>
                    <a:lnTo>
                      <a:pt x="1243" y="370"/>
                    </a:lnTo>
                    <a:lnTo>
                      <a:pt x="1223" y="370"/>
                    </a:lnTo>
                    <a:lnTo>
                      <a:pt x="1202" y="370"/>
                    </a:lnTo>
                    <a:lnTo>
                      <a:pt x="1181" y="370"/>
                    </a:lnTo>
                    <a:lnTo>
                      <a:pt x="1161" y="370"/>
                    </a:lnTo>
                    <a:lnTo>
                      <a:pt x="1140" y="370"/>
                    </a:lnTo>
                    <a:lnTo>
                      <a:pt x="1119" y="370"/>
                    </a:lnTo>
                    <a:lnTo>
                      <a:pt x="1099" y="370"/>
                    </a:lnTo>
                    <a:lnTo>
                      <a:pt x="1078" y="365"/>
                    </a:lnTo>
                    <a:lnTo>
                      <a:pt x="1057" y="365"/>
                    </a:lnTo>
                    <a:lnTo>
                      <a:pt x="1037" y="365"/>
                    </a:lnTo>
                    <a:lnTo>
                      <a:pt x="1016" y="365"/>
                    </a:lnTo>
                    <a:lnTo>
                      <a:pt x="995" y="365"/>
                    </a:lnTo>
                    <a:lnTo>
                      <a:pt x="975" y="365"/>
                    </a:lnTo>
                    <a:lnTo>
                      <a:pt x="954" y="360"/>
                    </a:lnTo>
                    <a:lnTo>
                      <a:pt x="933" y="360"/>
                    </a:lnTo>
                    <a:lnTo>
                      <a:pt x="913" y="360"/>
                    </a:lnTo>
                    <a:lnTo>
                      <a:pt x="892" y="360"/>
                    </a:lnTo>
                    <a:lnTo>
                      <a:pt x="871" y="355"/>
                    </a:lnTo>
                    <a:lnTo>
                      <a:pt x="851" y="355"/>
                    </a:lnTo>
                    <a:lnTo>
                      <a:pt x="834" y="350"/>
                    </a:lnTo>
                    <a:lnTo>
                      <a:pt x="813" y="350"/>
                    </a:lnTo>
                    <a:lnTo>
                      <a:pt x="793" y="350"/>
                    </a:lnTo>
                    <a:lnTo>
                      <a:pt x="772" y="345"/>
                    </a:lnTo>
                    <a:lnTo>
                      <a:pt x="756" y="345"/>
                    </a:lnTo>
                    <a:lnTo>
                      <a:pt x="735" y="340"/>
                    </a:lnTo>
                    <a:lnTo>
                      <a:pt x="714" y="340"/>
                    </a:lnTo>
                    <a:lnTo>
                      <a:pt x="698" y="335"/>
                    </a:lnTo>
                    <a:lnTo>
                      <a:pt x="677" y="335"/>
                    </a:lnTo>
                    <a:lnTo>
                      <a:pt x="661" y="330"/>
                    </a:lnTo>
                    <a:lnTo>
                      <a:pt x="640" y="330"/>
                    </a:lnTo>
                    <a:lnTo>
                      <a:pt x="623" y="325"/>
                    </a:lnTo>
                    <a:lnTo>
                      <a:pt x="603" y="321"/>
                    </a:lnTo>
                    <a:lnTo>
                      <a:pt x="586" y="321"/>
                    </a:lnTo>
                    <a:lnTo>
                      <a:pt x="566" y="316"/>
                    </a:lnTo>
                    <a:lnTo>
                      <a:pt x="549" y="311"/>
                    </a:lnTo>
                    <a:lnTo>
                      <a:pt x="533" y="311"/>
                    </a:lnTo>
                    <a:lnTo>
                      <a:pt x="516" y="306"/>
                    </a:lnTo>
                    <a:lnTo>
                      <a:pt x="499" y="301"/>
                    </a:lnTo>
                    <a:lnTo>
                      <a:pt x="479" y="301"/>
                    </a:lnTo>
                    <a:lnTo>
                      <a:pt x="462" y="296"/>
                    </a:lnTo>
                    <a:lnTo>
                      <a:pt x="446" y="291"/>
                    </a:lnTo>
                    <a:lnTo>
                      <a:pt x="433" y="286"/>
                    </a:lnTo>
                    <a:lnTo>
                      <a:pt x="417" y="281"/>
                    </a:lnTo>
                    <a:lnTo>
                      <a:pt x="400" y="276"/>
                    </a:lnTo>
                    <a:lnTo>
                      <a:pt x="384" y="276"/>
                    </a:lnTo>
                    <a:lnTo>
                      <a:pt x="367" y="271"/>
                    </a:lnTo>
                    <a:lnTo>
                      <a:pt x="355" y="266"/>
                    </a:lnTo>
                    <a:lnTo>
                      <a:pt x="338" y="261"/>
                    </a:lnTo>
                    <a:lnTo>
                      <a:pt x="326" y="256"/>
                    </a:lnTo>
                    <a:lnTo>
                      <a:pt x="309" y="252"/>
                    </a:lnTo>
                    <a:lnTo>
                      <a:pt x="297" y="247"/>
                    </a:lnTo>
                    <a:lnTo>
                      <a:pt x="280" y="242"/>
                    </a:lnTo>
                    <a:lnTo>
                      <a:pt x="268" y="237"/>
                    </a:lnTo>
                    <a:lnTo>
                      <a:pt x="256" y="232"/>
                    </a:lnTo>
                    <a:lnTo>
                      <a:pt x="243" y="227"/>
                    </a:lnTo>
                    <a:lnTo>
                      <a:pt x="231" y="222"/>
                    </a:lnTo>
                    <a:lnTo>
                      <a:pt x="219" y="217"/>
                    </a:lnTo>
                    <a:lnTo>
                      <a:pt x="206" y="212"/>
                    </a:lnTo>
                    <a:lnTo>
                      <a:pt x="194" y="207"/>
                    </a:lnTo>
                    <a:lnTo>
                      <a:pt x="181" y="202"/>
                    </a:lnTo>
                    <a:lnTo>
                      <a:pt x="173" y="197"/>
                    </a:lnTo>
                    <a:lnTo>
                      <a:pt x="161" y="192"/>
                    </a:lnTo>
                    <a:lnTo>
                      <a:pt x="148" y="187"/>
                    </a:lnTo>
                    <a:lnTo>
                      <a:pt x="140" y="178"/>
                    </a:lnTo>
                    <a:lnTo>
                      <a:pt x="128" y="173"/>
                    </a:lnTo>
                    <a:lnTo>
                      <a:pt x="119" y="168"/>
                    </a:lnTo>
                    <a:lnTo>
                      <a:pt x="111" y="163"/>
                    </a:lnTo>
                    <a:lnTo>
                      <a:pt x="103" y="158"/>
                    </a:lnTo>
                    <a:lnTo>
                      <a:pt x="95" y="153"/>
                    </a:lnTo>
                    <a:lnTo>
                      <a:pt x="86" y="143"/>
                    </a:lnTo>
                    <a:lnTo>
                      <a:pt x="78" y="138"/>
                    </a:lnTo>
                    <a:lnTo>
                      <a:pt x="70" y="133"/>
                    </a:lnTo>
                    <a:lnTo>
                      <a:pt x="62" y="128"/>
                    </a:lnTo>
                    <a:lnTo>
                      <a:pt x="53" y="123"/>
                    </a:lnTo>
                    <a:lnTo>
                      <a:pt x="49" y="113"/>
                    </a:lnTo>
                    <a:lnTo>
                      <a:pt x="41" y="109"/>
                    </a:lnTo>
                    <a:lnTo>
                      <a:pt x="37" y="104"/>
                    </a:lnTo>
                    <a:lnTo>
                      <a:pt x="33" y="99"/>
                    </a:lnTo>
                    <a:lnTo>
                      <a:pt x="24" y="89"/>
                    </a:lnTo>
                    <a:lnTo>
                      <a:pt x="20" y="84"/>
                    </a:lnTo>
                    <a:lnTo>
                      <a:pt x="16" y="79"/>
                    </a:lnTo>
                    <a:lnTo>
                      <a:pt x="12" y="69"/>
                    </a:lnTo>
                    <a:lnTo>
                      <a:pt x="8" y="64"/>
                    </a:lnTo>
                    <a:lnTo>
                      <a:pt x="4" y="59"/>
                    </a:lnTo>
                    <a:lnTo>
                      <a:pt x="4" y="54"/>
                    </a:lnTo>
                    <a:lnTo>
                      <a:pt x="0" y="44"/>
                    </a:lnTo>
                    <a:lnTo>
                      <a:pt x="1181" y="0"/>
                    </a:lnTo>
                    <a:lnTo>
                      <a:pt x="1264" y="370"/>
                    </a:lnTo>
                    <a:close/>
                  </a:path>
                </a:pathLst>
              </a:custGeom>
              <a:solidFill>
                <a:srgbClr val="99c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70"/>
            <p:cNvSpPr/>
            <p:nvPr/>
          </p:nvSpPr>
          <p:spPr>
            <a:xfrm>
              <a:off x="6539400" y="4220280"/>
              <a:ext cx="20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S. Africa Indian Ocean - 24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71"/>
            <p:cNvSpPr/>
            <p:nvPr/>
          </p:nvSpPr>
          <p:spPr>
            <a:xfrm>
              <a:off x="5934240" y="1477800"/>
              <a:ext cx="1880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W. Africa &amp; Sahel – 24%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72"/>
            <p:cNvSpPr/>
            <p:nvPr/>
          </p:nvSpPr>
          <p:spPr>
            <a:xfrm>
              <a:off x="7322760" y="2608920"/>
              <a:ext cx="1421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ibbean &amp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ific - 1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3"/>
            <p:cNvSpPr/>
            <p:nvPr/>
          </p:nvSpPr>
          <p:spPr>
            <a:xfrm>
              <a:off x="7007040" y="2125080"/>
              <a:ext cx="1514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C&amp;E Africa - 25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74"/>
            <p:cNvSpPr/>
            <p:nvPr/>
          </p:nvSpPr>
          <p:spPr>
            <a:xfrm>
              <a:off x="7469640" y="3416400"/>
              <a:ext cx="119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Regiona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ACP - 17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89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21" name="Text Box 90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91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99"/>
          <p:cNvSpPr/>
          <p:nvPr/>
        </p:nvSpPr>
        <p:spPr>
          <a:xfrm>
            <a:off x="501480" y="981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EIB in the Pacific (last 25yrs - EUR 312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233C-491E-41EE-BDB5-17A7AB602F87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27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5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Eligible Beneficiaries: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971640" y="1916280"/>
            <a:ext cx="7777080" cy="6426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Priv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ntrepreneurs and commercially-run public sector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971640" y="303228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Investment funds and other financial intermedi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971640" y="387504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1125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ACP and international ent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71640" y="471816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Large enterprises, SMEs and Micro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9391-E507-4750-93CA-E21A08F47FAE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6"/>
          <p:cNvSpPr/>
          <p:nvPr/>
        </p:nvSpPr>
        <p:spPr>
          <a:xfrm>
            <a:off x="971640" y="3716280"/>
            <a:ext cx="7921440" cy="26654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971640" y="4691160"/>
            <a:ext cx="79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1"/>
              </a:buBlip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limate Action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24%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39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5"/>
          <p:cNvSpPr/>
          <p:nvPr/>
        </p:nvSpPr>
        <p:spPr>
          <a:xfrm>
            <a:off x="971640" y="98100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Focal Sectors for EIB under Cotonou Agreement &amp; </a:t>
            </a:r>
            <a:br>
              <a:rPr sz="2000"/>
            </a:b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OCT Overseas Association Decision  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971640" y="2043000"/>
            <a:ext cx="792144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Strateg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971640" y="3716280"/>
            <a:ext cx="792144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Prioriti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971640" y="4005360"/>
            <a:ext cx="79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2"/>
              </a:buBlip>
              <a:tabLst>
                <a:tab algn="l" pos="361800"/>
                <a:tab algn="l" pos="2333520"/>
                <a:tab algn="l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Private sector support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60%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9"/>
          <p:cNvSpPr/>
          <p:nvPr/>
        </p:nvSpPr>
        <p:spPr>
          <a:xfrm>
            <a:off x="971640" y="4348080"/>
            <a:ext cx="79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3"/>
              </a:buBlip>
              <a:tabLst>
                <a:tab algn="l" pos="361800"/>
                <a:tab algn="l" pos="2333520"/>
                <a:tab algn="l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Regional dimension/integration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17%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0"/>
          <p:cNvSpPr/>
          <p:nvPr/>
        </p:nvSpPr>
        <p:spPr>
          <a:xfrm rot="8108400">
            <a:off x="4139640" y="2545920"/>
            <a:ext cx="360360" cy="360360"/>
          </a:xfrm>
          <a:custGeom>
            <a:avLst/>
            <a:gdLst>
              <a:gd name="textAreaLeft" fmla="*/ 56160 w 360360"/>
              <a:gd name="textAreaRight" fmla="*/ 315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1"/>
          <p:cNvSpPr/>
          <p:nvPr/>
        </p:nvSpPr>
        <p:spPr>
          <a:xfrm rot="3425400">
            <a:off x="5148000" y="2540160"/>
            <a:ext cx="360360" cy="360360"/>
          </a:xfrm>
          <a:custGeom>
            <a:avLst/>
            <a:gdLst>
              <a:gd name="textAreaLeft" fmla="*/ 56160 w 360360"/>
              <a:gd name="textAreaRight" fmla="*/ 315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971640" y="3030480"/>
            <a:ext cx="3744720" cy="66852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3"/>
          <p:cNvSpPr/>
          <p:nvPr/>
        </p:nvSpPr>
        <p:spPr>
          <a:xfrm>
            <a:off x="5148360" y="3030480"/>
            <a:ext cx="3744720" cy="66996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Financial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971640" y="5033160"/>
            <a:ext cx="7921440" cy="39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4"/>
              </a:buBlip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o-financed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65%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971640" y="5443560"/>
            <a:ext cx="792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spcBef>
                <a:spcPts val="1001"/>
              </a:spcBef>
              <a:buSzPct val="102812"/>
              <a:buBlip>
                <a:blip r:embed="rId5"/>
              </a:buBlip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Green Growth: </a:t>
            </a:r>
            <a:br>
              <a:rPr sz="1600"/>
            </a:b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GEEREF (Global Energy Efficiency and Renewable Energy Fun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971640" y="5987880"/>
            <a:ext cx="79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6"/>
              </a:buBlip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Growth/development: job creation and poverty alleviation (ESIAF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796C-A099-46EE-A64C-C9F77CBDFD30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56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8" name=""/>
          <p:cNvGraphicFramePr/>
          <p:nvPr/>
        </p:nvGraphicFramePr>
        <p:xfrm>
          <a:off x="324000" y="1341360"/>
          <a:ext cx="8569080" cy="5157720"/>
        </p:xfrm>
        <a:graphic>
          <a:graphicData uri="http://schemas.openxmlformats.org/drawingml/2006/table">
            <a:tbl>
              <a:tblPr/>
              <a:tblGrid>
                <a:gridCol w="1081080"/>
                <a:gridCol w="1385640"/>
                <a:gridCol w="3559320"/>
                <a:gridCol w="901800"/>
                <a:gridCol w="820440"/>
                <a:gridCol w="820800"/>
              </a:tblGrid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atu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bur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cell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OA VENTURE CAPITAL FU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86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5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77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val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T GL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j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OTEL DENARAU PROJECT (I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00,86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3,25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77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2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29,17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70,82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29,17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m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OMBANGARA FOREST PRO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25,34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4,65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A FUND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88,19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70,97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60,57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39,42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88,19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56,89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14,08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 Polyn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REDO LIGNE DE CREDIT ENVIRONN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28,6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1,31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aledo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I - LIGNE DE CREDIT ENVIRONNEM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28,6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1,31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5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ND (DIGICEL SAMO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96,50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,49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ND B (DIGICEL VANUATU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91,84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,15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ND C (DIGICEL TONG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51,90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,09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ND D (DIGICEL FIJ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13,38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6,61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53,63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6,36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II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ua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LCO WIND POW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 Polyn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GEN - LIGNE DE CREDIT ENVIRONNEM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5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 Polyn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REDO LIGNE ENVIRONNEMENTALE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II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II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aledo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-LIGNE DE CREDIT ENVIRONNEMENTALE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 Polyn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hiti Centre Hospitalier SW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689,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63,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46,7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459" name="Text Box 5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Loan Approvals 2004 – 2012: +/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EUR 18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A141-02C7-4995-A9FD-E9DA071CE8B9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63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5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Project Example 1: Digicel Pacific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51"/>
          <p:cNvGrpSpPr/>
          <p:nvPr/>
        </p:nvGrpSpPr>
        <p:grpSpPr>
          <a:xfrm>
            <a:off x="971640" y="2060640"/>
            <a:ext cx="3600360" cy="337320"/>
            <a:chOff x="971640" y="2060640"/>
            <a:chExt cx="3600360" cy="337320"/>
          </a:xfrm>
        </p:grpSpPr>
        <p:sp>
          <p:nvSpPr>
            <p:cNvPr id="467" name="Text Box 31"/>
            <p:cNvSpPr/>
            <p:nvPr/>
          </p:nvSpPr>
          <p:spPr>
            <a:xfrm>
              <a:off x="971640" y="2060640"/>
              <a:ext cx="1800000" cy="33732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otal Project Cos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2"/>
            <p:cNvSpPr/>
            <p:nvPr/>
          </p:nvSpPr>
          <p:spPr>
            <a:xfrm>
              <a:off x="3348000" y="206064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SD 129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3"/>
            <p:cNvSpPr/>
            <p:nvPr/>
          </p:nvSpPr>
          <p:spPr>
            <a:xfrm>
              <a:off x="2843280" y="2156040"/>
              <a:ext cx="360360" cy="144360"/>
            </a:xfrm>
            <a:prstGeom prst="rightArrow">
              <a:avLst>
                <a:gd name="adj1" fmla="val 50000"/>
                <a:gd name="adj2" fmla="val 624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50"/>
          <p:cNvGrpSpPr/>
          <p:nvPr/>
        </p:nvGrpSpPr>
        <p:grpSpPr>
          <a:xfrm>
            <a:off x="971640" y="2690640"/>
            <a:ext cx="3600360" cy="337320"/>
            <a:chOff x="971640" y="2690640"/>
            <a:chExt cx="3600360" cy="337320"/>
          </a:xfrm>
        </p:grpSpPr>
        <p:sp>
          <p:nvSpPr>
            <p:cNvPr id="471" name="Text Box 34"/>
            <p:cNvSpPr/>
            <p:nvPr/>
          </p:nvSpPr>
          <p:spPr>
            <a:xfrm>
              <a:off x="971640" y="2690640"/>
              <a:ext cx="1800000" cy="33732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IB Finan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5"/>
            <p:cNvSpPr/>
            <p:nvPr/>
          </p:nvSpPr>
          <p:spPr>
            <a:xfrm>
              <a:off x="3348000" y="269064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SD   4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36"/>
            <p:cNvSpPr/>
            <p:nvPr/>
          </p:nvSpPr>
          <p:spPr>
            <a:xfrm>
              <a:off x="2843280" y="2786040"/>
              <a:ext cx="360360" cy="144360"/>
            </a:xfrm>
            <a:prstGeom prst="rightArrow">
              <a:avLst>
                <a:gd name="adj1" fmla="val 50000"/>
                <a:gd name="adj2" fmla="val 624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37"/>
          <p:cNvSpPr/>
          <p:nvPr/>
        </p:nvSpPr>
        <p:spPr>
          <a:xfrm>
            <a:off x="971640" y="4149720"/>
            <a:ext cx="1800000" cy="337320"/>
          </a:xfrm>
          <a:prstGeom prst="rect">
            <a:avLst/>
          </a:prstGeom>
          <a:solidFill>
            <a:srgbClr val="9696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8"/>
          <p:cNvSpPr/>
          <p:nvPr/>
        </p:nvSpPr>
        <p:spPr>
          <a:xfrm>
            <a:off x="3348000" y="4149720"/>
            <a:ext cx="5545080" cy="5806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pansion of existing telecommunications networks and introduction of competition in several market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39"/>
          <p:cNvSpPr/>
          <p:nvPr/>
        </p:nvSpPr>
        <p:spPr>
          <a:xfrm>
            <a:off x="2843280" y="425916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45"/>
          <p:cNvGrpSpPr/>
          <p:nvPr/>
        </p:nvGrpSpPr>
        <p:grpSpPr>
          <a:xfrm>
            <a:off x="971640" y="3500280"/>
            <a:ext cx="7921440" cy="337320"/>
            <a:chOff x="971640" y="3500280"/>
            <a:chExt cx="7921440" cy="337320"/>
          </a:xfrm>
        </p:grpSpPr>
        <p:sp>
          <p:nvSpPr>
            <p:cNvPr id="478" name="Text Box 40"/>
            <p:cNvSpPr/>
            <p:nvPr/>
          </p:nvSpPr>
          <p:spPr>
            <a:xfrm>
              <a:off x="971640" y="3500280"/>
              <a:ext cx="1800000" cy="33732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untr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41"/>
            <p:cNvSpPr/>
            <p:nvPr/>
          </p:nvSpPr>
          <p:spPr>
            <a:xfrm>
              <a:off x="3348000" y="3500280"/>
              <a:ext cx="554508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iji, Vanuatu, Tonga &amp; Cook Islan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2"/>
            <p:cNvSpPr/>
            <p:nvPr/>
          </p:nvSpPr>
          <p:spPr>
            <a:xfrm>
              <a:off x="2843280" y="3595680"/>
              <a:ext cx="360360" cy="144360"/>
            </a:xfrm>
            <a:prstGeom prst="rightArrow">
              <a:avLst>
                <a:gd name="adj1" fmla="val 50000"/>
                <a:gd name="adj2" fmla="val 624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47"/>
          <p:cNvGrpSpPr/>
          <p:nvPr/>
        </p:nvGrpSpPr>
        <p:grpSpPr>
          <a:xfrm>
            <a:off x="971640" y="5013360"/>
            <a:ext cx="7921440" cy="818640"/>
            <a:chOff x="971640" y="5013360"/>
            <a:chExt cx="7921440" cy="818640"/>
          </a:xfrm>
        </p:grpSpPr>
        <p:sp>
          <p:nvSpPr>
            <p:cNvPr id="482" name="Text Box 22"/>
            <p:cNvSpPr/>
            <p:nvPr/>
          </p:nvSpPr>
          <p:spPr>
            <a:xfrm>
              <a:off x="971640" y="5013360"/>
              <a:ext cx="1800000" cy="33732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3"/>
            <p:cNvSpPr/>
            <p:nvPr/>
          </p:nvSpPr>
          <p:spPr>
            <a:xfrm>
              <a:off x="3348000" y="5013360"/>
              <a:ext cx="554508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mproved coverage &amp; service levels in mobile commun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27"/>
            <p:cNvSpPr/>
            <p:nvPr/>
          </p:nvSpPr>
          <p:spPr>
            <a:xfrm>
              <a:off x="2843280" y="5110200"/>
              <a:ext cx="360360" cy="144720"/>
            </a:xfrm>
            <a:prstGeom prst="rightArrow">
              <a:avLst>
                <a:gd name="adj1" fmla="val 50000"/>
                <a:gd name="adj2" fmla="val 622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3348000" y="5494680"/>
              <a:ext cx="554508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evelopment of a competitive GSM 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Picture 53" descr="6"/>
          <p:cNvPicPr/>
          <p:nvPr/>
        </p:nvPicPr>
        <p:blipFill>
          <a:blip r:embed="rId1"/>
          <a:stretch/>
        </p:blipFill>
        <p:spPr>
          <a:xfrm>
            <a:off x="5040360" y="1916280"/>
            <a:ext cx="1619280" cy="12189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487" name="Picture 56" descr="10"/>
          <p:cNvPicPr/>
          <p:nvPr/>
        </p:nvPicPr>
        <p:blipFill>
          <a:blip r:embed="rId2"/>
          <a:stretch/>
        </p:blipFill>
        <p:spPr>
          <a:xfrm>
            <a:off x="7061040" y="1916280"/>
            <a:ext cx="1832040" cy="12286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D43F-94E9-465E-97A2-0A389ABBD991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132000" y="3735360"/>
            <a:ext cx="5616720" cy="5806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sion of subsidised financing resources for investments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renewable energy &amp; energy efficien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92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5"/>
          <p:cNvSpPr/>
          <p:nvPr/>
        </p:nvSpPr>
        <p:spPr>
          <a:xfrm>
            <a:off x="971640" y="981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Project Example 2: Environmental Lines of Cred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024000" cy="18730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496" name="Picture 8" descr="Kramer Junction"/>
          <p:cNvPicPr/>
          <p:nvPr/>
        </p:nvPicPr>
        <p:blipFill>
          <a:blip r:embed="rId2"/>
          <a:stretch/>
        </p:blipFill>
        <p:spPr>
          <a:xfrm>
            <a:off x="971640" y="5084640"/>
            <a:ext cx="7921440" cy="12668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sp>
        <p:nvSpPr>
          <p:cNvPr id="497" name="Text Box 26"/>
          <p:cNvSpPr/>
          <p:nvPr/>
        </p:nvSpPr>
        <p:spPr>
          <a:xfrm>
            <a:off x="4284720" y="1700280"/>
            <a:ext cx="4464000" cy="337320"/>
          </a:xfrm>
          <a:prstGeom prst="rect">
            <a:avLst/>
          </a:prstGeom>
          <a:solidFill>
            <a:srgbClr val="9696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IB 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60"/>
          <p:cNvGrpSpPr/>
          <p:nvPr/>
        </p:nvGrpSpPr>
        <p:grpSpPr>
          <a:xfrm>
            <a:off x="4284720" y="2084400"/>
            <a:ext cx="4464000" cy="337320"/>
            <a:chOff x="4284720" y="2084400"/>
            <a:chExt cx="4464000" cy="337320"/>
          </a:xfrm>
        </p:grpSpPr>
        <p:sp>
          <p:nvSpPr>
            <p:cNvPr id="499" name="Text Box 27"/>
            <p:cNvSpPr/>
            <p:nvPr/>
          </p:nvSpPr>
          <p:spPr>
            <a:xfrm>
              <a:off x="7524720" y="208440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UR   1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8"/>
            <p:cNvSpPr/>
            <p:nvPr/>
          </p:nvSpPr>
          <p:spPr>
            <a:xfrm>
              <a:off x="7020000" y="2179440"/>
              <a:ext cx="360360" cy="144720"/>
            </a:xfrm>
            <a:prstGeom prst="rightArrow">
              <a:avLst>
                <a:gd name="adj1" fmla="val 50000"/>
                <a:gd name="adj2" fmla="val 622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29"/>
            <p:cNvSpPr/>
            <p:nvPr/>
          </p:nvSpPr>
          <p:spPr>
            <a:xfrm>
              <a:off x="4284720" y="2084400"/>
              <a:ext cx="266364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anque de Polynés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59"/>
          <p:cNvGrpSpPr/>
          <p:nvPr/>
        </p:nvGrpSpPr>
        <p:grpSpPr>
          <a:xfrm>
            <a:off x="4284720" y="2468520"/>
            <a:ext cx="4464000" cy="337320"/>
            <a:chOff x="4284720" y="2468520"/>
            <a:chExt cx="4464000" cy="337320"/>
          </a:xfrm>
        </p:grpSpPr>
        <p:sp>
          <p:nvSpPr>
            <p:cNvPr id="503" name="Text Box 30"/>
            <p:cNvSpPr/>
            <p:nvPr/>
          </p:nvSpPr>
          <p:spPr>
            <a:xfrm>
              <a:off x="7524720" y="246852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UR   1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31"/>
            <p:cNvSpPr/>
            <p:nvPr/>
          </p:nvSpPr>
          <p:spPr>
            <a:xfrm>
              <a:off x="7020000" y="2565360"/>
              <a:ext cx="360360" cy="144360"/>
            </a:xfrm>
            <a:prstGeom prst="rightArrow">
              <a:avLst>
                <a:gd name="adj1" fmla="val 50000"/>
                <a:gd name="adj2" fmla="val 624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37"/>
            <p:cNvSpPr/>
            <p:nvPr/>
          </p:nvSpPr>
          <p:spPr>
            <a:xfrm>
              <a:off x="4284720" y="2468520"/>
              <a:ext cx="266364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OCREDO I &amp; 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58"/>
          <p:cNvGrpSpPr/>
          <p:nvPr/>
        </p:nvGrpSpPr>
        <p:grpSpPr>
          <a:xfrm>
            <a:off x="4284720" y="2852640"/>
            <a:ext cx="4464000" cy="337320"/>
            <a:chOff x="4284720" y="2852640"/>
            <a:chExt cx="4464000" cy="337320"/>
          </a:xfrm>
        </p:grpSpPr>
        <p:sp>
          <p:nvSpPr>
            <p:cNvPr id="507" name="Text Box 38"/>
            <p:cNvSpPr/>
            <p:nvPr/>
          </p:nvSpPr>
          <p:spPr>
            <a:xfrm>
              <a:off x="7524720" y="285264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UR    5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39"/>
            <p:cNvSpPr/>
            <p:nvPr/>
          </p:nvSpPr>
          <p:spPr>
            <a:xfrm>
              <a:off x="7020000" y="2949480"/>
              <a:ext cx="360360" cy="144720"/>
            </a:xfrm>
            <a:prstGeom prst="rightArrow">
              <a:avLst>
                <a:gd name="adj1" fmla="val 50000"/>
                <a:gd name="adj2" fmla="val 622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40"/>
            <p:cNvSpPr/>
            <p:nvPr/>
          </p:nvSpPr>
          <p:spPr>
            <a:xfrm>
              <a:off x="4284720" y="2852640"/>
              <a:ext cx="266364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44"/>
          <p:cNvSpPr/>
          <p:nvPr/>
        </p:nvSpPr>
        <p:spPr>
          <a:xfrm>
            <a:off x="971640" y="3778200"/>
            <a:ext cx="1439640" cy="495000"/>
          </a:xfrm>
          <a:prstGeom prst="rect">
            <a:avLst/>
          </a:prstGeom>
          <a:solidFill>
            <a:srgbClr val="9696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82800" anchor="ctr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5"/>
          <p:cNvSpPr/>
          <p:nvPr/>
        </p:nvSpPr>
        <p:spPr>
          <a:xfrm>
            <a:off x="2556000" y="39546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3132000" y="4456080"/>
            <a:ext cx="5616720" cy="5806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s SMEs in pursuing environmentally sustainable business practic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49"/>
          <p:cNvSpPr/>
          <p:nvPr/>
        </p:nvSpPr>
        <p:spPr>
          <a:xfrm>
            <a:off x="2556000" y="467352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0"/>
          <p:cNvSpPr/>
          <p:nvPr/>
        </p:nvSpPr>
        <p:spPr>
          <a:xfrm>
            <a:off x="971640" y="4498920"/>
            <a:ext cx="1439640" cy="495000"/>
          </a:xfrm>
          <a:prstGeom prst="rect">
            <a:avLst/>
          </a:prstGeom>
          <a:solidFill>
            <a:srgbClr val="9696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82800" anchor="ctr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7"/>
          <p:cNvGrpSpPr/>
          <p:nvPr/>
        </p:nvGrpSpPr>
        <p:grpSpPr>
          <a:xfrm>
            <a:off x="4284720" y="3236760"/>
            <a:ext cx="4464000" cy="337320"/>
            <a:chOff x="4284720" y="3236760"/>
            <a:chExt cx="4464000" cy="337320"/>
          </a:xfrm>
        </p:grpSpPr>
        <p:sp>
          <p:nvSpPr>
            <p:cNvPr id="516" name="Text Box 54"/>
            <p:cNvSpPr/>
            <p:nvPr/>
          </p:nvSpPr>
          <p:spPr>
            <a:xfrm>
              <a:off x="7524720" y="323676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UR   1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55"/>
            <p:cNvSpPr/>
            <p:nvPr/>
          </p:nvSpPr>
          <p:spPr>
            <a:xfrm>
              <a:off x="7020000" y="3333600"/>
              <a:ext cx="360360" cy="144720"/>
            </a:xfrm>
            <a:prstGeom prst="rightArrow">
              <a:avLst>
                <a:gd name="adj1" fmla="val 50000"/>
                <a:gd name="adj2" fmla="val 622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56"/>
            <p:cNvSpPr/>
            <p:nvPr/>
          </p:nvSpPr>
          <p:spPr>
            <a:xfrm>
              <a:off x="4284720" y="3236760"/>
              <a:ext cx="266364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BCI, SGCB, BNP NC &amp; BN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59FF-7AB7-4B11-9FE3-C5E203E295C1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522" name="Group 3"/>
          <p:cNvGrpSpPr/>
          <p:nvPr/>
        </p:nvGrpSpPr>
        <p:grpSpPr>
          <a:xfrm>
            <a:off x="971640" y="1844640"/>
            <a:ext cx="6335640" cy="368280"/>
            <a:chOff x="971640" y="1844640"/>
            <a:chExt cx="6335640" cy="368280"/>
          </a:xfrm>
        </p:grpSpPr>
        <p:sp>
          <p:nvSpPr>
            <p:cNvPr id="523" name="Text Box 4"/>
            <p:cNvSpPr/>
            <p:nvPr/>
          </p:nvSpPr>
          <p:spPr>
            <a:xfrm>
              <a:off x="971640" y="18478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5"/>
            <p:cNvSpPr/>
            <p:nvPr/>
          </p:nvSpPr>
          <p:spPr>
            <a:xfrm>
              <a:off x="1619280" y="18446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"/>
          <p:cNvGrpSpPr/>
          <p:nvPr/>
        </p:nvGrpSpPr>
        <p:grpSpPr>
          <a:xfrm>
            <a:off x="971640" y="2516040"/>
            <a:ext cx="6335640" cy="368280"/>
            <a:chOff x="971640" y="2516040"/>
            <a:chExt cx="6335640" cy="368280"/>
          </a:xfrm>
        </p:grpSpPr>
        <p:sp>
          <p:nvSpPr>
            <p:cNvPr id="526" name="Text Box 7"/>
            <p:cNvSpPr/>
            <p:nvPr/>
          </p:nvSpPr>
          <p:spPr>
            <a:xfrm>
              <a:off x="971640" y="25192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8"/>
            <p:cNvSpPr/>
            <p:nvPr/>
          </p:nvSpPr>
          <p:spPr>
            <a:xfrm>
              <a:off x="1619280" y="25160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9"/>
          <p:cNvGrpSpPr/>
          <p:nvPr/>
        </p:nvGrpSpPr>
        <p:grpSpPr>
          <a:xfrm>
            <a:off x="971640" y="3187800"/>
            <a:ext cx="6335640" cy="368280"/>
            <a:chOff x="971640" y="3187800"/>
            <a:chExt cx="6335640" cy="368280"/>
          </a:xfrm>
        </p:grpSpPr>
        <p:sp>
          <p:nvSpPr>
            <p:cNvPr id="529" name="Text Box 10"/>
            <p:cNvSpPr/>
            <p:nvPr/>
          </p:nvSpPr>
          <p:spPr>
            <a:xfrm>
              <a:off x="971640" y="3190680"/>
              <a:ext cx="360360" cy="3600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1"/>
            <p:cNvSpPr/>
            <p:nvPr/>
          </p:nvSpPr>
          <p:spPr>
            <a:xfrm>
              <a:off x="1619280" y="318780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EIB Activities in the Pacific Reg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12"/>
          <p:cNvSpPr/>
          <p:nvPr/>
        </p:nvSpPr>
        <p:spPr>
          <a:xfrm>
            <a:off x="971640" y="3863880"/>
            <a:ext cx="360360" cy="360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1619280" y="386064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Cooperation with EC, other EU Institutions and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4" descr="carpaclogo1"/>
          <p:cNvPicPr/>
          <p:nvPr/>
        </p:nvPicPr>
        <p:blipFill>
          <a:blip r:embed="rId1"/>
          <a:stretch/>
        </p:blipFill>
        <p:spPr>
          <a:xfrm>
            <a:off x="127080" y="4525920"/>
            <a:ext cx="8916840" cy="19512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5"/>
          <p:cNvSpPr/>
          <p:nvPr/>
        </p:nvSpPr>
        <p:spPr>
          <a:xfrm>
            <a:off x="468360" y="389880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D578-1C37-4B51-B579-61A29E3E239A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"/>
          <p:cNvSpPr/>
          <p:nvPr/>
        </p:nvSpPr>
        <p:spPr>
          <a:xfrm>
            <a:off x="971640" y="98100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European Commission a close partner – externally &amp; intern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971640" y="506520"/>
            <a:ext cx="6913440" cy="360360"/>
            <a:chOff x="971640" y="506520"/>
            <a:chExt cx="6913440" cy="360360"/>
          </a:xfrm>
        </p:grpSpPr>
        <p:sp>
          <p:nvSpPr>
            <p:cNvPr id="539" name="Text Box 4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5"/>
            <p:cNvSpPr/>
            <p:nvPr/>
          </p:nvSpPr>
          <p:spPr>
            <a:xfrm>
              <a:off x="1619280" y="517680"/>
              <a:ext cx="62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Cooperation with EC, other EU Institutions and Member St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6"/>
          <p:cNvSpPr/>
          <p:nvPr/>
        </p:nvSpPr>
        <p:spPr>
          <a:xfrm>
            <a:off x="900000" y="1700280"/>
            <a:ext cx="7777440" cy="10314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Cooperation in EIB’s Statu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regarding individual proposals for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epresentation on the EIB Board of Directors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900000" y="3009960"/>
            <a:ext cx="7777440" cy="7520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Strong operational links with the EC, as the initiator and executive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body for many areas of EU policies relevant to the E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900000" y="4046400"/>
            <a:ext cx="7777440" cy="7520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Maximising synergies between EIB lending and EU budgetary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resources for common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900000" y="5083200"/>
            <a:ext cx="7777440" cy="10810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Close cooperation with the EC Delegations in the Pacific 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br>
              <a:rPr sz="1800"/>
            </a:b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tributing to the EU's development and cooperation policies in th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Pacific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975B-7020-4EFA-AF09-44EDCD1277B1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EU - EIB Cooperation in the Pacific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900000" y="170028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C &amp; EIB Cooperation crucial to fulfil Cotonou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900000" y="3468600"/>
            <a:ext cx="7777440" cy="7520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56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Indicative Plan for 11</a:t>
            </a:r>
            <a:r>
              <a:rPr b="1" lang="en-GB" sz="18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EDF and pre-programming consul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→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assistance financed from the EDF Fund allocated pe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900000" y="2197080"/>
            <a:ext cx="7777440" cy="6426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Strategic focus → co-financing in renewable energy </a:t>
            </a:r>
            <a:br>
              <a:rPr sz="1800"/>
            </a:b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      and water &amp; sani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900000" y="498168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Centre for the Development of Enterprise (CDE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900000" y="546084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PRO-INV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16"/>
          <p:cNvGrpSpPr/>
          <p:nvPr/>
        </p:nvGrpSpPr>
        <p:grpSpPr>
          <a:xfrm>
            <a:off x="971640" y="506520"/>
            <a:ext cx="6913440" cy="360360"/>
            <a:chOff x="971640" y="506520"/>
            <a:chExt cx="6913440" cy="360360"/>
          </a:xfrm>
        </p:grpSpPr>
        <p:sp>
          <p:nvSpPr>
            <p:cNvPr id="554" name="Text Box 17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8"/>
            <p:cNvSpPr/>
            <p:nvPr/>
          </p:nvSpPr>
          <p:spPr>
            <a:xfrm>
              <a:off x="1619280" y="517680"/>
              <a:ext cx="62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Cooperation with EC, other EU Institutions and Member St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19"/>
          <p:cNvSpPr/>
          <p:nvPr/>
        </p:nvSpPr>
        <p:spPr>
          <a:xfrm>
            <a:off x="900000" y="594216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U Member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0"/>
          <p:cNvSpPr/>
          <p:nvPr/>
        </p:nvSpPr>
        <p:spPr>
          <a:xfrm>
            <a:off x="900000" y="4502160"/>
            <a:ext cx="7777440" cy="36684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 EU Partners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1"/>
          <p:cNvSpPr/>
          <p:nvPr/>
        </p:nvSpPr>
        <p:spPr>
          <a:xfrm>
            <a:off x="900000" y="297036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U’s Investment Facility for the Pacific (I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BC01-19B5-4DAA-BA64-EB6F4455ADC5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04"/>
          <p:cNvGrpSpPr/>
          <p:nvPr/>
        </p:nvGrpSpPr>
        <p:grpSpPr>
          <a:xfrm>
            <a:off x="971640" y="2054160"/>
            <a:ext cx="5184720" cy="368280"/>
            <a:chOff x="971640" y="2054160"/>
            <a:chExt cx="5184720" cy="368280"/>
          </a:xfrm>
        </p:grpSpPr>
        <p:sp>
          <p:nvSpPr>
            <p:cNvPr id="71" name="Text Box 40"/>
            <p:cNvSpPr/>
            <p:nvPr/>
          </p:nvSpPr>
          <p:spPr>
            <a:xfrm>
              <a:off x="971640" y="205416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stablish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41"/>
            <p:cNvSpPr/>
            <p:nvPr/>
          </p:nvSpPr>
          <p:spPr>
            <a:xfrm>
              <a:off x="3276720" y="205416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Treaty of Rome, 195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97"/>
          <p:cNvGrpSpPr/>
          <p:nvPr/>
        </p:nvGrpSpPr>
        <p:grpSpPr>
          <a:xfrm>
            <a:off x="971640" y="2701800"/>
            <a:ext cx="5184720" cy="368280"/>
            <a:chOff x="971640" y="2701800"/>
            <a:chExt cx="5184720" cy="368280"/>
          </a:xfrm>
        </p:grpSpPr>
        <p:sp>
          <p:nvSpPr>
            <p:cNvPr id="74" name="Text Box 47"/>
            <p:cNvSpPr/>
            <p:nvPr/>
          </p:nvSpPr>
          <p:spPr>
            <a:xfrm>
              <a:off x="971640" y="27018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har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48"/>
            <p:cNvSpPr/>
            <p:nvPr/>
          </p:nvSpPr>
          <p:spPr>
            <a:xfrm>
              <a:off x="3276720" y="270180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28 EU Member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8"/>
          <p:cNvGrpSpPr/>
          <p:nvPr/>
        </p:nvGrpSpPr>
        <p:grpSpPr>
          <a:xfrm>
            <a:off x="971640" y="3284640"/>
            <a:ext cx="8173800" cy="2241720"/>
            <a:chOff x="971640" y="3284640"/>
            <a:chExt cx="8173800" cy="2241720"/>
          </a:xfrm>
        </p:grpSpPr>
        <p:sp>
          <p:nvSpPr>
            <p:cNvPr id="77" name="Text Box 49"/>
            <p:cNvSpPr/>
            <p:nvPr/>
          </p:nvSpPr>
          <p:spPr>
            <a:xfrm>
              <a:off x="971640" y="328464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over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79"/>
            <p:cNvSpPr/>
            <p:nvPr/>
          </p:nvSpPr>
          <p:spPr>
            <a:xfrm>
              <a:off x="1200240" y="375300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Board of Governo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80"/>
            <p:cNvSpPr/>
            <p:nvPr/>
          </p:nvSpPr>
          <p:spPr>
            <a:xfrm>
              <a:off x="3960720" y="3827520"/>
              <a:ext cx="505080" cy="216000"/>
            </a:xfrm>
            <a:prstGeom prst="rightArrow">
              <a:avLst>
                <a:gd name="adj1" fmla="val 50000"/>
                <a:gd name="adj2" fmla="val 58458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1"/>
            <p:cNvSpPr/>
            <p:nvPr/>
          </p:nvSpPr>
          <p:spPr>
            <a:xfrm>
              <a:off x="4681440" y="375300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 Finance Minis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84"/>
            <p:cNvSpPr/>
            <p:nvPr/>
          </p:nvSpPr>
          <p:spPr>
            <a:xfrm>
              <a:off x="1200240" y="422136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Board of Directo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85"/>
            <p:cNvSpPr/>
            <p:nvPr/>
          </p:nvSpPr>
          <p:spPr>
            <a:xfrm>
              <a:off x="3960720" y="4292640"/>
              <a:ext cx="505080" cy="216000"/>
            </a:xfrm>
            <a:prstGeom prst="rightArrow">
              <a:avLst>
                <a:gd name="adj1" fmla="val 50000"/>
                <a:gd name="adj2" fmla="val 58458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86"/>
            <p:cNvSpPr/>
            <p:nvPr/>
          </p:nvSpPr>
          <p:spPr>
            <a:xfrm>
              <a:off x="4681440" y="4218120"/>
              <a:ext cx="44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Member States &amp; European Commiss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9"/>
            <p:cNvSpPr/>
            <p:nvPr/>
          </p:nvSpPr>
          <p:spPr>
            <a:xfrm>
              <a:off x="1200240" y="46897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Management Committe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90"/>
            <p:cNvSpPr/>
            <p:nvPr/>
          </p:nvSpPr>
          <p:spPr>
            <a:xfrm>
              <a:off x="3960720" y="4759560"/>
              <a:ext cx="505080" cy="216000"/>
            </a:xfrm>
            <a:prstGeom prst="rightArrow">
              <a:avLst>
                <a:gd name="adj1" fmla="val 50000"/>
                <a:gd name="adj2" fmla="val 58458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1"/>
            <p:cNvSpPr/>
            <p:nvPr/>
          </p:nvSpPr>
          <p:spPr>
            <a:xfrm>
              <a:off x="4681440" y="4685040"/>
              <a:ext cx="44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IB’s executive bo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92"/>
            <p:cNvSpPr/>
            <p:nvPr/>
          </p:nvSpPr>
          <p:spPr>
            <a:xfrm>
              <a:off x="1200240" y="515808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Audit Committe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93"/>
            <p:cNvSpPr/>
            <p:nvPr/>
          </p:nvSpPr>
          <p:spPr>
            <a:xfrm>
              <a:off x="3960720" y="5226120"/>
              <a:ext cx="505080" cy="216000"/>
            </a:xfrm>
            <a:prstGeom prst="rightArrow">
              <a:avLst>
                <a:gd name="adj1" fmla="val 50000"/>
                <a:gd name="adj2" fmla="val 58458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94"/>
            <p:cNvSpPr/>
            <p:nvPr/>
          </p:nvSpPr>
          <p:spPr>
            <a:xfrm>
              <a:off x="4681440" y="5151600"/>
              <a:ext cx="44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Independent, non-residen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99"/>
          <p:cNvSpPr/>
          <p:nvPr/>
        </p:nvSpPr>
        <p:spPr>
          <a:xfrm>
            <a:off x="971640" y="98100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EIB – The EU’s long-term Financing Institution </a:t>
            </a:r>
            <a:br>
              <a:rPr sz="2000"/>
            </a:b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promoting European Objectives</a:t>
            </a:r>
            <a:r>
              <a:rPr b="1" lang="fr-CH" sz="1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00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92" name="Text Box 101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2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5D0C-E67A-4F15-8612-E7320B96EFDF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900000" y="2781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Illustrations</a:t>
            </a:r>
            <a:r>
              <a:rPr b="0" lang="en-GB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7"/>
          <p:cNvGrpSpPr/>
          <p:nvPr/>
        </p:nvGrpSpPr>
        <p:grpSpPr>
          <a:xfrm>
            <a:off x="971640" y="506520"/>
            <a:ext cx="6913440" cy="360360"/>
            <a:chOff x="971640" y="506520"/>
            <a:chExt cx="6913440" cy="360360"/>
          </a:xfrm>
        </p:grpSpPr>
        <p:sp>
          <p:nvSpPr>
            <p:cNvPr id="563" name="Text Box 8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9"/>
            <p:cNvSpPr/>
            <p:nvPr/>
          </p:nvSpPr>
          <p:spPr>
            <a:xfrm>
              <a:off x="1619280" y="517680"/>
              <a:ext cx="62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Cooperation with EC, other EU Institutions and Member St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 Box 10"/>
          <p:cNvSpPr/>
          <p:nvPr/>
        </p:nvSpPr>
        <p:spPr>
          <a:xfrm>
            <a:off x="900000" y="98100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Promoting Partnershi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900000" y="1700280"/>
            <a:ext cx="7777440" cy="11912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 marL="36180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of 224 projects signed to date, 53% (119 projects) are being co-financed with development finance institution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CPs &amp; OCTs – IF &amp; 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900000" y="3429000"/>
            <a:ext cx="7777440" cy="114192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Financing Partners (E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ing together: the EIB and European finance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: medium-sized, commercially viable private sector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900000" y="4797360"/>
            <a:ext cx="7777440" cy="14734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tual Reliance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gation of tasks among participating IFIs (AFD, EIB, Kf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-2011: pilot phas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2: common operational 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5CF4-F5A8-4768-A2FF-F80B2DC8FB26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"/>
          <p:cNvSpPr/>
          <p:nvPr/>
        </p:nvSpPr>
        <p:spPr>
          <a:xfrm>
            <a:off x="914400" y="304920"/>
            <a:ext cx="386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1251000" y="293760"/>
            <a:ext cx="296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317520" y="5229360"/>
            <a:ext cx="169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4292640"/>
            <a:ext cx="85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716040" y="55897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1514520" y="333360"/>
            <a:ext cx="16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82480" y="1413000"/>
            <a:ext cx="16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565200" y="1403280"/>
            <a:ext cx="16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3280680" y="549360"/>
            <a:ext cx="146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993300"/>
                </a:solidFill>
                <a:latin typeface="Arial"/>
              </a:rPr>
              <a:t>Contac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1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02536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12"/>
          <p:cNvSpPr/>
          <p:nvPr/>
        </p:nvSpPr>
        <p:spPr>
          <a:xfrm>
            <a:off x="1547640" y="2652840"/>
            <a:ext cx="30243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Adam Bru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Head of Regional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4427640" y="2637000"/>
            <a:ext cx="30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993300"/>
                </a:solidFill>
                <a:latin typeface="Arial"/>
              </a:rPr>
              <a:t>tel +(61 2) 8211 0536</a:t>
            </a:r>
            <a:br>
              <a:rPr sz="1400"/>
            </a:br>
            <a:r>
              <a:rPr b="0" lang="fr-CH" sz="1400" spc="-1" strike="noStrike">
                <a:solidFill>
                  <a:srgbClr val="993300"/>
                </a:solidFill>
                <a:latin typeface="Arial"/>
              </a:rPr>
              <a:t>email: a.bruun@eib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1547640" y="3573360"/>
            <a:ext cx="30243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Katrin B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Business Analy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4427640" y="3573360"/>
            <a:ext cx="30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993300"/>
                </a:solidFill>
                <a:latin typeface="Arial"/>
              </a:rPr>
              <a:t>tel +(61 2) 8211 0532</a:t>
            </a:r>
            <a:br>
              <a:rPr sz="1400"/>
            </a:br>
            <a:r>
              <a:rPr b="0" lang="fr-CH" sz="1400" spc="-1" strike="noStrike">
                <a:solidFill>
                  <a:srgbClr val="993300"/>
                </a:solidFill>
                <a:latin typeface="Arial"/>
              </a:rPr>
              <a:t>email: k.bock@eib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2771640" y="1406520"/>
            <a:ext cx="302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European Investment Bank</a:t>
            </a:r>
            <a:br>
              <a:rPr sz="1400"/>
            </a:b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Pacific Regional Office </a:t>
            </a:r>
            <a:br>
              <a:rPr sz="1400"/>
            </a:b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Level 25, 88 Phillip Street</a:t>
            </a:r>
            <a:br>
              <a:rPr sz="1400"/>
            </a:b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SYDNEY NSW 2000 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58E2-E697-4D68-A5B3-33AC409A3D3A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97164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2916360" y="1628640"/>
            <a:ext cx="615636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ion towards the integration, balance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economic and social cohe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EU Member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sion of long-term lending to promote EU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s for economic and social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1"/>
          <p:cNvGrpSpPr/>
          <p:nvPr/>
        </p:nvGrpSpPr>
        <p:grpSpPr>
          <a:xfrm>
            <a:off x="971640" y="3726000"/>
            <a:ext cx="8280360" cy="1081080"/>
            <a:chOff x="971640" y="3726000"/>
            <a:chExt cx="8280360" cy="1081080"/>
          </a:xfrm>
        </p:grpSpPr>
        <p:sp>
          <p:nvSpPr>
            <p:cNvPr id="99" name="Text Box 59"/>
            <p:cNvSpPr/>
            <p:nvPr/>
          </p:nvSpPr>
          <p:spPr>
            <a:xfrm>
              <a:off x="971640" y="372600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xternal Len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0"/>
            <p:cNvSpPr/>
            <p:nvPr/>
          </p:nvSpPr>
          <p:spPr>
            <a:xfrm>
              <a:off x="3743280" y="3726000"/>
              <a:ext cx="5508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12"/>
                </a:spcBef>
                <a:spcAft>
                  <a:spcPts val="10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Based on a series of mandates given by the Union</a:t>
              </a:r>
              <a:br>
                <a:rPr sz="1800"/>
              </a:b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(Accession countries, Euro-Med, ACP, OCTs, ALA, </a:t>
              </a:r>
              <a:br>
                <a:rPr sz="1800"/>
              </a:b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Balkans, Russi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73"/>
          <p:cNvGrpSpPr/>
          <p:nvPr/>
        </p:nvGrpSpPr>
        <p:grpSpPr>
          <a:xfrm>
            <a:off x="971640" y="5052960"/>
            <a:ext cx="7237440" cy="1195560"/>
            <a:chOff x="971640" y="5052960"/>
            <a:chExt cx="7237440" cy="1195560"/>
          </a:xfrm>
        </p:grpSpPr>
        <p:sp>
          <p:nvSpPr>
            <p:cNvPr id="102" name="Text Box 62"/>
            <p:cNvSpPr/>
            <p:nvPr/>
          </p:nvSpPr>
          <p:spPr>
            <a:xfrm>
              <a:off x="971640" y="5052960"/>
              <a:ext cx="31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3"/>
                </a:buBlip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ending for the ACP/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63"/>
            <p:cNvSpPr/>
            <p:nvPr/>
          </p:nvSpPr>
          <p:spPr>
            <a:xfrm>
              <a:off x="3743280" y="5052960"/>
              <a:ext cx="4465800" cy="11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marL="343080" indent="-343080">
                <a:lnSpc>
                  <a:spcPct val="120000"/>
                </a:lnSpc>
                <a:spcBef>
                  <a:spcPts val="451"/>
                </a:spcBef>
                <a:spcAft>
                  <a:spcPts val="451"/>
                </a:spcAft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Cotonou Agreement with the Investment Facility / EDF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451"/>
                </a:spcBef>
                <a:spcAft>
                  <a:spcPts val="451"/>
                </a:spcAft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Own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66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Facts &amp;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67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06" name="Text Box 68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9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E4E4-982B-4487-BB27-18BDBC59E4B6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7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Key 2012 Figure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4"/>
          <p:cNvGrpSpPr/>
          <p:nvPr/>
        </p:nvGrpSpPr>
        <p:grpSpPr>
          <a:xfrm>
            <a:off x="971640" y="1700280"/>
            <a:ext cx="6121440" cy="1871640"/>
            <a:chOff x="971640" y="1700280"/>
            <a:chExt cx="6121440" cy="1871640"/>
          </a:xfrm>
        </p:grpSpPr>
        <p:sp>
          <p:nvSpPr>
            <p:cNvPr id="112" name="Rectangle 80"/>
            <p:cNvSpPr/>
            <p:nvPr/>
          </p:nvSpPr>
          <p:spPr>
            <a:xfrm>
              <a:off x="971640" y="1700280"/>
              <a:ext cx="6121440" cy="1871640"/>
            </a:xfrm>
            <a:prstGeom prst="rect">
              <a:avLst/>
            </a:prstGeom>
            <a:solidFill>
              <a:srgbClr val="8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59"/>
            <p:cNvSpPr/>
            <p:nvPr/>
          </p:nvSpPr>
          <p:spPr>
            <a:xfrm>
              <a:off x="1254240" y="226692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uropean Unio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0"/>
            <p:cNvSpPr/>
            <p:nvPr/>
          </p:nvSpPr>
          <p:spPr>
            <a:xfrm>
              <a:off x="5292720" y="2266920"/>
              <a:ext cx="14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44.7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7"/>
            <p:cNvSpPr/>
            <p:nvPr/>
          </p:nvSpPr>
          <p:spPr>
            <a:xfrm>
              <a:off x="1255680" y="177156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jects signed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9"/>
            <p:cNvSpPr/>
            <p:nvPr/>
          </p:nvSpPr>
          <p:spPr>
            <a:xfrm>
              <a:off x="1254240" y="270036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artner Countrie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0"/>
            <p:cNvSpPr/>
            <p:nvPr/>
          </p:nvSpPr>
          <p:spPr>
            <a:xfrm>
              <a:off x="5292720" y="2700360"/>
              <a:ext cx="14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  7.4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2"/>
            <p:cNvSpPr/>
            <p:nvPr/>
          </p:nvSpPr>
          <p:spPr>
            <a:xfrm>
              <a:off x="1254240" y="313380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otal Lending</a:t>
              </a:r>
              <a:r>
                <a:rPr b="0" lang="en-GB" sz="1800" spc="-1" strike="noStrike">
                  <a:solidFill>
                    <a:srgbClr val="015aab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3"/>
            <p:cNvSpPr/>
            <p:nvPr/>
          </p:nvSpPr>
          <p:spPr>
            <a:xfrm>
              <a:off x="5292720" y="3133800"/>
              <a:ext cx="14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52.2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85"/>
          <p:cNvGrpSpPr/>
          <p:nvPr/>
        </p:nvGrpSpPr>
        <p:grpSpPr>
          <a:xfrm>
            <a:off x="971640" y="3787920"/>
            <a:ext cx="6121440" cy="502920"/>
            <a:chOff x="971640" y="3787920"/>
            <a:chExt cx="6121440" cy="502920"/>
          </a:xfrm>
        </p:grpSpPr>
        <p:sp>
          <p:nvSpPr>
            <p:cNvPr id="121" name="Rectangle 81"/>
            <p:cNvSpPr/>
            <p:nvPr/>
          </p:nvSpPr>
          <p:spPr>
            <a:xfrm>
              <a:off x="971640" y="3787920"/>
              <a:ext cx="6121440" cy="502920"/>
            </a:xfrm>
            <a:prstGeom prst="rect">
              <a:avLst/>
            </a:prstGeom>
            <a:solidFill>
              <a:srgbClr val="8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62"/>
            <p:cNvSpPr/>
            <p:nvPr/>
          </p:nvSpPr>
          <p:spPr>
            <a:xfrm>
              <a:off x="1254240" y="385884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orrowing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5"/>
            <p:cNvSpPr/>
            <p:nvPr/>
          </p:nvSpPr>
          <p:spPr>
            <a:xfrm>
              <a:off x="5292720" y="3887640"/>
              <a:ext cx="14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71.3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7"/>
          <p:cNvGrpSpPr/>
          <p:nvPr/>
        </p:nvGrpSpPr>
        <p:grpSpPr>
          <a:xfrm>
            <a:off x="971640" y="4541760"/>
            <a:ext cx="6121440" cy="720720"/>
            <a:chOff x="971640" y="4541760"/>
            <a:chExt cx="6121440" cy="720720"/>
          </a:xfrm>
        </p:grpSpPr>
        <p:sp>
          <p:nvSpPr>
            <p:cNvPr id="125" name="Rectangle 82"/>
            <p:cNvSpPr/>
            <p:nvPr/>
          </p:nvSpPr>
          <p:spPr>
            <a:xfrm>
              <a:off x="971640" y="4541760"/>
              <a:ext cx="6121440" cy="720720"/>
            </a:xfrm>
            <a:prstGeom prst="rect">
              <a:avLst/>
            </a:prstGeom>
            <a:solidFill>
              <a:srgbClr val="8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1254240" y="4573440"/>
              <a:ext cx="34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bscribed capital 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at 31/12/201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77"/>
            <p:cNvSpPr/>
            <p:nvPr/>
          </p:nvSpPr>
          <p:spPr>
            <a:xfrm>
              <a:off x="5003640" y="457344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242.4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88"/>
          <p:cNvSpPr/>
          <p:nvPr/>
        </p:nvSpPr>
        <p:spPr>
          <a:xfrm>
            <a:off x="971640" y="5661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993300"/>
                </a:solidFill>
                <a:latin typeface="Arial"/>
              </a:rPr>
              <a:t>*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400" spc="-1" strike="noStrike">
                <a:solidFill>
                  <a:srgbClr val="993300"/>
                </a:solidFill>
                <a:latin typeface="Arial"/>
              </a:rPr>
              <a:t>Situation as at 31.12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9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30" name="Text Box 90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91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2199-0D46-4FCB-8C9B-F1E542E2D16F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1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35" name="Text Box 22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25"/>
          <p:cNvSpPr/>
          <p:nvPr/>
        </p:nvSpPr>
        <p:spPr>
          <a:xfrm>
            <a:off x="958680" y="98100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Breakdown of the EIB’s Capital as at 1 July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900000" y="1320840"/>
            <a:ext cx="79977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B900-F2E2-4A7B-8C59-3B19B4C5180C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Largest Supranational Le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684360" y="1413000"/>
          <a:ext cx="813564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81356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9"/>
          <p:cNvSpPr/>
          <p:nvPr/>
        </p:nvSpPr>
        <p:spPr>
          <a:xfrm>
            <a:off x="2556000" y="5157720"/>
            <a:ext cx="4457520" cy="10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993300"/>
                </a:solidFill>
                <a:latin typeface="Arial"/>
                <a:ea typeface="Times New Roman"/>
              </a:rPr>
              <a:t>Loans outstanding (sign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993300"/>
                </a:solidFill>
                <a:latin typeface="Arial"/>
                <a:ea typeface="Times New Roman"/>
              </a:rPr>
              <a:t>ADB, AfDB, EBRD, EIB, IADB, NIB: Decembe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993300"/>
                </a:solidFill>
                <a:latin typeface="Arial"/>
                <a:ea typeface="Times New Roman"/>
              </a:rPr>
              <a:t>World Bank, IFC: June 2008</a:t>
            </a:r>
            <a:r>
              <a:rPr b="1" lang="en-GB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46" name="Text Box 11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3"/>
          <p:cNvSpPr/>
          <p:nvPr/>
        </p:nvSpPr>
        <p:spPr>
          <a:xfrm>
            <a:off x="1042920" y="17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3C59-01B2-4665-8992-ADF5946DA35A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Projects signed in 2012: breakdown by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53" name="Text Box 4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12"/>
          <p:cNvSpPr/>
          <p:nvPr/>
        </p:nvSpPr>
        <p:spPr>
          <a:xfrm>
            <a:off x="971640" y="1628640"/>
            <a:ext cx="7954920" cy="793800"/>
          </a:xfrm>
          <a:prstGeom prst="rect">
            <a:avLst/>
          </a:prstGeom>
          <a:solidFill>
            <a:srgbClr val="9933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971640" y="170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Private sector projects represent 64% of the overall portfolio of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CP and OCT lending sinc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987840" y="3924720"/>
            <a:ext cx="328824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264 M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206.5 M credit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95 M tran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</a:t>
            </a:r>
            <a:r>
              <a:rPr b="1" lang="fr-CH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71 M 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8 M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664 M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Chart 11" descr=""/>
          <p:cNvPicPr/>
          <p:nvPr/>
        </p:nvPicPr>
        <p:blipFill>
          <a:blip r:embed="rId2"/>
          <a:stretch/>
        </p:blipFill>
        <p:spPr>
          <a:xfrm>
            <a:off x="4413240" y="2554200"/>
            <a:ext cx="452268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8DD9-6C9C-4A80-A37C-B034881EB913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971640" y="1844640"/>
            <a:ext cx="6335640" cy="368280"/>
            <a:chOff x="971640" y="1844640"/>
            <a:chExt cx="6335640" cy="368280"/>
          </a:xfrm>
        </p:grpSpPr>
        <p:sp>
          <p:nvSpPr>
            <p:cNvPr id="163" name="Text Box 4"/>
            <p:cNvSpPr/>
            <p:nvPr/>
          </p:nvSpPr>
          <p:spPr>
            <a:xfrm>
              <a:off x="971640" y="18478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1619280" y="18446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6"/>
          <p:cNvGrpSpPr/>
          <p:nvPr/>
        </p:nvGrpSpPr>
        <p:grpSpPr>
          <a:xfrm>
            <a:off x="971640" y="2516040"/>
            <a:ext cx="6335640" cy="368280"/>
            <a:chOff x="971640" y="2516040"/>
            <a:chExt cx="6335640" cy="368280"/>
          </a:xfrm>
        </p:grpSpPr>
        <p:sp>
          <p:nvSpPr>
            <p:cNvPr id="166" name="Text Box 7"/>
            <p:cNvSpPr/>
            <p:nvPr/>
          </p:nvSpPr>
          <p:spPr>
            <a:xfrm>
              <a:off x="971640" y="25192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"/>
            <p:cNvSpPr/>
            <p:nvPr/>
          </p:nvSpPr>
          <p:spPr>
            <a:xfrm>
              <a:off x="1619280" y="25160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"/>
          <p:cNvGrpSpPr/>
          <p:nvPr/>
        </p:nvGrpSpPr>
        <p:grpSpPr>
          <a:xfrm>
            <a:off x="971640" y="3187800"/>
            <a:ext cx="6335640" cy="368280"/>
            <a:chOff x="971640" y="3187800"/>
            <a:chExt cx="6335640" cy="368280"/>
          </a:xfrm>
        </p:grpSpPr>
        <p:sp>
          <p:nvSpPr>
            <p:cNvPr id="169" name="Text Box 10"/>
            <p:cNvSpPr/>
            <p:nvPr/>
          </p:nvSpPr>
          <p:spPr>
            <a:xfrm>
              <a:off x="971640" y="3190680"/>
              <a:ext cx="360360" cy="3600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"/>
            <p:cNvSpPr/>
            <p:nvPr/>
          </p:nvSpPr>
          <p:spPr>
            <a:xfrm>
              <a:off x="1619280" y="318780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EIB Activities in the Pacific Reg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2"/>
          <p:cNvSpPr/>
          <p:nvPr/>
        </p:nvSpPr>
        <p:spPr>
          <a:xfrm>
            <a:off x="971640" y="3863880"/>
            <a:ext cx="360360" cy="360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619280" y="386064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Cooperation with EC, other EU Institutions and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carpaclogo1"/>
          <p:cNvPicPr/>
          <p:nvPr/>
        </p:nvPicPr>
        <p:blipFill>
          <a:blip r:embed="rId1"/>
          <a:stretch/>
        </p:blipFill>
        <p:spPr>
          <a:xfrm>
            <a:off x="127080" y="4525920"/>
            <a:ext cx="8916840" cy="19512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5"/>
          <p:cNvSpPr/>
          <p:nvPr/>
        </p:nvSpPr>
        <p:spPr>
          <a:xfrm>
            <a:off x="468360" y="256392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5:37:45Z</dcterms:created>
  <dc:creator>BEARNEA</dc:creator>
  <dc:description/>
  <dc:language>en-US</dc:language>
  <cp:lastModifiedBy>Katya</cp:lastModifiedBy>
  <dcterms:modified xsi:type="dcterms:W3CDTF">2015-01-16T12:24:49Z</dcterms:modified>
  <cp:revision>127</cp:revision>
  <dc:subject/>
  <dc:title>Slide 1</dc:title>
</cp:coreProperties>
</file>