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A7D9-A0A1-4FAD-9E9F-6C92E3F2B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34AD-0E89-4A2D-8915-BAC0C79C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9E0E34-E2A5-4F02-A762-2BB5ABA4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23DFDA-503A-4958-90F4-8F66F359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0494EF-48FC-4E07-8B67-AE0D356D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23A4A0-1772-44B7-B7D1-53B9CAA5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14CE1-9837-43AD-9AA4-0456E849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5894D-00B3-497D-8ADB-05C21604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BBF499-EDE2-4679-9307-1737DC6D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769B0-2754-4517-9496-E09CF7296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307125-9F69-4A18-81D2-7D691EDC8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D8AF07-DC6B-4D04-81A3-7FB79B8AF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F6E8-09B7-4209-B153-4F8575E6E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1164F8-D92F-4D56-B95C-8A993E24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1C7BDF-6FDE-4E3B-AFFA-BAECF303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AFDBA5-7EB8-438F-9B31-D3DE68C3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950674-6A4B-479F-919F-7D746584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0030E1-226F-4097-AC30-6FE8070D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3D93C0-64ED-4FB5-99C6-230268E7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C2CFA2-0452-4FA9-98AC-6799F341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D0C017-01EC-4D73-B493-69598F77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0BFB66-70BB-4AC2-B67C-0F898C22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8A4AF2-4E2E-4578-9378-DA987E274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EC7C-745A-4C23-90D4-88F492DA5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90FA3B-201F-4E34-952B-700A494AF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9B2BF-8984-4489-894D-D5262BEDD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1F4C67-710C-48D9-A65D-9E4C7B07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024CBA-9F32-4714-9254-79B38DA1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BA250-985C-4AE4-A96D-03794181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BEBAC5-D5D0-492C-AEEB-9FBAB307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BA123-73C0-4F43-9C9A-DB4993A4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1C44D-99C7-49FF-91C1-223232F6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3037C2-5264-43BF-A2F6-6BD41316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8DF0B-46D3-46A8-89D9-F70C39FA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5491-C037-4700-8D00-8A8549001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8BB391-BA8E-4F77-BC33-6D58F559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5A8214-5415-4DFB-B78C-D3A748596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FFD43-A327-4424-BD00-88AD2DB2D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477BD3-21EB-457A-9839-85AC5A31E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3B1485-EAD7-4BF4-8D75-751BE13E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E2E341-C59A-454C-82E5-1A3ACF85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CFB176-7ABE-43C3-A933-AE8158EE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B12991-0371-4EAE-850E-07FC31B4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0D1D27-8CA0-468E-8CA6-8C609384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F62937-5429-457B-85D5-316A80F9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AE9A4-F5EE-488E-9212-C70B1FAD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891EE3-A34B-4E5E-AD7E-D071588C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472F06-1A89-4D40-8E17-AE772062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F56F43-5B01-4EE5-BA34-7337E315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A86A43-8968-40D2-B021-4756800CA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AF875E-550C-44DD-9975-BAA663D9F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406693-B16D-4970-9D81-74BA73FD5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788EE7-2EA3-48CF-94A0-6C26F524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683A0C-76D6-4F8F-873C-1A1CB40B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B1F67A-D6CB-4819-967F-A2521E46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171427-FA03-48D5-B9CF-9366B360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39B4-BB23-4D2B-8B41-0836BC99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8A1F77-6048-46DD-88AF-1700378C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52CC51-41D7-455B-A970-D24569D6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50BB76-C456-4366-8B42-36291146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EC8D1B-CBA9-4B58-965B-B0AA8557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A3A5C7-3FE9-49A6-BFB3-AD6B132A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88BB67-EF5A-47AA-BDB8-02B31553C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F82933-D2A9-4A14-8E98-EEE159A78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6B710F-CA47-4124-96FE-709998F52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DA29B0-AB0D-4A5D-A939-0D8A22B2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758A8A-8A46-43A6-9784-98CFECAF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99D7D-EC3B-4097-B896-C3890A7C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2EA97C-9F8F-4C57-BFBF-06C93B75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3F30F9-1A92-4CCD-BEE8-35DEBB6D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3D567E-7553-4C5E-8978-21465D66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C45EA8-960E-4D92-96A5-2B694F7A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18D8AB-1C4C-447E-AF79-F4DE3C68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BB71D1-7C26-45F1-8E40-D524BC21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812385-4D8E-4DCF-9714-2DF25AA0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6BB3CA-4612-44CB-89AF-BE6EFA5A2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80A35B-B10A-42C1-8AD3-644DB5216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42E3AA-4D24-4DD6-973B-61D40BBDA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6182D-B7B1-47BC-BABC-09D06E2E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F088F5-BA1F-49A3-B562-81AA862D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71419D-1DB8-4364-A1B4-DF078725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8F1FD4-2B0C-4B5A-BC18-6870496B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6BCA1D-1643-4081-A3D9-4307A40B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ABF92E-5335-475A-B37B-E005ECB4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C28A10-C310-4894-89EB-8A6CCF29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6A966C-C01A-4A92-B893-D19A2541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9E5A58-72E3-4F63-AF54-13EB5B32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EDE223-A532-43D6-B738-C55D0E94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E6EF4A-568D-435C-BCEA-2C98BA130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D823-E6BA-482B-BE9D-E0C0B0E7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DA193A-D840-4320-A698-FBED25E5C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BD2C70-6ADA-4EBF-8341-89469634B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02656E-D591-4582-A7F3-774DDA7F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33733B-D851-4A67-8F9C-520E215E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6724E1-E74C-4960-99E0-17A54C90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4F9DFA-78DD-4784-8645-533C7C2A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D7D765-68E3-4C9F-97BD-5124DF7A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02248A-2ED2-4FA8-8F70-DBBF724D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114DDF-5366-4B5D-86C7-9550AC4D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7B6FA4-7AA6-4AFD-A4E2-266AF54B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28CFC-3564-4209-B14E-C92434B3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937C96-41B0-461E-A8D7-6EAEFCB6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39D227-6C0D-4914-824C-9B0EE72B5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9666C1-EAC0-4E87-800A-CF7621DF3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E028BA-68E4-4801-9C7B-B2F084814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92C645-F3F8-49CC-B13D-CB28CD7E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F56816-4B8D-4C79-A73E-439A8B95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A99311-F731-42BA-8391-58179EE8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7614E2-335E-4D48-BE0F-0648A117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6F3C90-D8E8-4D6A-A17A-E57E596F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5DFEA5-F1E0-4054-A120-0983B4D6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3F30-EEA8-4B41-8D23-1E588D7E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4B43-4182-44B3-9D46-8AF991C6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F52116-EB7B-49C6-A799-3CF8CD2A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0C133F-D043-4215-8B28-5D15CB05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EBAEB5-5F22-4FF9-915F-5FA17B13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B05590-1788-4862-AD1F-9519C02C8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832200-8727-4CB5-BB83-EABFE33C3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7C97CF-E59A-4F44-B818-6371E911F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A5FEC6-09A2-41DC-87D4-66E7673B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F4A4B5-8B1F-4933-B5C7-6A9F55B8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354072-75C2-4928-A8E9-22A62B64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23518B-443E-4D8B-B8EF-C9879F79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4EC1-3471-4AE8-ADDA-5A28FB18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34A100-D394-4B1C-9D9A-30CF7DE2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121D24-FC60-4C12-B716-DD4CCE0A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403208-F8CF-49E6-B9EB-3F151EB1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2A4AAE-3DF1-4509-BA61-D84CDC8E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CF6A50-9A8B-4373-9914-09084B04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F694E4-A43E-4DEE-B8F5-F1C2EFB6D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D179E5-E51A-48A2-AE9E-24B7D19EE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06D6-9234-4DBC-B4C1-ECE64B88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D615-59FA-4102-AED3-C8963A7BF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DF9B-1DB4-47C8-8D31-1186AED2C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9C083-9423-4D95-B5C9-F7E5782E6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EF581-E9C7-432A-8231-3D488504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8F885-5A87-497F-ABB1-3DC8FACD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ED703-C85C-4D79-B4C5-A59BC96D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E879B-67DE-459C-81B9-78C022D6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BC6C-58C7-4D62-9992-9F897DC5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C0BA9-DB73-4D3B-B2F3-169A8261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E98D7-AC05-40B3-B067-0CDC1962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55C0E-0C6B-48F3-92EE-AC8ADD11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B0D00-0169-4547-B961-6EA899CB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37DB5-90B7-4471-82B6-D7928F57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7D2C9-430A-474B-9B20-BF66D044C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8C445-F572-4FE1-AA8D-DDA9CCF6A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1A719-345B-4AF4-80D1-D6CA87415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223A5-B7C5-4F1A-B12B-5912467F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AE766-95B6-48ED-A279-9253EE00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E067-58AA-41A3-A406-3F98E402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735DB-8DB3-4BAE-B0B2-34BF0DE4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D8765-FDF6-4AFE-90B2-0087CC9D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7C030-6C24-4896-96BB-039191D2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6A238-438B-443E-91FB-C58E9455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22253-C438-4ADB-8A67-0065945F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371F5-FD6F-44D4-B4EE-4D09A792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5B553-8374-4EA8-A06B-38EBA690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6131C-252B-4151-A6F5-C6A5BC2E3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A81B7-480C-48EA-A7AB-BF7C74427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91802-D5CB-4454-96B6-A07D65D7B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6DD6-5793-49F0-A9E3-4C445016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C3F0C-784B-420B-A3D3-90162B31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76E0B-A0F8-4241-84C8-D70E51C9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01E09-8FE5-49E9-905D-2F49FC83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1FB7E-7BB6-4920-B7C8-2145116B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E310C-07D6-48C5-8508-2FA8D8A5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ABE4B-51FF-4723-B04B-D2D8A4A8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E3B30-465C-4C46-BBB6-3E719EE0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0F324-EC79-4D71-A8EF-ED40BBEE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4E95F-AB14-4FA9-AC5A-4A139F0A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F8469-70FC-4917-B3E7-23F27525B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C53A-00F2-4B90-975A-80B454F7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3E567-7AE5-4BCB-B153-8D6885C61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83480-00F2-4DAD-91C5-40A352CA6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256B4-07EC-4178-9530-6978F901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FC10D-9A34-4EB3-93A2-D74C142D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D9431-FF7D-48CC-8C60-E58B579E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7E290-FD6D-4CAB-B0C3-5E3F66F4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B1B84-BB18-4FBD-95A9-FC580D6D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180DC-A625-4509-A43E-4B6F2752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2DA03-55BE-4C7F-BD6B-69B7C02B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A55EC-CA32-4FCC-9654-666AB0B7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5885-1637-45F1-96CD-803F4BD5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CCBF8-3E51-4DEC-BD1F-D02CB220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C56C5-95CE-4675-8B5B-286D4E205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FF3B3-D4C4-449F-B514-4DDB91309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540A6-176D-4F5A-9079-0B15C7E57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6F9C8-9E61-42C9-A285-1E6B5050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D55EF-D991-4E95-B94F-B10671F9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43BD1-75CB-4CB1-B673-EB98CAD2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8098A-2A20-4331-BD10-7A868DEE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36009-21F8-4C65-9A1A-18F164DD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738DD-8C44-48A9-8A6A-3EB28EA9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94EA-ACAA-4E96-BCA3-FE61E712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52902-8231-4B7C-8EB5-2FA0945F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30912-1858-4F63-9395-B91EF768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DDFE4-8FC4-4E4D-B7CE-350B5CBC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BDE1F-BF53-4D13-B812-43679DE93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0009B-EE75-4355-879E-11F08A826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4EF3D-0F5A-4495-9AAA-C58C02E9C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DE86D-27D1-49B5-ABA5-BE9F9642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62FB6-BCFF-43D7-906E-C1C19D32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C8AAA-5FFD-4B77-8DC6-180CFD57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ABF42-66E7-4959-BAAF-98DD498C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7216-9703-495D-AC21-6E08BFA6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472D7-B610-4CA2-B49A-08D16BFC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394D8-87D3-4CC2-821E-3FBAA0E5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FAFA6-2656-4DB6-BB98-C32254AD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B96F8-7433-423B-B846-790D0621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4A441-1AB2-4CAB-A11E-E7D19BD8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8B429-E8EB-4A8E-8D5B-6D82FE90A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82101-9EF7-4D8A-A92B-2EF1AEB24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A98A73-8E6F-4926-8C4A-10C1F8769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E9F818-BE04-441A-9449-98DC2FD6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43EFE0-DB14-4D90-9074-DF198D93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5721-70C6-4CB7-9652-5E835FED08F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6FB4-BBD1-47DF-A5A9-B9F9397AB5E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D386-5DAC-430F-AFF4-11C6E4BEB5D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05D0-5D93-40B8-BEA4-1DC1E4C243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8"/>
          <p:cNvSpPr/>
          <p:nvPr/>
        </p:nvSpPr>
        <p:spPr>
          <a:xfrm>
            <a:off x="1001880" y="75420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TextBox 9"/>
          <p:cNvSpPr/>
          <p:nvPr/>
        </p:nvSpPr>
        <p:spPr>
          <a:xfrm>
            <a:off x="10557000" y="299412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A411-9524-415E-87DE-94346276238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0641-921E-4D02-A454-4FE86EF7C6B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E900-13D3-4313-9D24-C37D0070066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93B7-D284-4806-BA93-1399C532A39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1439-BD6E-4267-84B9-6CAE50B926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1E56-3A06-49AE-B88D-F2CA39D29E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Droplets-HD-Title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802F-824B-4F3E-AD9A-B9C8C7ECBE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B283-B845-423F-8484-79C490B5864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C4F8-47B3-450A-A845-DD82957CE7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A5BC-D0B3-4148-97A8-A19779BFA2F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E9B1-8A6B-4788-B313-03AC89992BE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5E49-6808-4436-8E95-A5D4FDE6737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B790-B768-4DA3-94ED-4814A64B16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8491-A4F4-4A53-8DFC-295147006D4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750680" y="2066760"/>
            <a:ext cx="8690040" cy="174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6" name="TextBox 3"/>
          <p:cNvSpPr/>
          <p:nvPr/>
        </p:nvSpPr>
        <p:spPr>
          <a:xfrm>
            <a:off x="1073160" y="2306520"/>
            <a:ext cx="1058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w Cen MT"/>
              </a:rPr>
              <a:t>Regional water and energy seminar; 12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w Cen MT"/>
              </a:rPr>
              <a:t>th –</a:t>
            </a:r>
            <a:r>
              <a:rPr b="0" lang="en-US" sz="5400" spc="-1" strike="noStrike">
                <a:solidFill>
                  <a:srgbClr val="000000"/>
                </a:solidFill>
                <a:latin typeface="Tw Cen MT"/>
              </a:rPr>
              <a:t>15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w Cen MT"/>
              </a:rPr>
              <a:t>th</a:t>
            </a:r>
            <a:r>
              <a:rPr b="0" lang="en-US" sz="5400" spc="-1" strike="noStrike">
                <a:solidFill>
                  <a:srgbClr val="000000"/>
                </a:solidFill>
                <a:latin typeface="Tw Cen MT"/>
              </a:rPr>
              <a:t> may 2014 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VISION &amp; STAKEHOLDER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VISION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45252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ALL SOLOMON ISLANDERS WITH EASY ACCESS TO SUFFICIENT QUANTITY AND QUALITY OF WATER, APPROPRIATE SANITATION, AND LIVING IN A SAFE AND HYGIENIC ENVIRONMENT”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AIN STAKEHOLDERS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4525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IG: MMERE, MHMS, RDP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4525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NGOs: WORLD VISION, ADRA, CARITAS, RED CROSS, SIDT, and other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4525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FUNDING SUPPORT: DFAT, EU, World Bank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MAIN ISSUES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10% OF ALL DEATHS IN SI ARE WASH RELATED…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447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=&gt; THOUGH ECONOMIC AND NATURAL RESOURCES BENEFITS ARE THERE, RWASH IS PRIMARILY ABOUT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w Cen MT"/>
              </a:rPr>
              <a:t>PREVENTATIVE HEALTH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1" marL="44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447840" indent="-447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POOR REGULATORY BASE OF THE SECTOR;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447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- NO WATER ACT, POLICY, STRATEGIC PLAN, TECHNICAL STANDARDS, and other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447840" indent="-447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POOR COORDINATION &amp; PLANNING OF THE SECTOR;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447840" indent="-447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POOR SUSTAINABILITY OF WATER SUPPLY SYSTEMS;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447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- 50% OF ALL NEW WATER SYSTEM BREAK DOWN WITHIN 2 YEARS AFTER COMPLETION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447840" indent="-447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POOR SANITATION AND HYGIENE BEHAVIOR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447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- LOW SANITATION COVERAGE &lt;18% RURAL HOUSEHOLDS, EVEN LOWER FOR HAND WASHING WITH SOAP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447840" indent="-447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MEASURES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REVENTATIVE HEALTH: =&gt;INTEGRATED WASH PROJECTS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58080" indent="-2192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MAINSTREAMING SANITATION AND HYGIENE;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58080" indent="-2192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NAME CHANGE: RWSS -&gt; RWASH PROGRAM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438840" indent="-4388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EGULATION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58080" indent="-2192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DRAFT POLICY NOW AT EXECUTIVES FOR ENDORSEMENT, THEN CABINET; ( JUST ENDORSED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58080" indent="-2192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ENGINEERING STANDARDS DRAFT 90% COMPLETE;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58080" indent="-2192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WASH STRATEGIC PLAN UNDER DEVELOPMENT NOW;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58080" indent="-2192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COMMUNITY ENGAGEMENT REQUIREMENTS – EXTERNAL INPUT EXPECTED 2014;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58080" indent="-2192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58080" indent="-2192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MEASURES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914040" y="1728360"/>
            <a:ext cx="10363320" cy="40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COORDINATION &amp; PLANNING: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WASH STAKEHOLDER GROUP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RURAL WASH OVERSIGHT COMMITTEE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SECTOR COORDINATION DATABASE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BASELINE STUDY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HANGE OF ROLE OF THE GOVERNMENT (MHMS) FROM IMPLEMENTER TO REGULATOR/MONITOR/QUALITY CONTROL =&gt; REQUIRE MORE INVOLVEMENT OF SECTOR PARTNERS.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USTAINABILITY: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ENGINEERING STANDARDS AND STANDARD DESIGNS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COMMUNITY ENGAGEMENT REQUIREMENTS,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(including mobilization and planning, water committee training, water security, climate change, hygiene, basic plumbing skills, etc)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w Cen MT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ANITATION AND HYGIENE BEHAVIOR: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INNOVATIVE SANITATION APPROACH ON NATIONAL SCALE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NATIONAL HYGIENE CAMPAIGN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7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7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7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7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7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7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ECONOMIC INVESTME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BENEFIT – COST RATIO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WHO REPORT (2012):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=&gt; THOUGH INVESTMENT IN WATER SUPPLY ALONE COSTS MONEY, INVESTMENT IN WATER SUPPLY &amp; SANITATION COMBINED HAS A NEAR DOUBLE RETURN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- MOST BENEFITS DUE TO TIME SAVINGS (70%), AND HEALTH CARE SAVINGS (10%)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URRENTLY EHD/RWSS DOES APPROXIMATELY 45 WATER SUPPLY PROJECTS/YEAR, BUT 0 WASH PROJECTS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787" name=""/>
          <p:cNvGraphicFramePr/>
          <p:nvPr/>
        </p:nvGraphicFramePr>
        <p:xfrm>
          <a:off x="1281240" y="2798640"/>
          <a:ext cx="8127720" cy="1484280"/>
        </p:xfrm>
        <a:graphic>
          <a:graphicData uri="http://schemas.openxmlformats.org/drawingml/2006/table">
            <a:tbl>
              <a:tblPr/>
              <a:tblGrid>
                <a:gridCol w="2709720"/>
                <a:gridCol w="270828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fa3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OCEA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fa3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OLOMON ISLA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fa3ee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ANI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f8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ATER SUPP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c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MBINED WATS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w Cen MT"/>
                        </a:rPr>
                        <a:t>1.8(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f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6" dur="5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1" dur="500"/>
                                        <p:tgtEl>
                                          <p:spTgt spid="7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6" dur="500"/>
                                        <p:tgtEl>
                                          <p:spTgt spid="7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1" dur="500"/>
                                        <p:tgtEl>
                                          <p:spTgt spid="7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VINAKA VAKALEVU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5T03:45:03Z</dcterms:created>
  <dc:creator>rwss</dc:creator>
  <dc:description/>
  <dc:language>en-US</dc:language>
  <cp:lastModifiedBy>rose tungale</cp:lastModifiedBy>
  <dcterms:modified xsi:type="dcterms:W3CDTF">2014-05-13T05:58:11Z</dcterms:modified>
  <cp:revision>17</cp:revision>
  <dc:subject/>
  <dc:title>RURAL WATER SUPPLY, SANITATION &amp; HYGIENE</dc:title>
</cp:coreProperties>
</file>