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F3A46-9FB6-4792-B7D5-2B4BDE91D8A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ecalling EUWI catalyst’s ro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0C094-2627-45E8-AE67-C23CD4F362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The place where EUWI wants to b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934D-F08F-4209-9A2B-7CE182407E9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7DD9-28D5-4FC9-95F6-1B8365B9B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2244-5417-4E30-8975-B7978150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291F-B0FC-4962-B5AA-7AAF40B49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2BA8-C8A6-4EBF-9921-EB8B59354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DE5D-E50C-45FA-BF0E-3FC0059B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BD2B-7471-42EB-8279-AD1A3C13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DDA2-08A7-4085-B970-0BCF33E4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AB36-7D96-4086-A443-C80E754A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21AB-44D9-41CE-8CEE-78388DBD3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9F2B-0098-4BB9-BD6E-DB84682A2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5A8C-BF79-4CB9-9A12-F36E3B2C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04C0-72EB-4D6B-9E0A-5BD7714E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CFDC-5FB4-417E-9792-B2421A35E8F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28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UWI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External Communication Strateg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98989"/>
                </a:solidFill>
                <a:latin typeface="Calibri"/>
              </a:rPr>
              <a:t>Eric Bouancheaux-Zuckermand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98989"/>
                </a:solidFill>
                <a:latin typeface="Calibri"/>
              </a:rPr>
              <a:t>IRIS training &amp; consul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http://www.ibf.be/images/banner_ibf_00.jpg"/>
          <p:cNvPicPr/>
          <p:nvPr/>
        </p:nvPicPr>
        <p:blipFill>
          <a:blip r:embed="rId1"/>
          <a:stretch/>
        </p:blipFill>
        <p:spPr>
          <a:xfrm>
            <a:off x="0" y="0"/>
            <a:ext cx="65721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ampaign the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356840"/>
            <a:ext cx="8229600" cy="13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0000"/>
                </a:solidFill>
                <a:latin typeface="Calibri"/>
              </a:rPr>
              <a:t>A great ocean is made of small stream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les petites rivières font les grands fleu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(or any equivalent saying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itre 1"/>
          <p:cNvSpPr/>
          <p:nvPr/>
        </p:nvSpPr>
        <p:spPr>
          <a:xfrm>
            <a:off x="571680" y="3071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ase line or sign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Espace réservé du contenu 2"/>
          <p:cNvSpPr/>
          <p:nvPr/>
        </p:nvSpPr>
        <p:spPr>
          <a:xfrm>
            <a:off x="457200" y="3814920"/>
            <a:ext cx="822960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ff0000"/>
                </a:solidFill>
                <a:latin typeface="Calibri"/>
              </a:rPr>
              <a:t>EUW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goodwill makes it hap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http://www.ibf.be/images/banner_ibf_00.jpg"/>
          <p:cNvPicPr/>
          <p:nvPr/>
        </p:nvPicPr>
        <p:blipFill>
          <a:blip r:embed="rId1"/>
          <a:stretch/>
        </p:blipFill>
        <p:spPr>
          <a:xfrm>
            <a:off x="0" y="5791320"/>
            <a:ext cx="65721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35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6" descr="G:\EUWI\Poster.jpg"/>
          <p:cNvPicPr/>
          <p:nvPr/>
        </p:nvPicPr>
        <p:blipFill>
          <a:blip r:embed="rId1"/>
          <a:stretch/>
        </p:blipFill>
        <p:spPr>
          <a:xfrm>
            <a:off x="2282760" y="190440"/>
            <a:ext cx="464652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ituation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6972480" cy="30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tr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nsciousness at political level is the key: political initiative started. Reason why EUWI is creat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virtuous circle created: EUWI is a catalyst &gt;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spinning up in 200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http://www.ibf.be/images/banner_ibf_00.jpg"/>
          <p:cNvPicPr/>
          <p:nvPr/>
        </p:nvPicPr>
        <p:blipFill>
          <a:blip r:embed="rId1"/>
          <a:stretch/>
        </p:blipFill>
        <p:spPr>
          <a:xfrm>
            <a:off x="0" y="5791320"/>
            <a:ext cx="65721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9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75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ituation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600200"/>
            <a:ext cx="625788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eakn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tangible nature of its activ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ack of stakeholders’ awareness (EUWI activities are complex and below-the-line) &gt;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awareness reinforced in 200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http://www.ibf.be/images/banner_ibf_00.jpg"/>
          <p:cNvPicPr/>
          <p:nvPr/>
        </p:nvPicPr>
        <p:blipFill>
          <a:blip r:embed="rId1"/>
          <a:stretch/>
        </p:blipFill>
        <p:spPr>
          <a:xfrm>
            <a:off x="0" y="6208560"/>
            <a:ext cx="400068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95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ituation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632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rea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UWI at stake if political awareness not sufficiently reach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UWI lacks clear evidence linking    its achievements to its missions              &gt;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more evidence linking missions     to achievem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http://www.ibf.be/images/banner_ibf_00.jpg"/>
          <p:cNvPicPr/>
          <p:nvPr/>
        </p:nvPicPr>
        <p:blipFill>
          <a:blip r:embed="rId1"/>
          <a:stretch/>
        </p:blipFill>
        <p:spPr>
          <a:xfrm>
            <a:off x="0" y="5791320"/>
            <a:ext cx="65721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8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ituation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600200"/>
            <a:ext cx="6186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pportun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o track tangible successful EUWI missions, get stories out of them, and launch them. &gt;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Started in 2009, needs to be pursu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4" descr="http://www.ibf.be/images/banner_ibf_00.jpg"/>
          <p:cNvPicPr/>
          <p:nvPr/>
        </p:nvPicPr>
        <p:blipFill>
          <a:blip r:embed="rId1"/>
          <a:stretch/>
        </p:blipFill>
        <p:spPr>
          <a:xfrm>
            <a:off x="0" y="5791320"/>
            <a:ext cx="65721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1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6043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201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what EUWI achievements do its target groups need to know 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(if not a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l) achievements in relation with EUWI 5 objec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4" descr="http://www.ibf.be/images/banner_ibf_00.jpg"/>
          <p:cNvPicPr/>
          <p:nvPr/>
        </p:nvPicPr>
        <p:blipFill>
          <a:blip r:embed="rId1"/>
          <a:stretch/>
        </p:blipFill>
        <p:spPr>
          <a:xfrm>
            <a:off x="0" y="6286680"/>
            <a:ext cx="352116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100"/>
                            </p:stCondLst>
                            <p:childTnLst>
                              <p:par>
                                <p:cTn id="67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Key message (target’s benefi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Why should my public need to know this?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artner countries’ gvt representativ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ational economy boost &gt;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a s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verty reduction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a s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omen’s self-esteem &amp; dignity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a s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olitical stability &gt;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a s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Government’s recognized credit &gt;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a s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eeling uplifted and valued &gt;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a s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http://www.ibf.be/images/banner_ibf_00.jpg"/>
          <p:cNvPicPr/>
          <p:nvPr/>
        </p:nvPicPr>
        <p:blipFill>
          <a:blip r:embed="rId1"/>
          <a:stretch/>
        </p:blipFill>
        <p:spPr>
          <a:xfrm>
            <a:off x="0" y="5791320"/>
            <a:ext cx="65721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Key message (target’s benefi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enefits for water directors, NGO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al support, not left alone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a s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eting of minds enhancement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a s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ster &amp; better development of policies &amp; strategies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a s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eeling uplifted and valued for having shared in tangible Water effort &gt;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a s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http://www.ibf.be/images/banner_ibf_00.jpg"/>
          <p:cNvPicPr/>
          <p:nvPr/>
        </p:nvPicPr>
        <p:blipFill>
          <a:blip r:embed="rId1"/>
          <a:stretch/>
        </p:blipFill>
        <p:spPr>
          <a:xfrm>
            <a:off x="0" y="5791320"/>
            <a:ext cx="65721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Key message (target’s benefi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768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enefits for NGO’s, Science &amp;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al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a s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nding research is improved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a s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creasing knowledge for better decision making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a s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ibuting to Aid Harmonisation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a s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eeling uplifted and valued for having shared in tangible Water effort &gt; </a:t>
            </a:r>
            <a:r>
              <a:rPr b="0" lang="en-GB" sz="2800" spc="-1" strike="noStrike">
                <a:solidFill>
                  <a:srgbClr val="ff0000"/>
                </a:solidFill>
                <a:latin typeface="Calibri"/>
              </a:rPr>
              <a:t>a s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http://www.ibf.be/images/banner_ibf_00.jpg"/>
          <p:cNvPicPr/>
          <p:nvPr/>
        </p:nvPicPr>
        <p:blipFill>
          <a:blip r:embed="rId1"/>
          <a:stretch/>
        </p:blipFill>
        <p:spPr>
          <a:xfrm>
            <a:off x="0" y="5791320"/>
            <a:ext cx="65721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2T10:13:28Z</dcterms:created>
  <dc:creator>Eric</dc:creator>
  <dc:description/>
  <dc:language>en-US</dc:language>
  <cp:lastModifiedBy>Eric</cp:lastModifiedBy>
  <dcterms:modified xsi:type="dcterms:W3CDTF">2009-12-04T00:12:26Z</dcterms:modified>
  <cp:revision>29</cp:revision>
  <dc:subject/>
  <dc:title>EUWI</dc:title>
</cp:coreProperties>
</file>