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BC05-469A-4808-8BA9-B04897C4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21A0-D09E-4114-AB34-BB4CEA9C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053-8645-404B-8B02-9FE7323FC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CAB9-93F2-4CEE-A297-9326BE6D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DDEC1-A691-4DA2-81AF-B122C2F2A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84FA-265B-48A3-996D-3D8CA4010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7B1E-C977-4615-A1AB-8A0BC3B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D840-3940-4FA2-9AE9-071F36B3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2ABC-C764-4592-8C6C-0910B3D66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74D15-699D-4580-A563-CBB924E6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647B0-DE05-4A72-8B4D-0E15A7E68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1113-912C-43B9-8EDB-965DE8BA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F557-41BE-4C9B-8B17-294123C0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A13E2-2D3E-417D-AF74-9171565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786C5-3FB5-4549-9FC8-E38F1B50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9F52-28C6-4084-A37E-C9517C09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1A37-28CE-471A-A665-CD7765D3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452-4C92-41AA-AAF6-C95E5335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99C5-D631-41A0-98A2-2F117B157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5EED-3E5D-4217-8A82-5C2EB15E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B246-FE84-44CE-AC5D-2A053C89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DF8C-1194-4070-8A4F-32F5D077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9BA4-0E3F-4B01-A751-03DB2EE1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5CF-9485-4D77-BE3D-3B0334D4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03DD-FFAA-4CEA-A87C-05C4BA361B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DB29-02BB-462C-9D59-E79D9CE097C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3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plash-era.net/quiz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erstin.Schaberreiter@bgr.de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search Spla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</a:t>
            </a: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Quiz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owing both the importance of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 and sanitation issu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vestment required in water and research to reach MD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imple and nice wa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5527" t="20173" r="40448" b="23118"/>
          <a:stretch/>
        </p:blipFill>
        <p:spPr>
          <a:xfrm>
            <a:off x="4859280" y="1341360"/>
            <a:ext cx="3975120" cy="496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Research-Splash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back on the questionnaire it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ertion in the EUWI websit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6633"/>
                </a:solidFill>
                <a:uFillTx/>
                <a:latin typeface="Times New Roman"/>
                <a:hlinkClick r:id="rId1"/>
              </a:rPr>
              <a:t>Kerstin.Schaberreiter@bgr.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w.splash-era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0" t="0" r="61777" b="0"/>
          <a:stretch/>
        </p:blipFill>
        <p:spPr>
          <a:xfrm>
            <a:off x="6084720" y="3933720"/>
            <a:ext cx="280368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10:12:57Z</dcterms:created>
  <dc:creator>GEM User</dc:creator>
  <dc:description/>
  <dc:language>en-US</dc:language>
  <cp:lastModifiedBy>GEM User</cp:lastModifiedBy>
  <dcterms:modified xsi:type="dcterms:W3CDTF">2009-12-10T08:20:20Z</dcterms:modified>
  <cp:revision>4</cp:revision>
  <dc:subject/>
  <dc:title>Research Splash</dc:title>
</cp:coreProperties>
</file>