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280F-98F7-4C34-8203-797E6D9EE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alling EUWI catalyst’s r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EDC-D4AC-4194-81C4-9A859DA58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place where EUWI wants to b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75E-DDFA-4F9C-ACEC-7B29B16F9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709-77EA-4DAA-B807-6952FB7B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A52-E5BB-4E30-AB70-8B7ACA4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4B3-D45E-44EB-B981-928D7E5E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B03-37EB-4B7C-9A19-6B3F4AB3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2B4-2F2B-4F2B-B9A5-81508654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4D4-105E-4889-B513-C8731022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715-90FF-4102-A30A-01CE445B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0FC-F009-4C2F-86A7-5B5037D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83C-B155-4F3F-BE18-8B0AE591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D22-B65B-4A12-8FA6-535AD7EB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684-EA4F-4606-9B9A-7BEA4EC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9D9-E62F-407B-8314-D7628B08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BA1B-A4F9-4A0F-A770-3C80226BB8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UWI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xternal Communicatio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98989"/>
                </a:solidFill>
                <a:latin typeface="Calibri"/>
              </a:rPr>
              <a:t>Eric Bouancheaux-Zuckermand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98989"/>
                </a:solidFill>
                <a:latin typeface="Calibri"/>
              </a:rPr>
              <a:t>IRIS training &amp; consul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mpaign th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6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Calibri"/>
              </a:rPr>
              <a:t>A great ocean is made of small stre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les petites rivières font les grands fleu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(or any equivalent say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571680" y="307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e line or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contenu 2"/>
          <p:cNvSpPr/>
          <p:nvPr/>
        </p:nvSpPr>
        <p:spPr>
          <a:xfrm>
            <a:off x="457200" y="381492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EUW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goodwill makes it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35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G:\EUWI\Poster.jpg"/>
          <p:cNvPicPr/>
          <p:nvPr/>
        </p:nvPicPr>
        <p:blipFill>
          <a:blip r:embed="rId1"/>
          <a:stretch/>
        </p:blipFill>
        <p:spPr>
          <a:xfrm>
            <a:off x="2282760" y="190440"/>
            <a:ext cx="4646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69724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ciousness at political level is the key: political initiative started. Reason why EUWI is cre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irtuous circle created: EUWI is a catalys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pinning up in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7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62578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angible nature of its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ck of stakeholders’ awareness (EUWI activities are complex and below-the-line)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wareness reinforced in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6208560"/>
            <a:ext cx="40006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WI at stake if political awareness not sufficiently reac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WI lacks clear evidence linking    its achievements to its missions              &gt;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evidence linking missions     to achiev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rack tangible successful EUWI missions, get stories out of them, and launch them.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tarted in 2009, needs to be pur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60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0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what EUWI achievements do its target groups need to know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(if not 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l) achievements in relation with EUWI 5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6286680"/>
            <a:ext cx="3521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1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message (target’s benefi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y should my public need to know this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ner countries’ gvt represent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tional economy boos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verty reduc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’s self-esteem &amp; dignit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itical stability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overnment’s recognized credi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ling uplifted and valued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message (target’s benefi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nefits for water directors, NG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 support, not left alo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ing of minds enhancemen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er &amp; better development of policies &amp; strategie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ling uplifted and valued for having shared in tangible Water effor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message (target’s benefi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nefits for NGO’s, Science &amp;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research is improve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knowledge for better decision making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ing to Aid Harmonisa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ling uplifted and valued for having shared in tangible Water effor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0:13:28Z</dcterms:created>
  <dc:creator>Eric</dc:creator>
  <dc:description/>
  <dc:language>en-US</dc:language>
  <cp:lastModifiedBy>Eric</cp:lastModifiedBy>
  <dcterms:modified xsi:type="dcterms:W3CDTF">2009-12-04T00:12:26Z</dcterms:modified>
  <cp:revision>29</cp:revision>
  <dc:subject/>
  <dc:title>EUWI</dc:title>
</cp:coreProperties>
</file>