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414-C574-4363-80C2-6557734D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987-E099-49EC-8078-8E6EA5B0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9A7-6E0E-4427-97E9-C16273E3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22D-2D42-41B3-9D30-850F8E6F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F2F3-29BC-4411-9626-2A4E5D66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4A8C-3700-401D-AC98-E059488D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64D0-65A0-4A7F-AA10-126A43CF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26CF-866A-4E0D-9094-FED23A9E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6871-6BE1-4277-A793-5ED5929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ED76-3036-47A0-993B-32B2771C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A296-7892-406C-BE27-2126431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A78-BA7A-4B09-8FB9-F3FA2766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BA47-E4BE-42A4-BD51-3FC4762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9188-966B-4709-ADD6-8FA67D4B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EEFA-8F50-4BC1-8480-767F8AC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C5D0-B6C2-4602-990D-53284857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18A9-2900-4FDD-AC2E-C3A3661B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610-AA41-4BA3-9DAA-0F5BA242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219-D64C-43BA-B89F-B68972A7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AA8-11C6-4A59-AB80-E4944F83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B8C-5869-4145-A60F-7E577438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0F2-9AD0-40BE-9AD3-B59A9D23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B88-F9A2-4F6E-A935-D1F0BC4C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43E-2AE3-49F7-B9DA-55539C1E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8537-524F-48E4-AB28-C94F2C90D5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D173-96E5-416C-B161-639D655FD6C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plash-era.net/quiz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erstin.Schaberreiter@bgr.d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esearch Splas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Quiz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ing both the importance of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and sanitation issu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estment required in water and research to reach MD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imple and nice wa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5527" t="20173" r="40448" b="23118"/>
          <a:stretch/>
        </p:blipFill>
        <p:spPr>
          <a:xfrm>
            <a:off x="4859280" y="1341360"/>
            <a:ext cx="39751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esearch-Splas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on the questionnaire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 in the EUWI websi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Kerstin.Schaberreiter@bgr.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splash-era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0" r="61777" b="0"/>
          <a:stretch/>
        </p:blipFill>
        <p:spPr>
          <a:xfrm>
            <a:off x="6084720" y="3933720"/>
            <a:ext cx="28036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0:12:57Z</dcterms:created>
  <dc:creator>GEM User</dc:creator>
  <dc:description/>
  <dc:language>en-US</dc:language>
  <cp:lastModifiedBy>GEM User</cp:lastModifiedBy>
  <dcterms:modified xsi:type="dcterms:W3CDTF">2009-12-10T08:20:20Z</dcterms:modified>
  <cp:revision>4</cp:revision>
  <dc:subject/>
  <dc:title>Research Splash</dc:title>
</cp:coreProperties>
</file>