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36B-3009-4723-8104-38035C2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ECF-655E-49D1-BC5C-A80B892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745-02C9-4B7F-8061-D470DC5F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0F2-D7E0-4029-AD31-5A11528D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4CD-1AB1-46E9-BD40-1A5A3B59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699-F581-47C1-B9DC-5036BD58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D72-AD72-48FD-B341-1EC4497B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8A4-C5BC-4D0C-8246-2715439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3ED-4F8A-4547-AFB1-A8947F28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70F-344A-47E0-910D-BBF537F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DEEA-0495-4113-B6CA-0E6F5EE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437-D5B8-4FBC-87ED-C078E30D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C304-5C04-4DD7-BBA4-9BF67D7C693F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996840"/>
            <a:ext cx="6357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noAutofit/>
          </a:bodyPr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600" spc="-1" strike="noStrike">
                <a:solidFill>
                  <a:srgbClr val="171512"/>
                </a:solidFill>
                <a:latin typeface="Arial"/>
              </a:rPr>
              <a:t>Science and Technology servic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1600" spc="-1" strike="noStrike">
                <a:solidFill>
                  <a:srgbClr val="171512"/>
                </a:solidFill>
                <a:latin typeface="Arial"/>
              </a:rPr>
              <a:t>Supporting Water Management Policies i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381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b">
            <a:noAutofit/>
          </a:bodyPr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400" spc="-1" strike="noStrike">
                <a:solidFill>
                  <a:srgbClr val="14472f"/>
                </a:solidFill>
                <a:latin typeface="Arial"/>
              </a:rPr>
              <a:t>NEPAD / AFRICAN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400" spc="-1" strike="noStrike">
                <a:solidFill>
                  <a:srgbClr val="14472f"/>
                </a:solidFill>
                <a:latin typeface="Arial"/>
              </a:rPr>
              <a:t>Network of Centres of Excellence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00120" y="3429000"/>
            <a:ext cx="3143160" cy="323676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7"/>
          <p:cNvSpPr/>
          <p:nvPr/>
        </p:nvSpPr>
        <p:spPr>
          <a:xfrm>
            <a:off x="5580000" y="3716280"/>
            <a:ext cx="3168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urrent African Cent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Western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CAD Séné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IE  Burkina Fa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Southern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WC 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SU  South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UKZN South Afri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S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iversities fro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Malawi and Botsw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981000"/>
            <a:ext cx="6409080" cy="709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205000"/>
            <a:ext cx="756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 Support to the African Centres of Excellenc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WATER – AC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71120"/>
            <a:ext cx="8147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arted by NEPAD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upport from IRD (France) and WRC (South Afr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5 African regions (2 for the mo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dentification of exisist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network (not new institu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333360"/>
            <a:ext cx="7381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b">
            <a:noAutofit/>
          </a:bodyPr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600" spc="-1" strike="noStrike">
                <a:solidFill>
                  <a:srgbClr val="14472f"/>
                </a:solidFill>
                <a:latin typeface="Arial"/>
              </a:rPr>
              <a:t>NEPAD / AFRICAN U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US" sz="2600" spc="-1" strike="noStrike">
                <a:solidFill>
                  <a:srgbClr val="14472f"/>
                </a:solidFill>
                <a:latin typeface="Arial"/>
              </a:rPr>
              <a:t>Network of Centres of Excellence in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7"/>
          <p:cNvSpPr/>
          <p:nvPr/>
        </p:nvSpPr>
        <p:spPr>
          <a:xfrm>
            <a:off x="1116000" y="4005360"/>
            <a:ext cx="403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urrent African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est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UCAD Sen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IE  Burkina F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4578480"/>
            <a:ext cx="259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uthern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WC South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U  South 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UKZN South Afric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S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ties from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Malawi and Botsw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NEPAD Co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nformation brok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ervice Rendering (information, analysis, support and other services to government, businnes and C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support to the C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Budget of 1.5M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arting in January 2010 for 3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the multi-stakeholder sector with the contribution of each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south to south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ing on the job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manage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0560" y="5746680"/>
            <a:ext cx="5761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85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bjective is to </a:t>
            </a:r>
            <a:r>
              <a:rPr b="0" i="1" lang="en-GB" sz="1400" spc="-1" strike="noStrike">
                <a:solidFill>
                  <a:srgbClr val="006600"/>
                </a:solidFill>
                <a:latin typeface="Arial"/>
              </a:rPr>
              <a:t>Build and Valoris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e African Water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Aft>
                <a:spcPts val="876"/>
              </a:spcAft>
              <a:buClr>
                <a:srgbClr val="951327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QUAKNOW Platform = Web-based information system for Virtual Communication, Knowledge Management and Training on-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3789360"/>
            <a:ext cx="5688000" cy="3070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3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Guidelines, Data and Policy Disse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373720"/>
            <a:ext cx="5616720" cy="307080"/>
          </a:xfrm>
          <a:prstGeom prst="rect">
            <a:avLst/>
          </a:prstGeom>
          <a:solidFill>
            <a:srgbClr val="9966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4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Water Knowledge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981000"/>
            <a:ext cx="5761080" cy="30708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1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upporting the development of regional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270000"/>
            <a:ext cx="7993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Aft>
                <a:spcPts val="1250"/>
              </a:spcAft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mework will be based around 4 Big Axes of the Water – 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3080" y="1268280"/>
            <a:ext cx="691200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ising competences and knowledge sharing in the frame of an ope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twork should address governance and policy issues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&gt; being a technical and scientific adviser e.g in SWAPs, to AMCOW -T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145040"/>
            <a:ext cx="64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tion dissemination at Regional BUT also at Continent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EU Guidelines for Water Management that should become “a base for the African Water Guidelin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buClr>
                <a:srgbClr val="951327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951327"/>
                </a:solidFill>
                <a:latin typeface="Arial"/>
              </a:rPr>
              <a:t>EC - ESA Contributi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TIGER = Support through Call for Proposals – Capacity Building, Data,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2349360"/>
            <a:ext cx="5761080" cy="307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XIS 2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Supporting secto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2759040"/>
            <a:ext cx="61927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to act as a key player in the sector to increase coordination between stakeholders in the sector, public, governments, donors and society,and through SWAP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&gt; being a technical and scientific adviser e.g in SWAPs, to AMCOW -T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1657440"/>
            <a:ext cx="820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mplementarity with SPLASH (research component of the Water Initiativ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both projects support the emergence of African CoE, both support more visibility for those partners, both aims to create sustainable relationships with those institu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 the actions to support those institutions are differ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JRC project give more emphasis on the sector approa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PLASH on the research side of the s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5980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activities and suppo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54:17Z</dcterms:created>
  <dc:creator>Andrea Leone</dc:creator>
  <dc:description/>
  <dc:language>en-US</dc:language>
  <cp:lastModifiedBy>Andrea Leone</cp:lastModifiedBy>
  <dcterms:modified xsi:type="dcterms:W3CDTF">2009-12-04T11:52:27Z</dcterms:modified>
  <cp:revision>18</cp:revision>
  <dc:subject/>
  <dc:title>Slide 1</dc:title>
</cp:coreProperties>
</file>