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2A3-170B-4C6E-B108-AD5FA379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EC6-C261-42BB-8615-BF7B473C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C82A-E777-4838-954B-18EB57A9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F0A-0A97-46DD-8BF5-2857BF4D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439B-CC1B-435F-B4C8-8F02F411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4FBD-1FFC-4BC0-8169-77975FD0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21A9-C37E-499E-997A-F23C2F2F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F2CD-7966-451A-B710-213EBDC7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2E4A-989C-4A04-A5A5-A8D3EC03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E173-1585-4294-A096-8BEAA5BC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FF4D-3B99-48A1-97CA-77E22A15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65A-F820-4224-AEB0-3269F888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D9AE-A785-43DC-98E1-CF2C3F87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89A0-E00B-43C7-8418-D803916C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63E4-62D4-4613-A04F-0FA9BB5C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3766-B775-4734-8654-313DB608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F8F8-F3B0-4A21-BB28-040C5B06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DB4-9080-442F-9572-910170A0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AC8-70B9-40B0-AB74-D36AAB9B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25F-5C97-4EAD-BE94-63F213E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B93-810F-49A1-BE55-F55DBF07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9A4-C3C9-4B29-B8E4-D7B1DFEA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BF9-1F8C-42E1-AA38-F044B8C9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D0D-7B74-47E2-826A-ED8E040E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C82E-5AD8-4EC3-B4B3-93FB494D6F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5B7-E2F4-49BD-A62D-4E552B2B93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03728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aeaea"/>
                </a:solidFill>
                <a:latin typeface="Tahoma"/>
              </a:rPr>
              <a:t>Thematic Programme for Environment and the Sustainable Management of Natural Resources, including Energy (ENRTP)</a:t>
            </a:r>
            <a:br>
              <a:rPr sz="2200"/>
            </a:br>
            <a:r>
              <a:rPr b="1" lang="en-GB" sz="2200" spc="-1" strike="noStrike">
                <a:solidFill>
                  <a:srgbClr val="eaeaea"/>
                </a:solidFill>
                <a:latin typeface="Tahoma"/>
              </a:rPr>
              <a:t>2007-2013</a:t>
            </a: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2204640"/>
            <a:ext cx="7466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xternal policy instruments for 2007-2013 (9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nstrument for Pre-Accession Assistance (IPA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European Neighbourhood and Partnership Instrument (ENPI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evelopment Cooperation Instrument (DCI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nstrument for Cooperation with Industrialized Countries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nstrument for Stability (IfS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Human Rights and Democracy Instrument (the former European Initiative on Democracy and Human Rights (EIDHR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Nuclear Safety Instrumen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2700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wo existing instruments – i) for Humanitarian Aid and ii) for Macro-financial Assistance – continue to exis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2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hematic programmes (5);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 funded under DCI, with allocations from the ENP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R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od secu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vesting in Peop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n-state 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gration and Asyl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ifferentiation from geographical programming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principles of subsidiarity and complementari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3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road policy orientations of the programm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vironmental aspects of development poli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ternal aspects of EU environmental policy and the EC’s international environmental obligation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ternal aspects of the EU energy poli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matic scope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city-building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ing the implementation of EU initiatives and international agreements (EUWI, EUEI, FLEGT, climate change, biodiversity, forests, fisheries and marine resources, chemicals, wastes, etc.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ing a better integration of environment within EU external policies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engthening environmental governance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pporting sustainable energy options in partner countries;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4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071360"/>
            <a:ext cx="75438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ligibility: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CI, ENPI, EDF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lobal activiti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Budget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≈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1 billion EUR for 2007-2013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≈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ahoma"/>
              </a:rPr>
              <a:t>450 MEUR for 2011-2013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cess of programm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 Multiannual Thematic Strategi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007-2010, 2011-2013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nual Action Programmes (implementation modalities, etc.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40428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5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eparations of the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Multiannual Strateg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eps and tentative timetabl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view by external consultant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ivil society consultation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to start in Dec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 reflections in parallel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sultations with MS and EP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pril-May 2010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pproval by the COM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round July 201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549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ENRTP (6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00120"/>
            <a:ext cx="7543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erspectives for the 2011-2013 strateg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re coherence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especially with geographic instruments and other thematic programmes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creased focusing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clearer environmental and geographic priorities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trategic partnership with international organiza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ENRTP (7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U Water Initiativ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reference in the ENRTP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…facilitating global dialogue, coordination, analysis and consultation processes…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tative budget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 similar ran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ture orientation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wards a more thematic approach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November 2008, CG – issues of common interest; May 2009, CG – preparation of MSHF; August 2009, MSHF – conclusions of roundtables)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ENRTP (8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571400"/>
            <a:ext cx="75438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tential future priority are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ment of aid effectivenes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linkages with other sectors and with climate change adapta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conomics of (non)-investmen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boundary cooperation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coherence between research and polic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outreach and involvement of stakeholder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4:04:51Z</dcterms:created>
  <dc:creator>szilama</dc:creator>
  <dc:description/>
  <dc:language>en-US</dc:language>
  <cp:lastModifiedBy>szilama</cp:lastModifiedBy>
  <dcterms:modified xsi:type="dcterms:W3CDTF">2009-12-04T08:32:16Z</dcterms:modified>
  <cp:revision>27</cp:revision>
  <dc:subject/>
  <dc:title>Thematic Programme for Environment and the Sustainable Management of Natural Resources, including Energy (ENRTP) 2007-2013 </dc:title>
</cp:coreProperties>
</file>