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14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14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15600" y="6477120"/>
            <a:ext cx="394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elopment and relations with African,Caribbean and Pacific Sta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458200" y="6400800"/>
            <a:ext cx="533520" cy="355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172200"/>
            <a:ext cx="9144000" cy="76320"/>
          </a:xfrm>
          <a:prstGeom prst="rect">
            <a:avLst/>
          </a:prstGeom>
          <a:solidFill>
            <a:srgbClr val="007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981080"/>
            <a:ext cx="9144000" cy="76320"/>
          </a:xfrm>
          <a:prstGeom prst="rect">
            <a:avLst/>
          </a:prstGeom>
          <a:solidFill>
            <a:srgbClr val="007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WI Multistakehold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2060280"/>
            <a:ext cx="82404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Arial"/>
              </a:rPr>
              <a:t>World Water Week</a:t>
            </a: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Arial"/>
              </a:rPr>
              <a:t>Stockholm</a:t>
            </a: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4141"/>
                </a:solidFill>
                <a:latin typeface="Arial"/>
              </a:rPr>
              <a:t>August 2009</a:t>
            </a: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4609800" cy="290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3384360" cy="253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08720" y="2276640"/>
            <a:ext cx="3382920" cy="1903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95640" y="213372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. Better link research and poli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Advocate for regular ongoing dialogue platforms between researchers &amp; policy makers at appropriate levels.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Advocate for that research proposals must incorporate communication strategies tailored to policy makers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Influence to change publication incentives for researchers into more widely read publications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EUWI should be a platform where policy makers &amp; stakeholders will jointly formulate research questions</a:t>
            </a:r>
            <a:r>
              <a:rPr b="0" lang="en-GB" sz="18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Increase accessibility of infor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14141"/>
                </a:solidFill>
                <a:latin typeface="Arial"/>
              </a:rPr>
              <a:t>Create mechanisms for defining message &amp; targets</a:t>
            </a: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 and choose best way of delivery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Exchange between the different EUWI components on their respective communications strategies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Make EUWI better known within EU member states and partner regions e.g. through the European development days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Use of EUWI website, fed by different WG's &amp; embed links to information systems like e.g. World Bank, etc. 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volvement of stakehol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Make more use of the </a:t>
            </a:r>
            <a:r>
              <a:rPr b="1" lang="en-GB" sz="2400" spc="-1" strike="noStrike">
                <a:solidFill>
                  <a:srgbClr val="414141"/>
                </a:solidFill>
                <a:latin typeface="Arial"/>
              </a:rPr>
              <a:t>networks</a:t>
            </a: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 that are already represented e.g. through CSO representatives and private sector for two-way feedback on relevant work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Improve the balance between Europe and the regions to promote ownership, and the links regions &lt;–&gt; working group on finance and research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Provide more clarity on what benefits participating in the EUWI will bring 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WI Multistakehold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414141"/>
                </a:solidFill>
                <a:uFillTx/>
                <a:latin typeface="Arial"/>
              </a:rPr>
              <a:t>Purpose of MSF: 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14141"/>
                </a:solidFill>
                <a:latin typeface="Arial"/>
              </a:rPr>
              <a:t>Broad participation by Stakeholders to: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14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14141"/>
                </a:solidFill>
                <a:latin typeface="Arial"/>
              </a:rPr>
              <a:t>Ensure accountability: presentation of results against EUWI objectives (annual report)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14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14141"/>
                </a:solidFill>
                <a:latin typeface="Arial"/>
              </a:rPr>
              <a:t>Give advise to Working Groups: on future priorities and work plans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 up by the Coordinatio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14141"/>
                </a:solidFill>
                <a:latin typeface="Arial"/>
              </a:rPr>
              <a:t>Further recommendation on: 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14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14141"/>
                </a:solidFill>
                <a:latin typeface="Arial"/>
              </a:rPr>
              <a:t>inclusion of priorities identified by MSF in Working Groups strategies and work plans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14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14141"/>
                </a:solidFill>
                <a:latin typeface="Arial"/>
              </a:rPr>
              <a:t>thematic priorities for the working groups 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14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14141"/>
                </a:solidFill>
                <a:latin typeface="Arial"/>
              </a:rPr>
              <a:t>potential activities and synergies</a:t>
            </a:r>
            <a:endParaRPr b="0" lang="en-US" sz="3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UWI Round Table Discussions on Future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414141"/>
                </a:solidFill>
                <a:uFillTx/>
                <a:latin typeface="Arial"/>
              </a:rPr>
              <a:t>How could EUWI contribute to</a:t>
            </a:r>
            <a:r>
              <a:rPr b="0" lang="en-GB" sz="2000" spc="-1" strike="noStrike" u="sng">
                <a:solidFill>
                  <a:srgbClr val="414141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improvement of aid effectiveness in the water sector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getting water and sanitation higher on the political agenda and sustain interest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getting water and sanitation higher on the political agenda and sustain interest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more effectively link water to other sectors, i.e. health, education and agriculture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climate change adaptation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stimulate transboundary cooperation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better link research and policy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increase accessibility of information?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increase involvement of stakeholders?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Improvement of aid effectiveness in the water sector?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Collect and show factual data, analyse what doesn't work and what does work.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Lobby at political level (on EU side and on the partner side) for implementing the agreed declarations (Paris, Accra)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Promote best practices (such as joint sector reviews, SWAps, GBS) and hold each other accountable to these commitments.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Promote strategic financial planning that includes transfers, taxes and tariffs, to promote analysing sustainability.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EUWI can make the case for weak states when no one else does.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Getting water and sanitation higher on the political agenda and sustain interest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Learn and benefit from what has been done in other sectors (environment,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imate</a:t>
            </a: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 change, health)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Try to analyse what the </a:t>
            </a:r>
            <a:r>
              <a:rPr b="1" lang="en-GB" sz="2200" spc="-1" strike="noStrike">
                <a:solidFill>
                  <a:srgbClr val="414141"/>
                </a:solidFill>
                <a:latin typeface="Arial"/>
              </a:rPr>
              <a:t>costs are of non investment</a:t>
            </a: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 in water, and the benefits of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Emphasize water as a </a:t>
            </a:r>
            <a:r>
              <a:rPr b="1" lang="en-GB" sz="2200" spc="-1" strike="noStrike">
                <a:solidFill>
                  <a:srgbClr val="414141"/>
                </a:solidFill>
                <a:latin typeface="Arial"/>
              </a:rPr>
              <a:t>human right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Extend linkages to other stakeholders, in particular to ministries of Finance and local authorities.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14141"/>
                </a:solidFill>
                <a:latin typeface="Arial"/>
              </a:rPr>
              <a:t>Push African governments to fulfil their commitments and declarations, e.g. the 0,5% target value for investments in sanitation and hygiene </a:t>
            </a:r>
            <a:endParaRPr b="0" lang="en-US" sz="22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 More effectively link water to other sectors, i.e. health, education and agricultur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Demonstrate the positive impacts of better water management to other sectors 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Help ensure better coordination among different sector actors and convince Ministries of Finance to lead </a:t>
            </a:r>
            <a:r>
              <a:rPr b="1" lang="en-GB" sz="2400" spc="-1" strike="noStrike">
                <a:solidFill>
                  <a:srgbClr val="414141"/>
                </a:solidFill>
                <a:latin typeface="Arial"/>
              </a:rPr>
              <a:t>inter-sectorial dialogue</a:t>
            </a: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 at the national level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Foster </a:t>
            </a:r>
            <a:r>
              <a:rPr b="1" lang="en-GB" sz="2400" spc="-1" strike="noStrike">
                <a:solidFill>
                  <a:srgbClr val="414141"/>
                </a:solidFill>
                <a:latin typeface="Arial"/>
              </a:rPr>
              <a:t>donor coordination</a:t>
            </a: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 and use field delegations to engage with governments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EUWI has no money but powerful actors and ability to catalyse resources for better </a:t>
            </a:r>
            <a:r>
              <a:rPr b="1" lang="en-GB" sz="2400" spc="-1" strike="noStrike">
                <a:solidFill>
                  <a:srgbClr val="414141"/>
                </a:solidFill>
                <a:latin typeface="Arial"/>
              </a:rPr>
              <a:t>analysis of issues to inform decisions</a:t>
            </a: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 (i.e. costs of inaction, cost effectiveness, MDGs, IWRM etc)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4.  Climate Change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Explore available EU funding for climate change issue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Mobilise for EUWI to </a:t>
            </a:r>
            <a:r>
              <a:rPr b="1" lang="en-GB" sz="2000" spc="-1" strike="noStrike">
                <a:solidFill>
                  <a:srgbClr val="414141"/>
                </a:solidFill>
                <a:latin typeface="Arial"/>
              </a:rPr>
              <a:t>strengthening the climate dimension in its capacity development work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Recommend for the EU Water Facility to “climate-proof” all new proposal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Address short messages/ extracted lessons learned to the upcoming Copenhagen Conference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Make use of the dialogue meetings in September and use coordination through the council/ presidency to identify how to best to insert water issues into draft statement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Emphasize the importance of Governance in implementing IWRM to respond to climate change in partner countries</a:t>
            </a:r>
            <a:r>
              <a:rPr b="0" lang="en-GB" sz="18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imulate transboundary coop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Yes, EUWI should contribute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Disseminate lessons learnt from previous work done in basins in Africa (funded by the EUWI) and EECCA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Stimulate use of existing legal instruments e.g. through ratification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Support mediation where transboundary cooperation is difficult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Develop a mechanism for exchange visits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14141"/>
                </a:solidFill>
                <a:latin typeface="Arial"/>
              </a:rPr>
              <a:t>Advocate for transboundary water issues to become part of National Water plans</a:t>
            </a:r>
            <a:r>
              <a:rPr b="0" lang="en-GB" sz="20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5:32:29Z</dcterms:created>
  <dc:creator>admin</dc:creator>
  <dc:description/>
  <dc:language>en-US</dc:language>
  <cp:lastModifiedBy>vinkmma</cp:lastModifiedBy>
  <dcterms:modified xsi:type="dcterms:W3CDTF">2009-12-02T16:55:40Z</dcterms:modified>
  <cp:revision>12</cp:revision>
  <dc:subject/>
  <dc:title>PowerPoint Presentation</dc:title>
</cp:coreProperties>
</file>