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85978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0520" y="3861000"/>
            <a:ext cx="85978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0520" y="386100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6200" y="386100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57880" y="130464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4880" y="130464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50520" y="386100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57880" y="386100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4880" y="386100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50520" y="1304640"/>
            <a:ext cx="85978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85978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520" y="386100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50520" y="1304640"/>
            <a:ext cx="85978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6200" y="386100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520" y="3861000"/>
            <a:ext cx="85978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85978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50520" y="3861000"/>
            <a:ext cx="85978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0520" y="386100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6200" y="386100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7880" y="130464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64880" y="130464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50520" y="386100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7880" y="386100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64880" y="3861000"/>
            <a:ext cx="27684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85978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71880" y="204840"/>
            <a:ext cx="556416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0520" y="386100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6200" y="386100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6200" y="1304640"/>
            <a:ext cx="419544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520" y="3861000"/>
            <a:ext cx="85978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520" y="1304640"/>
            <a:ext cx="85978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1" marL="344520" indent="-344520">
              <a:buClr>
                <a:srgbClr val="0f327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2" marL="344520" indent="-344520">
              <a:buClr>
                <a:srgbClr val="0f327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3" marL="344520" indent="-344520">
              <a:buClr>
                <a:srgbClr val="0f327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4" marL="344520" indent="-344520">
              <a:buClr>
                <a:srgbClr val="0f3277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5" marL="344520" indent="-34452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lvl="6" marL="344520" indent="-34452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" name="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russels – Euwi Coordination group - 4 december 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1B8082C-B9C2-4389-B4D4-6728BD9D3665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568440" y="6359400"/>
            <a:ext cx="32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nta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euwi-admin@jrc.ec.europa.e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7240" y="98280"/>
            <a:ext cx="1317600" cy="551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00880" y="4581360"/>
            <a:ext cx="1933560" cy="19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50880" y="4797360"/>
            <a:ext cx="85993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. Dondeynaz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f3277"/>
                </a:solidFill>
                <a:latin typeface="Arial"/>
              </a:rPr>
              <a:t>IES - Institute for Environment and Sustain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i="1" lang="en-US" sz="1600" spc="-1" strike="noStrike">
                <a:solidFill>
                  <a:srgbClr val="0f3277"/>
                </a:solidFill>
                <a:latin typeface="Arial"/>
              </a:rPr>
              <a:t>Ispra - Ita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2320" y="1305000"/>
            <a:ext cx="6748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3277"/>
                </a:solidFill>
                <a:latin typeface="Arial"/>
                <a:ea typeface="Arial"/>
              </a:rPr>
              <a:t>EUWI website status and the way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8445600" y="54000"/>
            <a:ext cx="812880" cy="6494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0" y="760320"/>
            <a:ext cx="9906120" cy="190440"/>
            <a:chOff x="0" y="760320"/>
            <a:chExt cx="9906120" cy="190440"/>
          </a:xfrm>
        </p:grpSpPr>
        <p:sp>
          <p:nvSpPr>
            <p:cNvPr id="51" name=""/>
            <p:cNvSpPr/>
            <p:nvPr/>
          </p:nvSpPr>
          <p:spPr>
            <a:xfrm>
              <a:off x="0" y="760320"/>
              <a:ext cx="9906120" cy="190440"/>
            </a:xfrm>
            <a:prstGeom prst="rect">
              <a:avLst/>
            </a:prstGeom>
            <a:solidFill>
              <a:srgbClr val="0f3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58800" y="784080"/>
              <a:ext cx="71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russels – Euwi Coordination group - 4 december 09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32600" y="784080"/>
              <a:ext cx="132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366D2D4-BD10-4BEE-8DF8-965FBD39BF23}" type="slidenum">
                <a:rPr b="0" lang="en-US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/>
          <a:srcRect l="31105" t="25430" r="31575" b="59447"/>
          <a:stretch/>
        </p:blipFill>
        <p:spPr>
          <a:xfrm>
            <a:off x="1639800" y="2060640"/>
            <a:ext cx="6912000" cy="2101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277"/>
                </a:solidFill>
                <a:latin typeface="Arial"/>
              </a:rPr>
              <a:t>Click to edit the outline text format</a:t>
            </a:r>
            <a:endParaRPr b="1" i="1" lang="en-US" sz="2400" spc="-1" strike="noStrike">
              <a:solidFill>
                <a:srgbClr val="0f3277"/>
              </a:solidFill>
              <a:latin typeface="Arial"/>
            </a:endParaRPr>
          </a:p>
          <a:p>
            <a:pPr lvl="1" marL="458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327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f3277"/>
              </a:solidFill>
              <a:latin typeface="Arial"/>
            </a:endParaRPr>
          </a:p>
          <a:p>
            <a:pPr lvl="2" marL="914400" algn="ctr">
              <a:buClr>
                <a:srgbClr val="0f327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277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f3277"/>
              </a:solidFill>
              <a:latin typeface="Arial"/>
            </a:endParaRPr>
          </a:p>
          <a:p>
            <a:pPr lvl="3" marL="1332000" algn="ctr">
              <a:buClr>
                <a:srgbClr val="0f327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3277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f3277"/>
              </a:solidFill>
              <a:latin typeface="Arial"/>
            </a:endParaRPr>
          </a:p>
          <a:p>
            <a:pPr lvl="4" marL="1752480" algn="ctr">
              <a:buClr>
                <a:srgbClr val="0f327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277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5" marL="1752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277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  <a:p>
            <a:pPr lvl="6" marL="1752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3277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euwi-admin@jrc.ec.europa.eu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Status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520" y="1412640"/>
            <a:ext cx="859788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ince WORLD WATER WEEK 2009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MAIN CHANGES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Integration of communication indications (Eric)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Improvement of the Library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Development of the Online Help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45240" y="3500280"/>
            <a:ext cx="3419280" cy="2113200"/>
          </a:xfrm>
          <a:custGeom>
            <a:avLst/>
            <a:gdLst/>
            <a:ahLst/>
            <a:rect l="l" t="t" r="r" b="b"/>
            <a:pathLst>
              <a:path w="2154" h="1331">
                <a:moveTo>
                  <a:pt x="0" y="1331"/>
                </a:moveTo>
                <a:cubicBezTo>
                  <a:pt x="232" y="1282"/>
                  <a:pt x="1033" y="1257"/>
                  <a:pt x="1392" y="1035"/>
                </a:cubicBezTo>
                <a:cubicBezTo>
                  <a:pt x="1751" y="813"/>
                  <a:pt x="1995" y="216"/>
                  <a:pt x="2154" y="0"/>
                </a:cubicBezTo>
              </a:path>
            </a:pathLst>
          </a:custGeom>
          <a:noFill/>
          <a:ln w="127080">
            <a:solidFill>
              <a:srgbClr val="ff99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MAIN decisions to be made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880" y="2420640"/>
            <a:ext cx="42228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f3277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3277"/>
                </a:solidFill>
                <a:latin typeface="Arial"/>
              </a:rPr>
              <a:t>Audience permissions of the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previous</a:t>
            </a:r>
            <a:r>
              <a:rPr b="1" lang="en-US" sz="2600" spc="-1" strike="noStrike">
                <a:solidFill>
                  <a:srgbClr val="0f3277"/>
                </a:solidFill>
                <a:latin typeface="Arial"/>
              </a:rPr>
              <a:t> content</a:t>
            </a:r>
            <a:endParaRPr b="1" lang="en-US" sz="2600" spc="-1" strike="noStrike">
              <a:solidFill>
                <a:srgbClr val="0f3277"/>
              </a:solidFill>
              <a:latin typeface="Arial"/>
            </a:endParaRPr>
          </a:p>
          <a:p>
            <a:pPr lvl="1" marL="83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f3277"/>
              </a:solidFill>
              <a:latin typeface="Arial"/>
            </a:endParaRPr>
          </a:p>
          <a:p>
            <a:pPr lvl="1" marL="83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TWO options: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Full public access 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WG restricted audience : kept accessible within the Working group </a:t>
            </a: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ONLY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39800" y="2118960"/>
            <a:ext cx="44658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f3277"/>
                </a:solidFill>
                <a:latin typeface="Arial"/>
              </a:rPr>
              <a:t>Current STATUS</a:t>
            </a:r>
            <a:endParaRPr b="1" lang="en-US" sz="2500" spc="-1" strike="noStrike">
              <a:solidFill>
                <a:srgbClr val="0f3277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f3277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240160" y="2695680"/>
          <a:ext cx="4465800" cy="3469680"/>
        </p:xfrm>
        <a:graphic>
          <a:graphicData uri="http://schemas.openxmlformats.org/drawingml/2006/table">
            <a:tbl>
              <a:tblPr/>
              <a:tblGrid>
                <a:gridCol w="2302560"/>
                <a:gridCol w="216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FULL AC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RESTRI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* Fina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* Community Spa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Afric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EECC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L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ME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Research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Secretaria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C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MSF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704880" y="11253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DECISION HAS TO BE MAD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3277"/>
                </a:solidFill>
                <a:latin typeface="Arial"/>
              </a:rPr>
              <a:t>Points raised by EECCA and Finance W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MAIN decisions to be made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8880" y="1700280"/>
            <a:ext cx="4608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3277"/>
                </a:solidFill>
                <a:latin typeface="Arial"/>
              </a:rPr>
              <a:t>2. Group membership procedure</a:t>
            </a:r>
            <a:endParaRPr b="1" lang="en-US" sz="2600" spc="-1" strike="noStrike">
              <a:solidFill>
                <a:srgbClr val="0f3277"/>
              </a:solidFill>
              <a:latin typeface="Arial"/>
            </a:endParaRPr>
          </a:p>
          <a:p>
            <a:pPr lvl="1" marL="83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f3277"/>
              </a:solidFill>
              <a:latin typeface="Arial"/>
            </a:endParaRPr>
          </a:p>
          <a:p>
            <a:pPr lvl="1" marL="83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THREE options:</a:t>
            </a: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lvl="1" marL="83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OPEN</a:t>
            </a: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 : an automatic procedure 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MODERATED</a:t>
            </a: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 : approval by the WG leader and support team 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INVITED ONLY</a:t>
            </a:r>
            <a:r>
              <a:rPr b="0" lang="en-US" sz="2200" spc="-1" strike="noStrike">
                <a:solidFill>
                  <a:srgbClr val="0f3277"/>
                </a:solidFill>
                <a:latin typeface="Arial"/>
              </a:rPr>
              <a:t> : on invitation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84880" y="2133720"/>
            <a:ext cx="4105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f3277"/>
                </a:solidFill>
                <a:latin typeface="Arial"/>
              </a:rPr>
              <a:t>Current STATU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125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DECISION HAS TO BE MADE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84880" y="2708280"/>
          <a:ext cx="4222800" cy="3201840"/>
        </p:xfrm>
        <a:graphic>
          <a:graphicData uri="http://schemas.openxmlformats.org/drawingml/2006/table">
            <a:tbl>
              <a:tblPr/>
              <a:tblGrid>
                <a:gridCol w="936720"/>
                <a:gridCol w="1871640"/>
                <a:gridCol w="14144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MODER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INVITED 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C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MSF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Afric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EECC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L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ME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Financ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Research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Secretari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f3277"/>
                          </a:solidFill>
                          <a:latin typeface="Arial"/>
                        </a:rPr>
                        <a:t>C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FEEDBACKS – other ISSUES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5440" y="1268280"/>
            <a:ext cx="92552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f3277"/>
                </a:solidFill>
                <a:uFillTx/>
                <a:latin typeface="Arial"/>
              </a:rPr>
              <a:t>Page loading time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airly fast even in developing countries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(Colombia, Chile, Argentina, Ethiopia, South Africa, Mauritania, Kenya) </a:t>
            </a:r>
            <a:endParaRPr b="1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+ same internet technology used by EC delegations 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0f3277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Capacity4dev.eu)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Loading Performance Average : A grade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IExplorer &lt; Firefox, Chrome, …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LEASE, inform us about any speed issue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FEEDBACKS – other ISSUES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90550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f3277"/>
                </a:solidFill>
                <a:uFillTx/>
                <a:latin typeface="Arial"/>
              </a:rPr>
              <a:t>Document Classification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3277"/>
                </a:solidFill>
                <a:latin typeface="Arial"/>
              </a:rPr>
              <a:t>Recent modifications</a:t>
            </a:r>
            <a:endParaRPr b="1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Search within the pool of documents using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keywords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indexed content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lexibility and efficiency.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(Search mode is widely used by the web community. i.e Google search tool).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0320" y="3594240"/>
            <a:ext cx="1079640" cy="64764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FEEDBACKS – other ISSUES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85978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Friendliness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We need your feedback!!!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TOOLS available :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IRECTLY 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online on top of each page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KYPE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  celine_ dondeynaz, paolo.mainardi.jrc, cesar.ccm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MAIL</a:t>
            </a:r>
            <a:r>
              <a:rPr b="1" lang="fr-FR" sz="2800" spc="-1" strike="noStrike">
                <a:solidFill>
                  <a:srgbClr val="0f3277"/>
                </a:solidFill>
                <a:latin typeface="Arial"/>
              </a:rPr>
              <a:t>  </a:t>
            </a:r>
            <a:r>
              <a:rPr b="1" lang="fr-FR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uwi-admin@jrc.ec.europa.eu</a:t>
            </a:r>
            <a:r>
              <a:rPr b="1" lang="en-US" sz="2800" spc="-1" strike="noStrike">
                <a:solidFill>
                  <a:srgbClr val="0f327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71880" y="204840"/>
            <a:ext cx="5564160" cy="3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277"/>
                </a:solidFill>
                <a:latin typeface="Arial"/>
              </a:rPr>
              <a:t>WAY FORWARD</a:t>
            </a:r>
            <a:endParaRPr b="1" lang="en-US" sz="2200" spc="-1" strike="noStrike">
              <a:solidFill>
                <a:srgbClr val="0f327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0520" y="1304640"/>
            <a:ext cx="85978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45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Suggestions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1.- One day workshop in ISPRA for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A practical training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collecting all comments and feedbacks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2.- Improve web graphical aspects of the layout. 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3.- Technical developments for integrating improvements and feedbacks.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4.- Improving contents - Editor for collecting news, information, events, Report preparation, interviews, … 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* Two Solutions: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1) A “specialized journalist” on Water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  <a:p>
            <a:pPr marL="344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f3277"/>
                </a:solidFill>
                <a:latin typeface="Arial"/>
              </a:rPr>
              <a:t>2) Editor tasks are handled by EUWI members</a:t>
            </a:r>
            <a:endParaRPr b="1" lang="en-US" sz="2400" spc="-1" strike="noStrike">
              <a:solidFill>
                <a:srgbClr val="0f3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1:31:47Z</dcterms:created>
  <dc:creator>GEM Admin</dc:creator>
  <dc:description>© European Communities, 2007</dc:description>
  <cp:keywords/>
  <dc:language>en-US</dc:language>
  <cp:lastModifiedBy>vinkmma</cp:lastModifiedBy>
  <cp:lastPrinted>2003-09-04T09:59:31Z</cp:lastPrinted>
  <dcterms:modified xsi:type="dcterms:W3CDTF">2009-12-16T15:53:25Z</dcterms:modified>
  <cp:revision>96</cp:revision>
  <dc:subject>JRC Corporate Image Toolkit (CIT)</dc:subject>
  <dc:title>Slide 1</dc:title>
</cp:coreProperties>
</file>