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B983-4BAF-44D5-9746-98B6E760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EE7-A2CA-41E1-93BF-116BC878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7710-BD1E-4F75-90DF-6C79427D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74A-F59F-4797-9E20-3B1135EA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59E-0CEA-4DB5-A7F1-ACB0A00D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8872-127F-4D07-8DE6-01FBC963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83F-E779-47FB-980A-E4857483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1BD-012F-4231-9AC3-B588731B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D31-AD38-4172-896C-A143966A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EDF-FE36-410F-92B3-0DCA1667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432F-E553-444E-AB08-15B8CE5D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338-105D-4AF1-9015-7B86FB96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3774-A8CC-4462-85F2-0CF9CAF3E65D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996840"/>
            <a:ext cx="63579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160" bIns="38160" anchor="t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1600" spc="-1" strike="noStrike">
                <a:solidFill>
                  <a:srgbClr val="171512"/>
                </a:solidFill>
                <a:latin typeface="Arial"/>
              </a:rPr>
              <a:t>Science and Technology servic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1600" spc="-1" strike="noStrike">
                <a:solidFill>
                  <a:srgbClr val="171512"/>
                </a:solidFill>
                <a:latin typeface="Arial"/>
              </a:rPr>
              <a:t>Supporting Water Management Policies in 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0"/>
            <a:ext cx="73818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160" bIns="38160" anchor="b">
            <a:noAutofit/>
          </a:bodyPr>
          <a:p>
            <a:pPr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2400" spc="-1" strike="noStrike">
                <a:solidFill>
                  <a:srgbClr val="14472f"/>
                </a:solidFill>
                <a:latin typeface="Arial"/>
              </a:rPr>
              <a:t>NEPAD / AFRICAN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2400" spc="-1" strike="noStrike">
                <a:solidFill>
                  <a:srgbClr val="14472f"/>
                </a:solidFill>
                <a:latin typeface="Arial"/>
              </a:rPr>
              <a:t>Network of Centres of Excellence 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500120" y="3429000"/>
            <a:ext cx="3143160" cy="3236760"/>
          </a:xfrm>
          <a:prstGeom prst="rect">
            <a:avLst/>
          </a:prstGeom>
          <a:ln w="0">
            <a:noFill/>
          </a:ln>
        </p:spPr>
      </p:pic>
      <p:sp>
        <p:nvSpPr>
          <p:cNvPr id="44" name="ZoneTexte 7"/>
          <p:cNvSpPr/>
          <p:nvPr/>
        </p:nvSpPr>
        <p:spPr>
          <a:xfrm>
            <a:off x="5580000" y="3716280"/>
            <a:ext cx="3168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Current African Cen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Western 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- UCAD Sénég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IE  Burkina Fa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Southern 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- UWC South 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- SU  South 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- UKZN South Afric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S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Universities fro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Malawi and Botsw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981000"/>
            <a:ext cx="6409080" cy="709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2205000"/>
            <a:ext cx="7561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 Support to the African Centres of Excellence i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WATER – AC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1671120"/>
            <a:ext cx="81471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tarted by NEPAD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upport from IRD (France) and WRC (South Afr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5 African regions (2 for the mo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dentification of exisist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a network (not new institut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333360"/>
            <a:ext cx="73818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160" bIns="38160" anchor="b">
            <a:noAutofit/>
          </a:bodyPr>
          <a:p>
            <a:pPr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2600" spc="-1" strike="noStrike">
                <a:solidFill>
                  <a:srgbClr val="14472f"/>
                </a:solidFill>
                <a:latin typeface="Arial"/>
              </a:rPr>
              <a:t>NEPAD / AFRICAN UN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2600" spc="-1" strike="noStrike">
                <a:solidFill>
                  <a:srgbClr val="14472f"/>
                </a:solidFill>
                <a:latin typeface="Arial"/>
              </a:rPr>
              <a:t>Network of Centres of Excellence in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7"/>
          <p:cNvSpPr/>
          <p:nvPr/>
        </p:nvSpPr>
        <p:spPr>
          <a:xfrm>
            <a:off x="1116000" y="4005360"/>
            <a:ext cx="4032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urrent African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ester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- UCAD Sen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IE  Burkina F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4578480"/>
            <a:ext cx="2592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uthern 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UWC South 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SU  South 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UKZN South Afric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S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ties from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Malawi and Botsw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NEPAD Co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ducation and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on brok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ervice Rendering (information, analysis, support and other services to government, businnes and C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EC support to the C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Budget of 1.5M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tarting in January 2010 for 3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ding the multi-stakeholder sector with the contribution of each 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ng south to south co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ing on the job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managemen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90560" y="5746680"/>
            <a:ext cx="5761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85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objective is to </a:t>
            </a:r>
            <a:r>
              <a:rPr b="0" i="1" lang="en-GB" sz="1400" spc="-1" strike="noStrike">
                <a:solidFill>
                  <a:srgbClr val="006600"/>
                </a:solidFill>
                <a:latin typeface="Arial"/>
              </a:rPr>
              <a:t>Build and Valoris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e African Water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Aft>
                <a:spcPts val="876"/>
              </a:spcAft>
              <a:buClr>
                <a:srgbClr val="951327"/>
              </a:buClr>
              <a:buFont typeface="Arial"/>
              <a:buChar char="•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400" spc="-1" strike="noStrike">
                <a:solidFill>
                  <a:srgbClr val="951327"/>
                </a:solidFill>
                <a:latin typeface="Arial"/>
              </a:rPr>
              <a:t>EC Contributi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AQUAKNOW Platform = Web-based information system for Virtual Communication, Knowledge Management and Training on-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3789360"/>
            <a:ext cx="5688000" cy="3070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S 3 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Guidelines, Data and Policy Disse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5373720"/>
            <a:ext cx="5616720" cy="307080"/>
          </a:xfrm>
          <a:prstGeom prst="rect">
            <a:avLst/>
          </a:prstGeom>
          <a:solidFill>
            <a:srgbClr val="9966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S 4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Water Knowledge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981000"/>
            <a:ext cx="5761080" cy="30708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S 1 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Supporting the development of regional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2560" y="270000"/>
            <a:ext cx="7993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Aft>
                <a:spcPts val="1250"/>
              </a:spcAft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amework will be based around 4 Big Axes of the Water – 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3080" y="1268280"/>
            <a:ext cx="6912000" cy="12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timising competences and knowledge sharing in the frame of an open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network should address governance and policy issues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=&gt; being a technical and scientific adviser e.g in SWAPs, to AMCOW -T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4145040"/>
            <a:ext cx="648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ormation dissemination at Regional BUT also at Continenta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951327"/>
                </a:solidFill>
                <a:latin typeface="Arial"/>
              </a:rPr>
              <a:t>EC Contributi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EU Guidelines for Water Management that should become “a base for the African Water Guideline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buClr>
                <a:srgbClr val="951327"/>
              </a:buClr>
              <a:buFont typeface="Arial"/>
              <a:buChar char="•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400" spc="-1" strike="noStrike">
                <a:solidFill>
                  <a:srgbClr val="951327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951327"/>
                </a:solidFill>
                <a:latin typeface="Arial"/>
              </a:rPr>
              <a:t>EC - ESA Contributi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TIGER = Support through Call for Proposals – Capacity Building, Data,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63640" y="2349360"/>
            <a:ext cx="5761080" cy="3070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S 2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Supporting sector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2759040"/>
            <a:ext cx="619272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to act as a key player in the sector to increase coordination between stakeholders in the sector, public, governments, donors and society,and through SWAP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=&gt; being a technical and scientific adviser e.g in SWAPs, to AMCOW -T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1657440"/>
            <a:ext cx="8207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mplementarity with SPLASH (research component of the Water Initiative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both projects support the emergence of African CoE, both support more visibility for those partners, both aims to create sustainable relationships with those instituti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 the actions to support those institutions are differ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JRC project give more emphasis on the sector approa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SPLASH on the research side of the s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5598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ary activities and suppo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9:54:17Z</dcterms:created>
  <dc:creator>Andrea Leone</dc:creator>
  <dc:description/>
  <dc:language>en-US</dc:language>
  <cp:lastModifiedBy>Andrea Leone</cp:lastModifiedBy>
  <dcterms:modified xsi:type="dcterms:W3CDTF">2009-12-04T11:52:27Z</dcterms:modified>
  <cp:revision>18</cp:revision>
  <dc:subject/>
  <dc:title>Slide 1</dc:title>
</cp:coreProperties>
</file>