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F8E-47D7-413B-9A0E-A73DF1DC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15F-03D6-4975-8875-24A7DAB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5FE-0D91-4F67-BB7A-531BD06D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411-017B-4964-89D8-2B6C5B44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781-E439-464D-879D-44ED24B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A4EA-EA9B-4B25-B544-340EFAA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2658-C7A4-4FC1-9871-0F21EB7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53AC-7A4D-42F5-B1F7-19D01A8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E25-E47E-4CF6-A4C5-AE3014A9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5963-16AF-4536-A021-FFB9489A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B9B-72D1-45C8-9BD7-1B1C910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5C4-24AB-4013-B62E-EF4C720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1A5B-D02A-45CD-847D-3C357E29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231-277F-4025-A167-AB03EE70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6559-E771-4FD1-A934-E772C16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2180-E4DD-452B-BB63-EE1FFA00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415-7FCC-418C-B321-68C83CB8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6F3-8864-40D0-9D3A-43B59EEE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501-300B-4B20-BB9C-F1BB84C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E94-7438-4A6C-9CCB-E1B5F47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BC8-9AAE-456A-BCF4-325D334A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CC8-8DF7-47A4-B6D3-B3DDA278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6FB-CA96-46EC-8CD5-5BE9700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525-E342-4D74-BD5C-B7426645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909-AEAE-4A65-8D02-08DF1D497C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191A-C985-4521-B6CD-62FCE5FBD5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372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Tahoma"/>
              </a:rPr>
              <a:t>Thematic Programme for Environment and the Sustainable Management of Natural Resources, including Energy (ENRTP)</a:t>
            </a:r>
            <a:br>
              <a:rPr sz="2200"/>
            </a:br>
            <a:r>
              <a:rPr b="1" lang="en-GB" sz="2200" spc="-1" strike="noStrike">
                <a:solidFill>
                  <a:srgbClr val="eaeaea"/>
                </a:solidFill>
                <a:latin typeface="Tahoma"/>
              </a:rPr>
              <a:t>2007-2013</a:t>
            </a: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2204640"/>
            <a:ext cx="7466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ternal policy instruments for 2007-2013 (9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Pre-Accession Assistance (IPA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uropean Neighbourhood and Partnership Instrument (ENPI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evelopment Cooperation Instrument (DCI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Cooperation with Industrialized Countri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Stability (IfS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Human Rights and Democracy Instrument (the former European Initiative on Democracy and Human Rights (EIDHR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Nuclear Safety Instrumen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wo existing instruments – i) for Humanitarian Aid and ii) for Macro-financial Assistance – continue to exi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2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matic programmes (5);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 funded under DCI, with allocations from the ENP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R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od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vesting in Peop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state 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gration and Asyl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ifferentiation from geographical programming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principles of subsidiarity and complementar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3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road policy orientations of the programm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vironmental aspects of development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ernal aspects of EU environmental policy and the EC’s international environmental obligation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ernal aspects of the EU energy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matic scop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city-buildin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ing the implementation of EU initiatives and international agreements (EUWI, EUEI, FLEGT, climate change, biodiversity, forests, fisheries and marine resources, chemicals, wastes, etc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ing a better integration of environment within EU external policie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engthening environmental governance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pporting sustainable energy options in partner countries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4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071360"/>
            <a:ext cx="75438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ligibility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CI, ENPI, EDF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lobal activit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Budget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≈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1 billion EUR for 2007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≈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450 MEUR for 2011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cess of programm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 Multiannual Thematic Strategi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007-2010, 2011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nual Action Programmes (implementation modalities, etc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5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eparations of the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Multiannual Strateg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eps and tentative timetab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view by external consultant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ivil society consulta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o start in Dec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 reflections in paralle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ultations with MS and EP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pril-May 2010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pproval by the COM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round July 201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49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6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00120"/>
            <a:ext cx="7543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erspectives for the 2011-2013 strateg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re coherence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especially with geographic instruments and other thematic programme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creased focus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clearer environmental and geographic priorities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rategic partnership with international organiza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ENRTP (7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U Water Initia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reference in the ENRTP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…facilitating global dialogue, coordination, analysis and consultation processes…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tative budget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similar ran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 orientation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wards a more thematic approac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ovember 2008, CG – issues of common interest; May 2009, CG – preparation of MSHF; August 2009, MSHF – conclusions of roundtables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ENRTP (8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571400"/>
            <a:ext cx="7543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tial future priority are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ment of aid effectivenes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linkages with other sectors and with climate change adapt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conomics of (non)-investmen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boundary cooperation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coherence between research and polic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outreach and involvement of stakeholder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4:04:51Z</dcterms:created>
  <dc:creator>szilama</dc:creator>
  <dc:description/>
  <dc:language>en-US</dc:language>
  <cp:lastModifiedBy>szilama</cp:lastModifiedBy>
  <dcterms:modified xsi:type="dcterms:W3CDTF">2009-12-04T08:32:16Z</dcterms:modified>
  <cp:revision>27</cp:revision>
  <dc:subject/>
  <dc:title>Thematic Programme for Environment and the Sustainable Management of Natural Resources, including Energy (ENRTP) 2007-2013 </dc:title>
</cp:coreProperties>
</file>