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7257-D32F-4551-B34A-607F8C3EBC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FC75-486A-4672-8BCF-B2459159F6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a:rPr>
              <a:t>Bullet 1:</a:t>
            </a:r>
            <a:r>
              <a:rPr b="0" lang="fr-FR" sz="1200" spc="-1" strike="noStrike">
                <a:solidFill>
                  <a:srgbClr val="000000"/>
                </a:solidFill>
                <a:latin typeface="Arial"/>
              </a:rPr>
              <a:t> dialogue to develop strategic financial plans for water and sanitation are positively influencing policy making, 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orgia decided to triple its public budget allocation for the water supply and sanitation sec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ey recommendations of Kyrgyz dialogue under consideration by Government, ie consolidation of responsibility for the water and sanitation sector in a new agency and development of new sector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rmenia a EUWI national policy dialogue on integrated water resources management resulted in a decision to implement the EU Water Framework Dir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dova a dialogue on integrated water resources management resulted in a governmental order on waste-water discharge from municipal sources, which should help improve wate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297F-B200-453B-B6E6-2F5811ED65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1: There is a strong continuity in the thematic focus of policy dialogues, ie financing of WSS to achieve the MDGs, and work to support the implementation/approximation with the WFD and ECE conventions. The main innovation in 2010 will be to expand efforts to develop strategic financial plans beyond WSS and the MDG targets and to support such dialogue at the level of river-basins on a broader array of interventions (ie WSS plus irrigation, flood prevention and control etc.). This will build on currently ongoing conceptual work in this area at the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2: National policy dialogues have generated significant additional interest in the region and informal requests have been received from 5 additional countries. At the same time EU donors and the EC are pushing for a stronger engagement of the EUWI in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3: In order to be able to carry out additional policy dialogues, but also to produce analytical inputs that are essential for the good functioning of the ongoing dialogues, the EUWI EECCA is seeking additional resources.</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4A0D-616C-4692-9FD9-E892A7EE92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4113-F180-4E77-B808-4AAD5D01F3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ic financial planning (SFP) was first developed and implemented in EECCA countries and the approach is now being recommended by the D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FP, carried-out in a country dialogue process as has been done in EECCA helps to improve coordination between different stakeholders and is a powerful vehicle to attarct Ministries of Finance around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cussions in the MSF were very rich and inspiring. The recommendations that we are getting out of it are bringing some useful new ideas and encourage us to move forward where we might have been hesitating otherw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ork to expand SFP beyond water and sanitation will require some analysis of costs, benefits and financial resources (ie affordability) to be carried-out at the river-basin level. This should help to get a better understanding of the positive impacts of better water management, but also of the costs of these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ilot project in the Marmarik basin in Armenia will be digging into these issues and also consider the long term impacts of climate change. We hope that this could become a model for dialogue in other countries and river ba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are also planning to develop more work with a transboundary dimension, such as in recent work in the Chu-Talas river basin btw Kazakhstan and Kyrgyz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ly, a significant effort has been undertaken to improve the information on EECCA that is available from the EUWI website. While there are some limitations that are due to the design of the website, it is now a much better source of information than it used to be and we hopr this would start showing in the use statistics.</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E918-9F7F-4CFE-926D-D7F3885F1A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29A7-A67B-4F09-BBD9-22A8E6B189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343160" y="736560"/>
            <a:ext cx="4917960" cy="3687840"/>
          </a:xfrm>
          <a:prstGeom prst="rect">
            <a:avLst/>
          </a:prstGeom>
          <a:ln w="0">
            <a:noFill/>
          </a:ln>
        </p:spPr>
      </p:sp>
      <p:sp>
        <p:nvSpPr>
          <p:cNvPr id="133" name="PlaceHolder 2"/>
          <p:cNvSpPr>
            <a:spLocks noGrp="1"/>
          </p:cNvSpPr>
          <p:nvPr>
            <p:ph type="body"/>
          </p:nvPr>
        </p:nvSpPr>
        <p:spPr>
          <a:xfrm>
            <a:off x="1014480" y="4669920"/>
            <a:ext cx="5580000" cy="4335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7D8FE-B266-4BBE-8884-6B165D4AC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3CE3D-E923-486E-9D73-2E67490A3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A5034-3DFC-4F42-A4CC-04EDDE100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C5167-952E-4A29-918F-CB19D9587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70C8F-F93E-4629-9167-9A7D9E6990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1097D-EE44-467E-80D8-4851C4169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8682A-AF36-475A-8059-3FE63E299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847BA-DD2F-4083-BC7C-5D3373826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BBFAD-F951-4C27-BD16-C8F5C6B8B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951A9-E623-46E3-972F-54F8C69DA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56CEE-75A3-4DAD-BB9F-8A10FBA6C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0D94-6288-4E84-B5F1-A3688BD0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93B42-C880-483A-A2F7-26E9B5CA7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B17C1-C610-4E5E-9991-D44939630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8FBC8-FE17-4354-B754-C399D6D9D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A19DB-5674-4723-8AD7-154C05747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19E3F-9FDF-4474-9B5F-E34C4E5C9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5D620-751C-4217-89C3-504FC862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4BD7D-A4A2-4986-8953-6B418B9C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49BEA-9F1E-48DF-B0D9-A4D33CE07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37DEA-250C-49E2-BF94-0333C0134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8D93-72D6-4DEE-9FE5-6EB42781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E68E-3E7B-4E95-89FB-AD687BF8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B921-AD15-41F3-B568-ED04A7FF5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2B3F-3C65-4367-9F80-9A0E8BA59E04}" type="datetime5">
              <a:rPr b="0" lang="en-GB" sz="1400" spc="-1" strike="noStrike">
                <a:solidFill>
                  <a:srgbClr val="000000"/>
                </a:solidFill>
                <a:latin typeface="Arial"/>
              </a:rPr>
              <a:t>29 Jul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07CA-0FAC-429F-ADC7-247F2B5F683D}"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7CDC-AAF1-4EF1-B781-75392D92A0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D616-2D26-4049-A9DB-01E250AD7DE2}"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539640" y="2060640"/>
            <a:ext cx="784872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ecent progress and highlights</a:t>
            </a:r>
            <a:r>
              <a:rPr b="0" lang="da-DK"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type="subTitle"/>
          </p:nvPr>
        </p:nvSpPr>
        <p:spPr>
          <a:xfrm>
            <a:off x="755640" y="4076280"/>
            <a:ext cx="7561440" cy="2087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r>
              <a:rPr b="0" lang="en-GB" sz="2400" spc="-1" strike="noStrike">
                <a:solidFill>
                  <a:srgbClr val="000000"/>
                </a:solidFill>
                <a:latin typeface="Arial"/>
              </a:rPr>
              <a:t>, 4 December 2009</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3" name="Picture 5" descr="European flag"/>
          <p:cNvPicPr/>
          <p:nvPr/>
        </p:nvPicPr>
        <p:blipFill>
          <a:blip r:embed="rId1"/>
          <a:stretch/>
        </p:blipFill>
        <p:spPr>
          <a:xfrm>
            <a:off x="684360" y="528480"/>
            <a:ext cx="1871640" cy="1224000"/>
          </a:xfrm>
          <a:prstGeom prst="rect">
            <a:avLst/>
          </a:prstGeom>
          <a:ln w="0">
            <a:noFill/>
          </a:ln>
        </p:spPr>
      </p:pic>
      <p:pic>
        <p:nvPicPr>
          <p:cNvPr id="94" name="Picture 8" descr="euwi_logo"/>
          <p:cNvPicPr/>
          <p:nvPr/>
        </p:nvPicPr>
        <p:blipFill>
          <a:blip r:embed="rId2"/>
          <a:stretch/>
        </p:blipFill>
        <p:spPr>
          <a:xfrm>
            <a:off x="5797440" y="476280"/>
            <a:ext cx="2519640" cy="1252440"/>
          </a:xfrm>
          <a:prstGeom prst="rect">
            <a:avLst/>
          </a:prstGeom>
          <a:ln w="0">
            <a:noFill/>
          </a:ln>
        </p:spPr>
      </p:pic>
      <p:pic>
        <p:nvPicPr>
          <p:cNvPr id="95" name="Picture 9" descr=""/>
          <p:cNvPicPr/>
          <p:nvPr/>
        </p:nvPicPr>
        <p:blipFill>
          <a:blip r:embed="rId3"/>
          <a:stretch/>
        </p:blipFill>
        <p:spPr>
          <a:xfrm>
            <a:off x="3929040" y="642960"/>
            <a:ext cx="831960" cy="1149480"/>
          </a:xfrm>
          <a:prstGeom prst="rect">
            <a:avLst/>
          </a:prstGeom>
          <a:ln w="0">
            <a:noFill/>
          </a:ln>
        </p:spPr>
      </p:pic>
      <p:pic>
        <p:nvPicPr>
          <p:cNvPr id="96" name="Picture 11" descr=""/>
          <p:cNvPicPr/>
          <p:nvPr/>
        </p:nvPicPr>
        <p:blipFill>
          <a:blip r:embed="rId4"/>
          <a:stretch/>
        </p:blipFill>
        <p:spPr>
          <a:xfrm>
            <a:off x="7429680" y="5857920"/>
            <a:ext cx="766440" cy="628560"/>
          </a:xfrm>
          <a:prstGeom prst="rect">
            <a:avLst/>
          </a:prstGeom>
          <a:ln w="3240">
            <a:solidFill>
              <a:srgbClr val="ffffff"/>
            </a:solidFill>
            <a:miter/>
          </a:ln>
        </p:spPr>
      </p:pic>
      <p:graphicFrame>
        <p:nvGraphicFramePr>
          <p:cNvPr id="97" name=""/>
          <p:cNvGraphicFramePr/>
          <p:nvPr/>
        </p:nvGraphicFramePr>
        <p:xfrm>
          <a:off x="571680" y="6143760"/>
          <a:ext cx="2250720" cy="334800"/>
        </p:xfrm>
        <a:graphic>
          <a:graphicData uri="http://schemas.openxmlformats.org/drawingml/2006/table">
            <a:tbl>
              <a:tblPr/>
              <a:tblGrid>
                <a:gridCol w="2250720"/>
              </a:tblGrid>
              <a:tr h="334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EAP Task Force</a:t>
                      </a:r>
                      <a:endParaRPr b="0" lang="en-US" sz="2200" spc="-1" strike="noStrike">
                        <a:solidFill>
                          <a:srgbClr val="000000"/>
                        </a:solidFill>
                        <a:latin typeface="Arial"/>
                      </a:endParaRPr>
                    </a:p>
                  </a:txBody>
                  <a:tcPr anchor="t" marL="68760" marR="68760">
                    <a:lnL w="28080">
                      <a:solidFill>
                        <a:srgbClr val="000000"/>
                      </a:solidFill>
                    </a:lnL>
                    <a:lnR w="28080">
                      <a:solidFill>
                        <a:srgbClr val="000000"/>
                      </a:solidFill>
                    </a:lnR>
                    <a:lnT w="28080">
                      <a:solidFill>
                        <a:srgbClr val="000000"/>
                      </a:solidFill>
                    </a:lnT>
                    <a:lnB w="28080">
                      <a:solidFill>
                        <a:srgbClr val="000000"/>
                      </a:solidFill>
                    </a:lnB>
                    <a:solidFill>
                      <a:srgbClr val="000000"/>
                    </a:solidFill>
                  </a:tcPr>
                </a:tc>
              </a:tr>
            </a:tbl>
          </a:graphicData>
        </a:graphic>
      </p:graphicFrame>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8108-1350-42AC-A249-5FADEF66DB54}"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ghlights 2009</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going policy dialogues in 4 countries with good progress: Armenia, Moldova, Kyrgyzstan and Ukra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the financing of infrastructure to achieve the MDGs and support for the implementation of ECE conventions and WF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ual working group meeting held in Bucharest on 24-25 November – adoption of 2010 work program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lans and issues 2010</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ematic focus in continuity to 2009 (financing, WFD and conventions), but effort to develop dialogue on financing WRM at river-basin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artner countries demand greater country coverage (Uzbekistan, Tajikistan, Turkmenistan, Georgia, Azerbaij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eed for additional financial resources to develop analytical inputs for NPDs and increase number of NPDs</a:t>
            </a:r>
            <a:endParaRPr b="0" lang="en-US" sz="28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DBDA-3283-4516-B350-0855A2995B60}"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nks to other initiatives</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U-Central Asia Initiativ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ater Unites – the Berlin Proces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astern Partnership</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vironment for Europe Conference in 2011 (including EAP Task Forc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CE Conventio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UWI Finance Working Group</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D EUWI</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7AEA-DFF6-42C9-9B6A-9988F5104E7D}"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ecommendations from the MSF</a:t>
            </a:r>
            <a:endParaRPr b="0" lang="en-US" sz="4400" spc="-1" strike="noStrike">
              <a:solidFill>
                <a:srgbClr val="000000"/>
              </a:solidFill>
              <a:latin typeface="Arial"/>
            </a:endParaRPr>
          </a:p>
        </p:txBody>
      </p:sp>
      <p:sp>
        <p:nvSpPr>
          <p:cNvPr id="111" name=""/>
          <p:cNvSpPr txBox="1"/>
          <p:nvPr/>
        </p:nvSpPr>
        <p:spPr>
          <a:xfrm>
            <a:off x="457200" y="1428840"/>
            <a:ext cx="8229600" cy="46972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me recommendations confirm our current approach:</a:t>
            </a:r>
            <a:endParaRPr b="0" lang="en-US" sz="2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mote strategic financial planning</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rove coordination accross different parts of Governme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end linkages to other stakeholders, in particular MoFin</a:t>
            </a: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ew ideas/leads from the MSF that we plan to work on:</a:t>
            </a:r>
            <a:endParaRPr b="0" lang="en-US" sz="2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monstrate the positive impacts of better water management and improve coordiantion with other sector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re work on the link between water and climate chang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clude transboundary water issues into NPD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rove the EUWI website</a:t>
            </a:r>
            <a:endParaRPr b="0" lang="en-US" sz="2000" spc="-1" strike="noStrike">
              <a:solidFill>
                <a:srgbClr val="000000"/>
              </a:solidFill>
              <a:latin typeface="Arial"/>
            </a:endParaRPr>
          </a:p>
        </p:txBody>
      </p:sp>
      <p:sp>
        <p:nvSpPr>
          <p:cNvPr id="112" name="Footer Placeholder 4"/>
          <p:cNvSpPr/>
          <p:nvPr/>
        </p:nvSpPr>
        <p:spPr>
          <a:xfrm>
            <a:off x="314316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75FD-F196-44E0-B722-B90A4B4D1931}"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6760" y="-387360"/>
            <a:ext cx="8564760" cy="33228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400"/>
            </a:br>
            <a:r>
              <a:rPr b="1" lang="en-GB" sz="4400" spc="-1" strike="noStrike">
                <a:solidFill>
                  <a:srgbClr val="000000"/>
                </a:solidFill>
                <a:latin typeface="Arial"/>
              </a:rPr>
              <a:t>Thank you!</a:t>
            </a:r>
            <a:br>
              <a:rPr sz="4400"/>
            </a:br>
            <a:br>
              <a:rPr sz="4400"/>
            </a:br>
            <a:br>
              <a:rPr sz="4400"/>
            </a:br>
            <a:r>
              <a:rPr b="1" lang="en-GB" sz="3200" spc="-1" strike="noStrike">
                <a:solidFill>
                  <a:srgbClr val="000000"/>
                </a:solidFill>
                <a:latin typeface="Arial"/>
              </a:rPr>
              <a:t>More</a:t>
            </a:r>
            <a:r>
              <a:rPr b="0" lang="en-GB" sz="3200" spc="-1" strike="noStrike">
                <a:solidFill>
                  <a:srgbClr val="000000"/>
                </a:solidFill>
                <a:latin typeface="Arial"/>
              </a:rPr>
              <a:t> </a:t>
            </a:r>
            <a:r>
              <a:rPr b="1" lang="en-GB" sz="3200" spc="-1" strike="noStrike">
                <a:solidFill>
                  <a:srgbClr val="000000"/>
                </a:solidFill>
                <a:latin typeface="Arial"/>
              </a:rPr>
              <a:t>information:</a:t>
            </a:r>
            <a:endParaRPr b="0" lang="en-US" sz="3200" spc="-1" strike="noStrike">
              <a:solidFill>
                <a:srgbClr val="000000"/>
              </a:solidFill>
              <a:latin typeface="Arial"/>
            </a:endParaRPr>
          </a:p>
        </p:txBody>
      </p:sp>
      <p:sp>
        <p:nvSpPr>
          <p:cNvPr id="115" name="PlaceHolder 2"/>
          <p:cNvSpPr>
            <a:spLocks noGrp="1"/>
          </p:cNvSpPr>
          <p:nvPr>
            <p:ph type="subTitle"/>
          </p:nvPr>
        </p:nvSpPr>
        <p:spPr>
          <a:xfrm>
            <a:off x="142920" y="4214520"/>
            <a:ext cx="8564400" cy="492120"/>
          </a:xfrm>
          <a:prstGeom prst="rect">
            <a:avLst/>
          </a:prstGeom>
          <a:noFill/>
          <a:ln w="0">
            <a:noFill/>
          </a:ln>
        </p:spPr>
        <p:txBody>
          <a:bodyPr lIns="0" rIns="0" tIns="0" bIns="0" anchor="ctr">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Arial"/>
              </a:rPr>
              <a:t>www.euwi.ne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8:37:12Z</dcterms:created>
  <dc:creator>Jesper Karup Pedersen</dc:creator>
  <dc:description/>
  <dc:language>en-US</dc:language>
  <cp:lastModifiedBy>borkey_p</cp:lastModifiedBy>
  <dcterms:modified xsi:type="dcterms:W3CDTF">2009-12-01T17:36:00Z</dcterms:modified>
  <cp:revision>66</cp:revision>
  <dc:subject/>
  <dc:title>EUWI Developments</dc:title>
</cp:coreProperties>
</file>