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57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4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052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57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4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7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64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5052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7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64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344520" indent="-344520">
              <a:buClr>
                <a:srgbClr val="0f327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344520" indent="-344520">
              <a:buClr>
                <a:srgbClr val="0f327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344520" indent="-344520">
              <a:buClr>
                <a:srgbClr val="0f327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344520" indent="-344520">
              <a:buClr>
                <a:srgbClr val="0f327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344520" indent="-344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344520" indent="-344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ussels – Euwi Coordination group - 4 december 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B827D4-5806-4A64-8C79-2F1D4ADA6C8D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568440" y="6359400"/>
            <a:ext cx="32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nt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euwi-admin@jrc.ec.europa.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00880" y="458136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0880" y="4797360"/>
            <a:ext cx="85993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. Dondeynaz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"/>
              </a:rPr>
              <a:t>IES - Institute for Environment and Sustain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i="1" lang="en-US" sz="1600" spc="-1" strike="noStrike">
                <a:solidFill>
                  <a:srgbClr val="0f3277"/>
                </a:solidFill>
                <a:latin typeface="Arial"/>
              </a:rPr>
              <a:t>Ispra - 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1305000"/>
            <a:ext cx="6748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  <a:ea typeface="Arial"/>
              </a:rPr>
              <a:t>EUWI website status and the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1" name="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ussels – Euwi Coordination group - 4 december 0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3D774F1-B7C9-4954-9694-2999D3732B32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/>
          <a:srcRect l="31105" t="25430" r="31575" b="59447"/>
          <a:stretch/>
        </p:blipFill>
        <p:spPr>
          <a:xfrm>
            <a:off x="1639800" y="2060640"/>
            <a:ext cx="6912000" cy="210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458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buClr>
                <a:srgbClr val="0f327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3" marL="1332000" algn="ctr"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4" marL="1752480" algn="ctr">
              <a:buClr>
                <a:srgbClr val="0f327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5" marL="1752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6" marL="1752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euwi-admin@jrc.ec.europa.eu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Statu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520" y="1412640"/>
            <a:ext cx="859788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nce WORLD WATER WEEK 2009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MAIN CHANGE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Integration of communication indications (Eric)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Improvement of the Library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Development of the Online Help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45240" y="3500280"/>
            <a:ext cx="3419280" cy="2113200"/>
          </a:xfrm>
          <a:custGeom>
            <a:avLst/>
            <a:gdLst/>
            <a:ahLst/>
            <a:rect l="l" t="t" r="r" b="b"/>
            <a:pathLst>
              <a:path w="2154" h="1331">
                <a:moveTo>
                  <a:pt x="0" y="1331"/>
                </a:moveTo>
                <a:cubicBezTo>
                  <a:pt x="232" y="1282"/>
                  <a:pt x="1033" y="1257"/>
                  <a:pt x="1392" y="1035"/>
                </a:cubicBezTo>
                <a:cubicBezTo>
                  <a:pt x="1751" y="813"/>
                  <a:pt x="1995" y="216"/>
                  <a:pt x="2154" y="0"/>
                </a:cubicBezTo>
              </a:path>
            </a:pathLst>
          </a:custGeom>
          <a:noFill/>
          <a:ln w="127080">
            <a:solidFill>
              <a:srgbClr val="ff99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MAIN decisions to be mad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880" y="2420640"/>
            <a:ext cx="42228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"/>
              </a:rPr>
              <a:t>Audience permissions of the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previous</a:t>
            </a:r>
            <a:r>
              <a:rPr b="1" lang="en-US" sz="2600" spc="-1" strike="noStrike">
                <a:solidFill>
                  <a:srgbClr val="0f3277"/>
                </a:solidFill>
                <a:latin typeface="Arial"/>
              </a:rPr>
              <a:t> content</a:t>
            </a:r>
            <a:endParaRPr b="1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TWO option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ull public access 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WG restricted audience : kept accessible within the Working group </a:t>
            </a: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ONLY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39800" y="2118960"/>
            <a:ext cx="44658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3277"/>
                </a:solidFill>
                <a:latin typeface="Arial"/>
              </a:rPr>
              <a:t>Current STATUS</a:t>
            </a:r>
            <a:endParaRPr b="1" lang="en-US" sz="25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40160" y="2695680"/>
          <a:ext cx="4465800" cy="3469680"/>
        </p:xfrm>
        <a:graphic>
          <a:graphicData uri="http://schemas.openxmlformats.org/drawingml/2006/table">
            <a:tbl>
              <a:tblPr/>
              <a:tblGrid>
                <a:gridCol w="2302560"/>
                <a:gridCol w="216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FULL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* Fina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* Community Spa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Afr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EEC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L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Researc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Secretaria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C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SF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704880" y="1125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DECISION HAS TO BE MAD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3277"/>
                </a:solidFill>
                <a:latin typeface="Arial"/>
              </a:rPr>
              <a:t>Points raised by EECCA and Finance W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MAIN decisions to be mad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8880" y="1700280"/>
            <a:ext cx="4608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"/>
              </a:rPr>
              <a:t>2. Group membership procedure</a:t>
            </a:r>
            <a:endParaRPr b="1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THREE option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OPEN</a:t>
            </a: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: an automatic procedure 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MODERATED</a:t>
            </a: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: approval by the WG leader and support team 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INVITED ONLY</a:t>
            </a: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: on invitation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84880" y="2133720"/>
            <a:ext cx="4105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3277"/>
                </a:solidFill>
                <a:latin typeface="Arial"/>
              </a:rPr>
              <a:t>Current STAT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125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DECISION HAS TO BE MADE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84880" y="2708280"/>
          <a:ext cx="4222800" cy="3201840"/>
        </p:xfrm>
        <a:graphic>
          <a:graphicData uri="http://schemas.openxmlformats.org/drawingml/2006/table">
            <a:tbl>
              <a:tblPr/>
              <a:tblGrid>
                <a:gridCol w="936720"/>
                <a:gridCol w="1871640"/>
                <a:gridCol w="14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ODER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INVITED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C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SF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Afr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EEC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L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Fina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Researc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Sec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C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FEEDBACKS – other ISSU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5440" y="1268280"/>
            <a:ext cx="92552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Page loading time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airly fast even in developing countrie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Colombia, Chile, Argentina, Ethiopia, South Africa, Mauritania, Kenya) </a:t>
            </a: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+ same internet technology used by EC delegations 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Capacity4dev.eu)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Loading Performance Average : A grade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IExplorer &lt; Firefox, Chrome, …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LEASE, inform us about any speed issue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FEEDBACKS – other ISSU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9055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Document Classification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3277"/>
                </a:solidFill>
                <a:latin typeface="Arial"/>
              </a:rPr>
              <a:t>Recent modifications</a:t>
            </a: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arch within the pool of documents us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keywords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dexed content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lexibility and efficiency.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(Search mode is widely used by the web community. i.e Google search tool).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0320" y="3594240"/>
            <a:ext cx="1079640" cy="64764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FEEDBACKS – other ISSU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riendlines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We need your feedback!!!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OOLS available :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RECTLY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online on top of each page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KYPE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  celine_ dondeynaz, paolo.mainardi.jrc, cesar.ccm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MAIL</a:t>
            </a:r>
            <a:r>
              <a:rPr b="1" lang="fr-FR" sz="2800" spc="-1" strike="noStrike">
                <a:solidFill>
                  <a:srgbClr val="0f3277"/>
                </a:solidFill>
                <a:latin typeface="Arial"/>
              </a:rPr>
              <a:t>  </a:t>
            </a:r>
            <a:r>
              <a:rPr b="1" lang="fr-F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uwi-admin@jrc.ec.europa.eu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WAY FORWARD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Suggestions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1.- One day workshop in ISPRA for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 practical training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collecting all comments and feedbacks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2.- Improve web graphical aspects of the layout.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3.- Technical developments for integrating improvements and feedbacks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4.- Improving contents - Editor for collecting news, information, events, Report preparation, interviews, …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* Two Solutions: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1) A “specialized journalist” on Water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2) Editor tasks are handled by EUWI members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1:31:47Z</dcterms:created>
  <dc:creator>GEM Admin</dc:creator>
  <dc:description>© European Communities, 2007</dc:description>
  <cp:keywords/>
  <dc:language>en-US</dc:language>
  <cp:lastModifiedBy>vinkmma</cp:lastModifiedBy>
  <cp:lastPrinted>2003-09-04T09:59:31Z</cp:lastPrinted>
  <dcterms:modified xsi:type="dcterms:W3CDTF">2009-12-16T15:53:25Z</dcterms:modified>
  <cp:revision>96</cp:revision>
  <dc:subject>JRC Corporate Image Toolkit (CIT)</dc:subject>
  <dc:title>Slide 1</dc:title>
</cp:coreProperties>
</file>