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907588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6050-6E6E-4278-B506-A889A372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5247-2ED4-4DD6-AC5C-F0C9DA0F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94FD-C1BB-492C-8992-2652EF3F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2C24-E54F-42DA-B296-C703360E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2BC9-C10A-4432-8B63-B6708E93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D61B-5B2B-46D9-9ECE-C506F61D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6A2A-5F89-453A-BA05-C7BD1374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C493-234D-47DC-B7E7-53A1F70A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FAEF-BE58-4649-ACC7-FFCB748F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42680" y="7678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E3C7-F167-49D1-AAD5-2E0535C0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33C3-7197-4A00-A173-5136C783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7D5D-CE72-4EBD-BD4E-6BC38E9F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E97C-7765-41C4-9D13-81545207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8939-DCDD-4659-8980-B77C06E3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A045-5D81-4FDC-A996-8284FD50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1812-A907-4445-9FBA-9D8C3A7A3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6966-A91F-41EC-A747-7CC7D44F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F611-367B-4014-9B17-043D4A05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096-509C-4441-9F8D-342CA129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DE15-6A51-4E20-A9EC-B471E5E3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42680" y="7678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92B9-0C52-4E5C-AF1D-624ED841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DD92-17B5-4A58-AF24-8AD407A5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BEED-9B27-4774-B69C-48F8FC97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B462-4DD6-47B5-9DA5-E97183BD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919800" cy="757080"/>
            <a:chOff x="0" y="0"/>
            <a:chExt cx="9919800" cy="757080"/>
          </a:xfrm>
        </p:grpSpPr>
        <p:sp>
          <p:nvSpPr>
            <p:cNvPr id="1" name="Freeform 3"/>
            <p:cNvSpPr/>
            <p:nvPr/>
          </p:nvSpPr>
          <p:spPr>
            <a:xfrm>
              <a:off x="8280" y="0"/>
              <a:ext cx="9911520" cy="757080"/>
            </a:xfrm>
            <a:prstGeom prst="pie">
              <a:avLst/>
            </a:prstGeom>
            <a:solidFill>
              <a:srgbClr val="a7cc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40280" cy="40176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6120" y="0"/>
              <a:ext cx="1217520" cy="72864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50000">
                  <a:srgbClr val="a7ccd9"/>
                </a:gs>
                <a:gs pos="100000">
                  <a:srgbClr val="68a7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25360" y="426960"/>
              <a:ext cx="431640" cy="30816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86440" y="0"/>
              <a:ext cx="273240" cy="11448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9160" y="0"/>
              <a:ext cx="782280" cy="34308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490120" y="58680"/>
              <a:ext cx="712080" cy="17136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078360" y="0"/>
              <a:ext cx="894240" cy="35712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41520" y="244440"/>
              <a:ext cx="741240" cy="37008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890160" y="138240"/>
              <a:ext cx="680760" cy="36036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893760" y="380880"/>
              <a:ext cx="887040" cy="35424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683240" y="514440"/>
              <a:ext cx="711720" cy="15876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43200" y="595440"/>
              <a:ext cx="257760" cy="11412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955840" y="423720"/>
              <a:ext cx="254520" cy="14472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6157080" y="92160"/>
              <a:ext cx="1612800" cy="25092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6339240" y="230040"/>
              <a:ext cx="639720" cy="15588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6222240" y="488880"/>
              <a:ext cx="546840" cy="25092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50000">
                  <a:srgbClr val="a7ccd9"/>
                </a:gs>
                <a:gs pos="100000">
                  <a:srgbClr val="68a7b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869440" y="461880"/>
              <a:ext cx="653400" cy="27648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7185600" y="297000"/>
              <a:ext cx="899280" cy="10944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064360" y="295200"/>
              <a:ext cx="923400" cy="19044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50000">
                  <a:srgbClr val="a7ccd9"/>
                </a:gs>
                <a:gs pos="100000">
                  <a:srgbClr val="68a7b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544240" y="495360"/>
              <a:ext cx="1375560" cy="22680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50000">
                  <a:srgbClr val="a7ccd9"/>
                </a:gs>
                <a:gs pos="100000">
                  <a:srgbClr val="68a7b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146160" y="380880"/>
              <a:ext cx="691200" cy="18252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932760" cy="138240"/>
            <a:chOff x="0" y="6180120"/>
            <a:chExt cx="9932760" cy="138240"/>
          </a:xfrm>
        </p:grpSpPr>
        <p:sp>
          <p:nvSpPr>
            <p:cNvPr id="24" name="Freeform 26"/>
            <p:cNvSpPr/>
            <p:nvPr/>
          </p:nvSpPr>
          <p:spPr>
            <a:xfrm>
              <a:off x="6949080" y="6203880"/>
              <a:ext cx="2983680" cy="11448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970000" y="6189480"/>
              <a:ext cx="4565160" cy="9540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509640" cy="9828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20360" y="63673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362040" y="63673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7077240" y="63673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A4E0-BFF9-4F5E-B576-ADE997666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3" name="Rectangle 35"/>
          <p:cNvSpPr/>
          <p:nvPr/>
        </p:nvSpPr>
        <p:spPr>
          <a:xfrm>
            <a:off x="73080" y="2757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4" name="Rectangle 36"/>
          <p:cNvSpPr/>
          <p:nvPr/>
        </p:nvSpPr>
        <p:spPr>
          <a:xfrm>
            <a:off x="73080" y="77472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5" name="Rectangle 37"/>
          <p:cNvSpPr/>
          <p:nvPr/>
        </p:nvSpPr>
        <p:spPr>
          <a:xfrm>
            <a:off x="73800" y="1097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6" name="Rectangle 38"/>
          <p:cNvSpPr/>
          <p:nvPr/>
        </p:nvSpPr>
        <p:spPr>
          <a:xfrm>
            <a:off x="73800" y="1762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7" name="Rectangle 39"/>
          <p:cNvSpPr/>
          <p:nvPr/>
        </p:nvSpPr>
        <p:spPr>
          <a:xfrm>
            <a:off x="73800" y="24282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8" name="Rectangle 40"/>
          <p:cNvSpPr/>
          <p:nvPr/>
        </p:nvSpPr>
        <p:spPr>
          <a:xfrm>
            <a:off x="73800" y="31978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9" name="Rectangle 41"/>
          <p:cNvSpPr/>
          <p:nvPr/>
        </p:nvSpPr>
        <p:spPr>
          <a:xfrm>
            <a:off x="73800" y="3844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0" name="Rectangle 42"/>
          <p:cNvSpPr/>
          <p:nvPr/>
        </p:nvSpPr>
        <p:spPr>
          <a:xfrm>
            <a:off x="73800" y="43948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 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1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2" name="Rectangle 44"/>
          <p:cNvSpPr/>
          <p:nvPr/>
        </p:nvSpPr>
        <p:spPr>
          <a:xfrm>
            <a:off x="73080" y="2757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3" name="Rectangle 45"/>
          <p:cNvSpPr/>
          <p:nvPr/>
        </p:nvSpPr>
        <p:spPr>
          <a:xfrm>
            <a:off x="73080" y="77472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4" name="Rectangle 46"/>
          <p:cNvSpPr/>
          <p:nvPr/>
        </p:nvSpPr>
        <p:spPr>
          <a:xfrm>
            <a:off x="73800" y="1097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5" name="Rectangle 47"/>
          <p:cNvSpPr/>
          <p:nvPr/>
        </p:nvSpPr>
        <p:spPr>
          <a:xfrm>
            <a:off x="73800" y="1762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6" name="Rectangle 48"/>
          <p:cNvSpPr/>
          <p:nvPr/>
        </p:nvSpPr>
        <p:spPr>
          <a:xfrm>
            <a:off x="73800" y="24282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7" name="Rectangle 49"/>
          <p:cNvSpPr/>
          <p:nvPr/>
        </p:nvSpPr>
        <p:spPr>
          <a:xfrm>
            <a:off x="73800" y="31978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8" name="Rectangle 50"/>
          <p:cNvSpPr/>
          <p:nvPr/>
        </p:nvSpPr>
        <p:spPr>
          <a:xfrm>
            <a:off x="73800" y="3844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9" name="Rectangle 51"/>
          <p:cNvSpPr/>
          <p:nvPr/>
        </p:nvSpPr>
        <p:spPr>
          <a:xfrm>
            <a:off x="73800" y="43948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 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20520" y="1109520"/>
            <a:ext cx="9920160" cy="757080"/>
            <a:chOff x="20520" y="1109520"/>
            <a:chExt cx="9920160" cy="757080"/>
          </a:xfrm>
        </p:grpSpPr>
        <p:sp>
          <p:nvSpPr>
            <p:cNvPr id="87" name="Freeform 3"/>
            <p:cNvSpPr/>
            <p:nvPr/>
          </p:nvSpPr>
          <p:spPr>
            <a:xfrm>
              <a:off x="28800" y="1109520"/>
              <a:ext cx="9911880" cy="757080"/>
            </a:xfrm>
            <a:prstGeom prst="pie">
              <a:avLst/>
            </a:prstGeom>
            <a:solidFill>
              <a:srgbClr val="a7cc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Freeform 4"/>
            <p:cNvSpPr/>
            <p:nvPr/>
          </p:nvSpPr>
          <p:spPr>
            <a:xfrm>
              <a:off x="20520" y="1265040"/>
              <a:ext cx="440280" cy="40176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Freeform 5"/>
            <p:cNvSpPr/>
            <p:nvPr/>
          </p:nvSpPr>
          <p:spPr>
            <a:xfrm>
              <a:off x="116640" y="1109520"/>
              <a:ext cx="1217520" cy="72864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50000">
                  <a:srgbClr val="a7ccd9"/>
                </a:gs>
                <a:gs pos="100000">
                  <a:srgbClr val="68a7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Freeform 6"/>
            <p:cNvSpPr/>
            <p:nvPr/>
          </p:nvSpPr>
          <p:spPr>
            <a:xfrm>
              <a:off x="245880" y="1536480"/>
              <a:ext cx="431640" cy="30816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1" name="Freeform 7"/>
            <p:cNvSpPr/>
            <p:nvPr/>
          </p:nvSpPr>
          <p:spPr>
            <a:xfrm>
              <a:off x="606960" y="1109520"/>
              <a:ext cx="273240" cy="11448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2" name="Freeform 8"/>
            <p:cNvSpPr/>
            <p:nvPr/>
          </p:nvSpPr>
          <p:spPr>
            <a:xfrm>
              <a:off x="859680" y="1109520"/>
              <a:ext cx="782280" cy="34308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2510640" y="1168200"/>
              <a:ext cx="712080" cy="17136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>
              <a:off x="3098880" y="1109520"/>
              <a:ext cx="894240" cy="35712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>
              <a:off x="3362040" y="1353960"/>
              <a:ext cx="741240" cy="37008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>
              <a:off x="3911040" y="1247760"/>
              <a:ext cx="680760" cy="36036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7" name="Freeform 13"/>
            <p:cNvSpPr/>
            <p:nvPr/>
          </p:nvSpPr>
          <p:spPr>
            <a:xfrm>
              <a:off x="3914280" y="1490400"/>
              <a:ext cx="887040" cy="35424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8" name="Freeform 14"/>
            <p:cNvSpPr/>
            <p:nvPr/>
          </p:nvSpPr>
          <p:spPr>
            <a:xfrm>
              <a:off x="4703760" y="1623960"/>
              <a:ext cx="711720" cy="15876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9" name="Freeform 15"/>
            <p:cNvSpPr/>
            <p:nvPr/>
          </p:nvSpPr>
          <p:spPr>
            <a:xfrm>
              <a:off x="5464080" y="1704960"/>
              <a:ext cx="257760" cy="11412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0" name="Freeform 16"/>
            <p:cNvSpPr/>
            <p:nvPr/>
          </p:nvSpPr>
          <p:spPr>
            <a:xfrm>
              <a:off x="5976360" y="1533240"/>
              <a:ext cx="254520" cy="14472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1" name="Freeform 17"/>
            <p:cNvSpPr/>
            <p:nvPr/>
          </p:nvSpPr>
          <p:spPr>
            <a:xfrm>
              <a:off x="6177960" y="1201680"/>
              <a:ext cx="1613160" cy="25092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2" name="Freeform 18"/>
            <p:cNvSpPr/>
            <p:nvPr/>
          </p:nvSpPr>
          <p:spPr>
            <a:xfrm>
              <a:off x="6359760" y="1339560"/>
              <a:ext cx="639720" cy="15588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3" name="Freeform 19"/>
            <p:cNvSpPr/>
            <p:nvPr/>
          </p:nvSpPr>
          <p:spPr>
            <a:xfrm>
              <a:off x="6242760" y="1598400"/>
              <a:ext cx="547200" cy="25092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50000">
                  <a:srgbClr val="a7ccd9"/>
                </a:gs>
                <a:gs pos="100000">
                  <a:srgbClr val="68a7b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4" name="Freeform 20"/>
            <p:cNvSpPr/>
            <p:nvPr/>
          </p:nvSpPr>
          <p:spPr>
            <a:xfrm>
              <a:off x="5890320" y="1571400"/>
              <a:ext cx="653400" cy="27648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5" name="Freeform 21"/>
            <p:cNvSpPr/>
            <p:nvPr/>
          </p:nvSpPr>
          <p:spPr>
            <a:xfrm>
              <a:off x="7206480" y="1406520"/>
              <a:ext cx="899280" cy="10944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6" name="Freeform 22"/>
            <p:cNvSpPr/>
            <p:nvPr/>
          </p:nvSpPr>
          <p:spPr>
            <a:xfrm>
              <a:off x="8084880" y="1404720"/>
              <a:ext cx="923400" cy="19044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50000">
                  <a:srgbClr val="a7ccd9"/>
                </a:gs>
                <a:gs pos="100000">
                  <a:srgbClr val="68a7b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7" name="Freeform 23"/>
            <p:cNvSpPr/>
            <p:nvPr/>
          </p:nvSpPr>
          <p:spPr>
            <a:xfrm>
              <a:off x="8565120" y="1604880"/>
              <a:ext cx="1375560" cy="22680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50000">
                  <a:srgbClr val="a7ccd9"/>
                </a:gs>
                <a:gs pos="100000">
                  <a:srgbClr val="68a7b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8" name="Freeform 24"/>
            <p:cNvSpPr/>
            <p:nvPr/>
          </p:nvSpPr>
          <p:spPr>
            <a:xfrm>
              <a:off x="9167040" y="1490400"/>
              <a:ext cx="691200" cy="18252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109" name="Group 25"/>
          <p:cNvGrpSpPr/>
          <p:nvPr/>
        </p:nvGrpSpPr>
        <p:grpSpPr>
          <a:xfrm>
            <a:off x="22320" y="6161040"/>
            <a:ext cx="9932400" cy="138240"/>
            <a:chOff x="22320" y="6161040"/>
            <a:chExt cx="9932400" cy="138240"/>
          </a:xfrm>
        </p:grpSpPr>
        <p:sp>
          <p:nvSpPr>
            <p:cNvPr id="110" name="Freeform 26"/>
            <p:cNvSpPr/>
            <p:nvPr/>
          </p:nvSpPr>
          <p:spPr>
            <a:xfrm>
              <a:off x="6971400" y="6184800"/>
              <a:ext cx="2983320" cy="11448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1" name="Freeform 27"/>
            <p:cNvSpPr/>
            <p:nvPr/>
          </p:nvSpPr>
          <p:spPr>
            <a:xfrm>
              <a:off x="2991960" y="6170400"/>
              <a:ext cx="4565160" cy="9540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2" name="Freeform 28"/>
            <p:cNvSpPr/>
            <p:nvPr/>
          </p:nvSpPr>
          <p:spPr>
            <a:xfrm>
              <a:off x="22320" y="6161040"/>
              <a:ext cx="3509640" cy="9828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4"/>
          </p:nvPr>
        </p:nvSpPr>
        <p:spPr>
          <a:xfrm>
            <a:off x="743040" y="634824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5"/>
          </p:nvPr>
        </p:nvSpPr>
        <p:spPr>
          <a:xfrm>
            <a:off x="3384360" y="634824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6"/>
          </p:nvPr>
        </p:nvSpPr>
        <p:spPr>
          <a:xfrm>
            <a:off x="7098840" y="634824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AF50-88CF-4B85-80E0-CA9137DAC022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2794320" y="191628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a7be"/>
                </a:solidFill>
                <a:latin typeface="Arial"/>
              </a:rPr>
              <a:t>Mediterranean Component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935080" y="2322360"/>
            <a:ext cx="37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a7be"/>
                </a:solidFill>
                <a:latin typeface="Arial"/>
              </a:rPr>
              <a:t>of the EU Water Initiative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56" name="Picture 61" descr=""/>
          <p:cNvPicPr/>
          <p:nvPr/>
        </p:nvPicPr>
        <p:blipFill>
          <a:blip r:embed="rId1"/>
          <a:stretch/>
        </p:blipFill>
        <p:spPr>
          <a:xfrm>
            <a:off x="3297240" y="855720"/>
            <a:ext cx="3240000" cy="9889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2"/>
          <p:cNvSpPr/>
          <p:nvPr/>
        </p:nvSpPr>
        <p:spPr>
          <a:xfrm>
            <a:off x="3659040" y="537372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Lead Country: GREEC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8" name="Text Box 65"/>
          <p:cNvSpPr/>
          <p:nvPr/>
        </p:nvSpPr>
        <p:spPr>
          <a:xfrm>
            <a:off x="1277640" y="3170160"/>
            <a:ext cx="7131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Arial"/>
              </a:rPr>
              <a:t>BRIEFING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Arial"/>
              </a:rPr>
              <a:t>on key activities in 2009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Arial"/>
              </a:rPr>
              <a:t>and activities planned for 2010-2011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9" name="Text Box 58"/>
          <p:cNvSpPr/>
          <p:nvPr/>
        </p:nvSpPr>
        <p:spPr>
          <a:xfrm>
            <a:off x="3353400" y="115920"/>
            <a:ext cx="30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EUWI Steering Group Meeting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4 December 2009, Brussels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0" name="Text Box 64"/>
          <p:cNvSpPr/>
          <p:nvPr/>
        </p:nvSpPr>
        <p:spPr>
          <a:xfrm>
            <a:off x="3140280" y="5919840"/>
            <a:ext cx="38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Vangelis Constantiano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ED EUWI Secretariat (GWP-Med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1" descr=""/>
          <p:cNvPicPr/>
          <p:nvPr/>
        </p:nvPicPr>
        <p:blipFill>
          <a:blip r:embed="rId2"/>
          <a:srcRect l="0" t="0" r="0" b="8306"/>
          <a:stretch/>
        </p:blipFill>
        <p:spPr>
          <a:xfrm>
            <a:off x="1857240" y="1963800"/>
            <a:ext cx="7977240" cy="3946320"/>
          </a:xfrm>
          <a:prstGeom prst="rect">
            <a:avLst/>
          </a:prstGeom>
          <a:ln w="0">
            <a:noFill/>
          </a:ln>
        </p:spPr>
      </p:pic>
      <p:sp>
        <p:nvSpPr>
          <p:cNvPr id="162" name="Freeform 42"/>
          <p:cNvSpPr/>
          <p:nvPr/>
        </p:nvSpPr>
        <p:spPr>
          <a:xfrm>
            <a:off x="1857240" y="2852640"/>
            <a:ext cx="7993080" cy="3024360"/>
          </a:xfrm>
          <a:prstGeom prst="pie">
            <a:avLst/>
          </a:prstGeom>
          <a:solidFill>
            <a:srgbClr val="ccff9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3" name="Freeform 43"/>
          <p:cNvSpPr/>
          <p:nvPr/>
        </p:nvSpPr>
        <p:spPr>
          <a:xfrm>
            <a:off x="5729400" y="2637000"/>
            <a:ext cx="1185840" cy="1106280"/>
          </a:xfrm>
          <a:prstGeom prst="pie">
            <a:avLst/>
          </a:prstGeom>
          <a:solidFill>
            <a:srgbClr val="ff505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4" name="Text Box 44"/>
          <p:cNvSpPr/>
          <p:nvPr/>
        </p:nvSpPr>
        <p:spPr>
          <a:xfrm>
            <a:off x="200880" y="662040"/>
            <a:ext cx="85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90000"/>
                </a:solidFill>
                <a:latin typeface="Arial"/>
              </a:rPr>
              <a:t>COUNTRY and SUB-REGIONAL Dialogues / Interventions: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Arial"/>
              </a:rPr>
              <a:t>on going and planned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5" name="Oval 45"/>
          <p:cNvSpPr/>
          <p:nvPr/>
        </p:nvSpPr>
        <p:spPr>
          <a:xfrm>
            <a:off x="9201240" y="4365720"/>
            <a:ext cx="144360" cy="142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6" name="Oval 46"/>
          <p:cNvSpPr/>
          <p:nvPr/>
        </p:nvSpPr>
        <p:spPr>
          <a:xfrm>
            <a:off x="8048520" y="5446800"/>
            <a:ext cx="144720" cy="142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7" name="Oval 47"/>
          <p:cNvSpPr/>
          <p:nvPr/>
        </p:nvSpPr>
        <p:spPr>
          <a:xfrm>
            <a:off x="9345600" y="4078440"/>
            <a:ext cx="144360" cy="142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8" name="Text Box 49"/>
          <p:cNvSpPr/>
          <p:nvPr/>
        </p:nvSpPr>
        <p:spPr>
          <a:xfrm>
            <a:off x="336960" y="1720800"/>
            <a:ext cx="388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going / Launched: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gypt (WSS), Lebanon (IWRM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lestine (Governance reform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9" name="Text Box 50"/>
          <p:cNvSpPr/>
          <p:nvPr/>
        </p:nvSpPr>
        <p:spPr>
          <a:xfrm>
            <a:off x="337320" y="2924280"/>
            <a:ext cx="606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nder exploration: Tunisia (IWRM), Syria (IWRM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mporarily stalled: Libya (Governance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0" name="Text Box 51"/>
          <p:cNvSpPr/>
          <p:nvPr/>
        </p:nvSpPr>
        <p:spPr>
          <a:xfrm>
            <a:off x="338760" y="3917880"/>
            <a:ext cx="561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quested: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rocco (Non-Conventional), Jordan (IWRM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1" name="Oval 53"/>
          <p:cNvSpPr/>
          <p:nvPr/>
        </p:nvSpPr>
        <p:spPr>
          <a:xfrm>
            <a:off x="2792520" y="4653000"/>
            <a:ext cx="144360" cy="142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2" name="Oval 54"/>
          <p:cNvSpPr/>
          <p:nvPr/>
        </p:nvSpPr>
        <p:spPr>
          <a:xfrm>
            <a:off x="128520" y="4060800"/>
            <a:ext cx="144360" cy="142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3" name="Oval 55"/>
          <p:cNvSpPr/>
          <p:nvPr/>
        </p:nvSpPr>
        <p:spPr>
          <a:xfrm>
            <a:off x="128520" y="3068640"/>
            <a:ext cx="14436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4" name="Oval 56"/>
          <p:cNvSpPr/>
          <p:nvPr/>
        </p:nvSpPr>
        <p:spPr>
          <a:xfrm>
            <a:off x="128520" y="1844640"/>
            <a:ext cx="144360" cy="142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5" name="Text Box 57"/>
          <p:cNvSpPr/>
          <p:nvPr/>
        </p:nvSpPr>
        <p:spPr>
          <a:xfrm>
            <a:off x="336960" y="4943520"/>
            <a:ext cx="7011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going transboundary,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ased both on themes and basins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vers, Lakes, Groundwater, Climate Change Adaptatio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rin, Sava, Ohrid, Skoder, Prespa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6" name="Oval 58"/>
          <p:cNvSpPr/>
          <p:nvPr/>
        </p:nvSpPr>
        <p:spPr>
          <a:xfrm>
            <a:off x="6392880" y="3429000"/>
            <a:ext cx="144360" cy="142920"/>
          </a:xfrm>
          <a:prstGeom prst="ellipse">
            <a:avLst/>
          </a:prstGeom>
          <a:solidFill>
            <a:srgbClr val="0066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7" name="Oval 59"/>
          <p:cNvSpPr/>
          <p:nvPr/>
        </p:nvSpPr>
        <p:spPr>
          <a:xfrm>
            <a:off x="5961240" y="2924280"/>
            <a:ext cx="144360" cy="142920"/>
          </a:xfrm>
          <a:prstGeom prst="ellipse">
            <a:avLst/>
          </a:prstGeom>
          <a:solidFill>
            <a:srgbClr val="0066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8" name="Oval 60"/>
          <p:cNvSpPr/>
          <p:nvPr/>
        </p:nvSpPr>
        <p:spPr>
          <a:xfrm>
            <a:off x="6321600" y="3141720"/>
            <a:ext cx="144360" cy="142920"/>
          </a:xfrm>
          <a:prstGeom prst="ellipse">
            <a:avLst/>
          </a:prstGeom>
          <a:solidFill>
            <a:srgbClr val="0066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9" name="Oval 61"/>
          <p:cNvSpPr/>
          <p:nvPr/>
        </p:nvSpPr>
        <p:spPr>
          <a:xfrm>
            <a:off x="128520" y="5068800"/>
            <a:ext cx="144360" cy="142920"/>
          </a:xfrm>
          <a:prstGeom prst="ellipse">
            <a:avLst/>
          </a:prstGeom>
          <a:solidFill>
            <a:srgbClr val="0066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193680" y="115920"/>
            <a:ext cx="695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545472"/>
                </a:solidFill>
                <a:latin typeface="Arial"/>
              </a:rPr>
              <a:t>MED EUWI activities in 2009 and 2010-2011</a:t>
            </a:r>
            <a:endParaRPr b="0" lang="en-US" sz="2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1" name="Oval 48"/>
          <p:cNvSpPr/>
          <p:nvPr/>
        </p:nvSpPr>
        <p:spPr>
          <a:xfrm>
            <a:off x="4808520" y="4581360"/>
            <a:ext cx="14436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2" name="Oval 54"/>
          <p:cNvSpPr/>
          <p:nvPr/>
        </p:nvSpPr>
        <p:spPr>
          <a:xfrm>
            <a:off x="9345600" y="4508640"/>
            <a:ext cx="144360" cy="142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3" name="Oval 45"/>
          <p:cNvSpPr/>
          <p:nvPr/>
        </p:nvSpPr>
        <p:spPr>
          <a:xfrm>
            <a:off x="9056520" y="4581360"/>
            <a:ext cx="144720" cy="142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4" name="Oval 48"/>
          <p:cNvSpPr/>
          <p:nvPr/>
        </p:nvSpPr>
        <p:spPr>
          <a:xfrm>
            <a:off x="5600880" y="5373720"/>
            <a:ext cx="14436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8520" y="692280"/>
            <a:ext cx="97059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ssistance for implementing key decisions of the</a:t>
            </a: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990000"/>
                </a:solidFill>
                <a:latin typeface="Arial"/>
              </a:rPr>
              <a:t>  “</a:t>
            </a:r>
            <a:r>
              <a:rPr b="0" lang="en-GB" sz="1900" spc="-1" strike="noStrike">
                <a:solidFill>
                  <a:srgbClr val="990000"/>
                </a:solidFill>
                <a:latin typeface="Arial"/>
              </a:rPr>
              <a:t>Euro-Mediterranean Ministerial Conference on Water”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(12/2008, Jordan)</a:t>
            </a: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with emphasis on elaborating the new </a:t>
            </a:r>
            <a:r>
              <a:rPr b="0" lang="en-GB" sz="1900" spc="-1" strike="noStrike">
                <a:solidFill>
                  <a:srgbClr val="990000"/>
                </a:solidFill>
                <a:latin typeface="Arial"/>
              </a:rPr>
              <a:t>Strategy for Water in the Mediterranean (SWM)</a:t>
            </a: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Assistance for preparing the </a:t>
            </a:r>
            <a:r>
              <a:rPr b="0" lang="en-US" sz="1900" spc="-1" strike="noStrike">
                <a:solidFill>
                  <a:srgbClr val="990000"/>
                </a:solidFill>
                <a:latin typeface="Arial"/>
              </a:rPr>
              <a:t>ToR of the SW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presented by Greece and Spain)</a:t>
            </a: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900" spc="-1" strike="noStrike">
                <a:solidFill>
                  <a:srgbClr val="990000"/>
                </a:solidFill>
                <a:latin typeface="Arial"/>
              </a:rPr>
              <a:t>Secretariat &amp; technical assistance to WEG assisting the UfM Co-Chairs</a:t>
            </a: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900" spc="-1" strike="noStrike">
                <a:solidFill>
                  <a:srgbClr val="990000"/>
                </a:solidFill>
                <a:latin typeface="Arial"/>
              </a:rPr>
              <a:t>Support to the Water Expert Group Meeting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 09/2009, Athens &amp; 11/2009, Cairo</a:t>
            </a: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ssistance to Spain in its role as coordinator of the </a:t>
            </a:r>
            <a:r>
              <a:rPr b="0" lang="en-GB" sz="1900" spc="-1" strike="noStrike">
                <a:solidFill>
                  <a:srgbClr val="990000"/>
                </a:solidFill>
                <a:latin typeface="Arial"/>
              </a:rPr>
              <a:t>SWM Technical Drafting Group</a:t>
            </a: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 organisation of the major multi-stakeholder </a:t>
            </a:r>
            <a:r>
              <a:rPr b="0" lang="en-GB" sz="1900" spc="-1" strike="noStrike">
                <a:solidFill>
                  <a:srgbClr val="990000"/>
                </a:solidFill>
                <a:latin typeface="Arial"/>
              </a:rPr>
              <a:t>EG/NL Conference on the SWM Elaboration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, 11/2009, in Cairo</a:t>
            </a: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In 2010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, MED EUWI will continue providing assistance to the process, aiming for the </a:t>
            </a:r>
            <a:r>
              <a:rPr b="0" lang="en-GB" sz="1900" spc="-1" strike="noStrike">
                <a:solidFill>
                  <a:srgbClr val="990000"/>
                </a:solidFill>
                <a:latin typeface="Arial"/>
              </a:rPr>
              <a:t>adoption of the SWM at the UfM Ministerial on Water, 04/2010, in Barcelona</a:t>
            </a: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Elaboration of </a:t>
            </a:r>
            <a:r>
              <a:rPr b="0" lang="en-GB" sz="1900" spc="-1" strike="noStrike">
                <a:solidFill>
                  <a:srgbClr val="990000"/>
                </a:solidFill>
                <a:latin typeface="Arial"/>
              </a:rPr>
              <a:t>Assessment on Non-Regret Measures for SWM implementation</a:t>
            </a: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- Further cooperation with</a:t>
            </a:r>
            <a:r>
              <a:rPr b="0" lang="en-GB" sz="1900" spc="-1" strike="noStrike">
                <a:solidFill>
                  <a:srgbClr val="990000"/>
                </a:solidFill>
                <a:latin typeface="Arial"/>
              </a:rPr>
              <a:t> OECD/Horizontal Programme on Water</a:t>
            </a: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6" name="Text Box 27"/>
          <p:cNvSpPr/>
          <p:nvPr/>
        </p:nvSpPr>
        <p:spPr>
          <a:xfrm>
            <a:off x="268920" y="189000"/>
            <a:ext cx="858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545472"/>
                </a:solidFill>
                <a:latin typeface="Arial"/>
              </a:rPr>
              <a:t>MED EUWI in 2009 and 2010-11: </a:t>
            </a:r>
            <a:r>
              <a:rPr b="1" i="1" lang="en-GB" sz="2600" spc="-1" strike="noStrike">
                <a:solidFill>
                  <a:srgbClr val="990000"/>
                </a:solidFill>
                <a:latin typeface="Arial"/>
              </a:rPr>
              <a:t>REGIONAL Activities</a:t>
            </a:r>
            <a:endParaRPr b="0" lang="en-US" sz="26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7077240" y="63673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A9DC-221B-4FB7-AD6E-8423695603C8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44360" y="961920"/>
            <a:ext cx="96328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cale of Country and Regional activities in 2010-2011 depends on financ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will become available for MED EUWI from different supporters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by the EC for Phase I of Country Dialogues ended in April 2009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ther EC support (through the EUWI Thematic Budget) is expected for 2010-11. The EC contribution will be provided through a service contract. Results of the related EC call are pending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Phase II Country Dialogue activities: some support by Greece and GEF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boration of the new Med Water Strategy: some support by EC and GEF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transboundary waters activities in Balkans: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by Petersberg /Athens Process partners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ilities for further assistance by bilateral and multilateral donors are explored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269280" y="189000"/>
            <a:ext cx="788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545472"/>
                </a:solidFill>
                <a:latin typeface="Arial"/>
              </a:rPr>
              <a:t>MED EUWI: </a:t>
            </a:r>
            <a:r>
              <a:rPr b="1" i="1" lang="en-GB" sz="2600" spc="-1" strike="noStrike">
                <a:solidFill>
                  <a:srgbClr val="990000"/>
                </a:solidFill>
                <a:latin typeface="Arial"/>
              </a:rPr>
              <a:t>FINANCING of activities in 2010-2011</a:t>
            </a:r>
            <a:endParaRPr b="0" lang="en-US" sz="26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6T23:13:44Z</dcterms:created>
  <dc:creator>Prof. Michael J. Scoullos</dc:creator>
  <dc:description/>
  <dc:language>en-US</dc:language>
  <cp:lastModifiedBy>v&amp;e</cp:lastModifiedBy>
  <dcterms:modified xsi:type="dcterms:W3CDTF">2009-12-03T07:54:51Z</dcterms:modified>
  <cp:revision>610</cp:revision>
  <dc:subject/>
  <dc:title>No Slide Title</dc:title>
</cp:coreProperties>
</file>