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8.gif" ContentType="image/gif"/>
  <Override PartName="/ppt/media/image10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12800" y="690120"/>
            <a:ext cx="536904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8960" y="4473720"/>
            <a:ext cx="5435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452520" y="245880"/>
            <a:ext cx="36590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of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2"/>
          </p:nvPr>
        </p:nvSpPr>
        <p:spPr>
          <a:xfrm>
            <a:off x="4325400" y="245880"/>
            <a:ext cx="201636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2EDC4F-4B5F-4C4D-A293-0622CF612FA6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185840" y="9244080"/>
            <a:ext cx="38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25600" y="9244080"/>
            <a:ext cx="731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11EA9A-5B4C-474A-9C5D-08A66CC2D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52520" y="246240"/>
            <a:ext cx="36590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325760" y="246240"/>
            <a:ext cx="2016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CE5777-0A17-4367-A81D-308B6CB121B9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12800" y="690480"/>
            <a:ext cx="5369040" cy="371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473720"/>
            <a:ext cx="5435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12800" y="690480"/>
            <a:ext cx="5369040" cy="371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960" y="4473720"/>
            <a:ext cx="5435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bilateral side of the research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ntries involv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elg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zech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Den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n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C supports this type of collaboration through its framework programme for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12800" y="690480"/>
            <a:ext cx="5369040" cy="371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8960" y="4473720"/>
            <a:ext cx="5435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initial geographic focus has been to work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 – which includes North Africa because progress in this region has significant potential to increase progress towards achievement of the Millennium Development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kong region – when we started our Eranet project we recognised that partners were very active here such that there is significant potential for unintended du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49240" y="42094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620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4400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876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4924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4400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876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000" y="113328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3620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49240" y="42094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3620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4400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876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4924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4400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876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000" y="113328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620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bubble_3_small"/>
          <p:cNvPicPr/>
          <p:nvPr/>
        </p:nvPicPr>
        <p:blipFill>
          <a:blip r:embed="rId2"/>
          <a:stretch/>
        </p:blipFill>
        <p:spPr>
          <a:xfrm>
            <a:off x="0" y="0"/>
            <a:ext cx="1336680" cy="1397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splash_droplet_1_small"/>
          <p:cNvPicPr/>
          <p:nvPr/>
        </p:nvPicPr>
        <p:blipFill>
          <a:blip r:embed="rId3"/>
          <a:srcRect l="0" t="0" r="0" b="-7"/>
          <a:stretch/>
        </p:blipFill>
        <p:spPr>
          <a:xfrm>
            <a:off x="8280360" y="1413000"/>
            <a:ext cx="1625760" cy="5445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splash_droplet_2_small"/>
          <p:cNvPicPr/>
          <p:nvPr/>
        </p:nvPicPr>
        <p:blipFill>
          <a:blip r:embed="rId4"/>
          <a:stretch/>
        </p:blipFill>
        <p:spPr>
          <a:xfrm>
            <a:off x="0" y="4824360"/>
            <a:ext cx="3657600" cy="2033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SPLASH-rgb"/>
          <p:cNvPicPr/>
          <p:nvPr/>
        </p:nvPicPr>
        <p:blipFill>
          <a:blip r:embed="rId5"/>
          <a:stretch/>
        </p:blipFill>
        <p:spPr>
          <a:xfrm>
            <a:off x="7689960" y="217440"/>
            <a:ext cx="1971720" cy="1266840"/>
          </a:xfrm>
          <a:prstGeom prst="rect">
            <a:avLst/>
          </a:prstGeom>
          <a:ln w="0">
            <a:noFill/>
          </a:ln>
        </p:spPr>
      </p:pic>
      <p:sp>
        <p:nvSpPr>
          <p:cNvPr id="5" name="Text Box 13"/>
          <p:cNvSpPr/>
          <p:nvPr/>
        </p:nvSpPr>
        <p:spPr>
          <a:xfrm>
            <a:off x="128520" y="63086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www.splash-er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5" descr="Luena agri water 01v2 in circle"/>
          <p:cNvPicPr/>
          <p:nvPr/>
        </p:nvPicPr>
        <p:blipFill>
          <a:blip r:embed="rId6"/>
          <a:stretch/>
        </p:blipFill>
        <p:spPr>
          <a:xfrm>
            <a:off x="5313240" y="3213000"/>
            <a:ext cx="3600720" cy="3600720"/>
          </a:xfrm>
          <a:prstGeom prst="rect">
            <a:avLst/>
          </a:prstGeom>
          <a:ln w="0">
            <a:noFill/>
          </a:ln>
        </p:spPr>
      </p:pic>
      <p:sp>
        <p:nvSpPr>
          <p:cNvPr id="7" name="Text Box 17"/>
          <p:cNvSpPr/>
          <p:nvPr/>
        </p:nvSpPr>
        <p:spPr>
          <a:xfrm>
            <a:off x="992160" y="407664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Forename Su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8" descr="strapline"/>
          <p:cNvPicPr/>
          <p:nvPr/>
        </p:nvPicPr>
        <p:blipFill>
          <a:blip r:embed="rId7"/>
          <a:srcRect l="0" t="0" r="1593" b="1054"/>
          <a:stretch/>
        </p:blipFill>
        <p:spPr>
          <a:xfrm>
            <a:off x="920880" y="1224000"/>
            <a:ext cx="6626160" cy="191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bubble_3_small"/>
          <p:cNvPicPr/>
          <p:nvPr/>
        </p:nvPicPr>
        <p:blipFill>
          <a:blip r:embed="rId2"/>
          <a:stretch/>
        </p:blipFill>
        <p:spPr>
          <a:xfrm>
            <a:off x="0" y="0"/>
            <a:ext cx="1336680" cy="139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splash_droplet_1_small"/>
          <p:cNvPicPr/>
          <p:nvPr/>
        </p:nvPicPr>
        <p:blipFill>
          <a:blip r:embed="rId3"/>
          <a:srcRect l="0" t="0" r="0" b="-7"/>
          <a:stretch/>
        </p:blipFill>
        <p:spPr>
          <a:xfrm>
            <a:off x="8280360" y="1413000"/>
            <a:ext cx="1625760" cy="54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splash_droplet_2_small"/>
          <p:cNvPicPr/>
          <p:nvPr/>
        </p:nvPicPr>
        <p:blipFill>
          <a:blip r:embed="rId4"/>
          <a:stretch/>
        </p:blipFill>
        <p:spPr>
          <a:xfrm>
            <a:off x="0" y="4941720"/>
            <a:ext cx="3657600" cy="191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PLASH-rgb"/>
          <p:cNvPicPr/>
          <p:nvPr/>
        </p:nvPicPr>
        <p:blipFill>
          <a:blip r:embed="rId5"/>
          <a:stretch/>
        </p:blipFill>
        <p:spPr>
          <a:xfrm>
            <a:off x="7689960" y="217440"/>
            <a:ext cx="1971720" cy="126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1" marL="586800" indent="-225720">
              <a:spcBef>
                <a:spcPts val="901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2" marL="902880" indent="-18036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3" marL="1263960" indent="-180360">
              <a:spcBef>
                <a:spcPts val="901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4" marL="1625040" indent="-180360">
              <a:spcBef>
                <a:spcPts val="901"/>
              </a:spcBef>
              <a:buClr>
                <a:srgbClr val="00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5" marL="1625040" indent="-18036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6" marL="1625040" indent="-18036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128520" y="63086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www.splash-er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4448160" y="629280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Coordinating European water research for poverty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plash-era.net/search_dbs.php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plash-era.net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Luena agri water 01v2 in circle"/>
          <p:cNvPicPr/>
          <p:nvPr/>
        </p:nvPicPr>
        <p:blipFill>
          <a:blip r:embed="rId1"/>
          <a:stretch/>
        </p:blipFill>
        <p:spPr>
          <a:xfrm>
            <a:off x="5313240" y="3213000"/>
            <a:ext cx="3457800" cy="345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733320" y="3716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Anne Blenkins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Department for International Development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strapline"/>
          <p:cNvPicPr/>
          <p:nvPr/>
        </p:nvPicPr>
        <p:blipFill>
          <a:blip r:embed="rId2"/>
          <a:srcRect l="338" t="1072" r="16" b="-18"/>
          <a:stretch/>
        </p:blipFill>
        <p:spPr>
          <a:xfrm>
            <a:off x="849240" y="1413000"/>
            <a:ext cx="5688000" cy="165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trapline"/>
          <p:cNvPicPr/>
          <p:nvPr/>
        </p:nvPicPr>
        <p:blipFill>
          <a:blip r:embed="rId3"/>
          <a:srcRect l="0" t="0" r="1593" b="1054"/>
          <a:stretch/>
        </p:blipFill>
        <p:spPr>
          <a:xfrm>
            <a:off x="704880" y="1155600"/>
            <a:ext cx="6915240" cy="2000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4665600" y="6308640"/>
            <a:ext cx="863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Continued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Objectives are often unclear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, poor communication, process and procedures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issemination is inadequate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, rarely is enough money allocated, or outputs tailored to audience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Capacity development impacts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 are unclear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Impact and outcomes assessment is weak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So how can we address these lessons?:</a:t>
            </a:r>
            <a:endParaRPr b="1" lang="en-US" sz="40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Concept notes of ideas to take forwards lessons, meet SPLASH objectives, and where there is developing country demand, a problem  in a developing country, likely to achieve impact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3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Wherever possible work with existing institutions to ensure long term sustainability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3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mprove coordination, prevent duplication:</a:t>
            </a:r>
            <a:endParaRPr b="1" lang="en-US" sz="40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atabases.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http://www.splash-era.net/search_dbs.php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Ethiopia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Volta and Niger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Basins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21240" y="357336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Good research management practice is known and used:</a:t>
            </a:r>
            <a:endParaRPr b="1" lang="en-US" sz="40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Developing open access training materials in research management, in consultation with potential users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Impact and outcome evaluation from research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upport to the African Centres of Excellence in water science and technology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Water and Energy in the Mekong (Finland)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upport prioritisation of research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Ensure that research results are used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upport to the AGWN – Africa Ground water Network (Germany, Switzerland)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Dialogue platform and coordination mechanisms at River Basin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Disseminate SPLASH findings!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Jointly funded Research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Real common pot. 2 Million Euro. Austria, UK, France, Finland, Switzerland, Finland. 2 stage process, launch in March.  4-8 contracts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ustainable delivery of sanitation services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mple and transparent procedures, equality of Northern and Southern partnerships. Clear objectives. Allocation towards dissemination (10%). Plan of stakeholder engagement. Ongoing Southern management.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Looking forwards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takeholders and funders December 09 and January 2010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Best practice workshops: Uganda 17-20</a:t>
            </a:r>
            <a:r>
              <a:rPr b="0" lang="en-US" sz="3600" spc="-1" strike="noStrike" baseline="30000">
                <a:solidFill>
                  <a:srgbClr val="000066"/>
                </a:solidFill>
                <a:latin typeface="Arial Narrow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 March, Mekong in June. Stockholm water week?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Pilot our research management training materials with shortlisted consortia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Launch, evaluate and award our joint call contracts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Our aspirations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Why SPLASH 2?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Influencing other donors, research and development practice more widely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llow up, learn and disseminate from our cal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Quantifiable targets for coordination and good practice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6 donors will pool funds and are keen to do more, from Mekong work and IWRM/Climate change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Other donors joint activities, but not necessarily new research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Actions to support SPLASH 2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DG RTD Environment Programme Committee Meeting on 8</a:t>
            </a:r>
            <a:r>
              <a:rPr b="1" lang="en-GB" sz="2800" spc="-1" strike="noStrike" baseline="30000">
                <a:solidFill>
                  <a:srgbClr val="000066"/>
                </a:solidFill>
                <a:latin typeface="Arial Narrow"/>
              </a:rPr>
              <a:t>th</a:t>
            </a: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 December 2009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 Narrow"/>
              </a:rPr>
              <a:t>Opportunity for EUWI expression of support.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 Narrow"/>
              </a:rPr>
              <a:t>Member states support.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See also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http://www.splash-era.net/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Email: a-blenkinsopp@dfid.gov.uk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at is SPLASH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An Era Net - a National Government level collaboration 17 partners from 12 different European countries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Funded EC FP 6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SPLASH Objectives Jan 07 – Dec 2010 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Improve coordination of water research for development between European countries, to reduce duplication enhance progress to MDGs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Understand and synthesise effective research management &amp; practice, and ensure it is used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peed up transfer of results into practice and policy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Agree a research agenda and jointly funded activities which will benefit from a trans-national approach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ere, why here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06" name="Picture 4" descr="mp00388_[1]"/>
          <p:cNvPicPr/>
          <p:nvPr/>
        </p:nvPicPr>
        <p:blipFill>
          <a:blip r:embed="rId1"/>
          <a:stretch/>
        </p:blipFill>
        <p:spPr>
          <a:xfrm>
            <a:off x="415800" y="2421000"/>
            <a:ext cx="3382920" cy="346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0282881[1]"/>
          <p:cNvPicPr/>
          <p:nvPr/>
        </p:nvPicPr>
        <p:blipFill>
          <a:blip r:embed="rId2"/>
          <a:stretch/>
        </p:blipFill>
        <p:spPr>
          <a:xfrm>
            <a:off x="2289240" y="4653000"/>
            <a:ext cx="2016000" cy="157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89408[1]"/>
          <p:cNvPicPr/>
          <p:nvPr/>
        </p:nvPicPr>
        <p:blipFill>
          <a:blip r:embed="rId3"/>
          <a:stretch/>
        </p:blipFill>
        <p:spPr>
          <a:xfrm>
            <a:off x="5097600" y="2421000"/>
            <a:ext cx="3528720" cy="220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j0186252[1]"/>
          <p:cNvPicPr/>
          <p:nvPr/>
        </p:nvPicPr>
        <p:blipFill>
          <a:blip r:embed="rId4"/>
          <a:stretch/>
        </p:blipFill>
        <p:spPr>
          <a:xfrm>
            <a:off x="6753240" y="3860640"/>
            <a:ext cx="2158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o and How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Narrow"/>
              </a:rPr>
              <a:t>3 management platforms: Tech C/Partners, Funders (SMB), Stakeholders (SAC). Intranet.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marL="533520" indent="-533520">
              <a:spcBef>
                <a:spcPts val="799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Narrow"/>
              </a:rPr>
              <a:t>Desk studies, interviews, side events/workshops in international meetings Stockholm, WEDC Conferences Ghana and Ethiopia, Africasan, Mekong Flood forum, Netsaaf W.Africa, East Africa Water Association, e-conferences etc.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o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9240" y="2602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49240" y="21337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40160" y="260280"/>
            <a:ext cx="3251520" cy="243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376880" y="170028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3" descr=""/>
          <p:cNvPicPr/>
          <p:nvPr/>
        </p:nvPicPr>
        <p:blipFill>
          <a:blip r:embed="rId5"/>
          <a:stretch/>
        </p:blipFill>
        <p:spPr>
          <a:xfrm>
            <a:off x="1857240" y="4292640"/>
            <a:ext cx="6048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November 2008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3 of 6 work packages substantially complete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Learning – needs to be shared, what do we recommend, how to take it forwards?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Established regional thematic priorities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How to get donor support for joint activities?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A workshop of lesson learning in Bonn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Lessons learned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Too much duplication, do not use existing knowledge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 – fragmented, rarely published, national coordination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Involvement of Southern researchers is weak and asymmetric.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 No access to funds. Commitment is low, and outputs are not owned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continued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High Administrative burdens prevent involvement – 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procedures differ and are complex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-68580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Engagement with relevant stakeholders is weak – 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can be poorly identified. This is then a barrier to uptake and use of research results, not involved throughout the process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1:08:30Z</dcterms:created>
  <dc:creator>Cath O'Connell</dc:creator>
  <dc:description/>
  <dc:language>en-US</dc:language>
  <cp:lastModifiedBy>Stephen Young</cp:lastModifiedBy>
  <dcterms:modified xsi:type="dcterms:W3CDTF">2009-12-04T08:09:17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e000000000001023720</vt:lpwstr>
  </property>
</Properties>
</file>