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4D5-C2B7-4CE9-854A-1062B0B8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1F3-B275-4A17-8525-7FCB8090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BD1-586A-4C05-8887-F6FF3346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218-3AFA-4F6D-B2DD-46B2C150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7A1-BAC6-429C-B5DD-DB9007B8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D75-B028-488F-913C-90EEA725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36A-8F05-4BF1-826A-D1BB950D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8DA-D99B-430D-987A-8DC2B01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C98-0E06-4BDF-A766-1C0DA8D4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A8E-52C5-44BA-A09E-A25CE760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55E-E420-4D3C-A7C0-E13B989A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890-AFF6-4713-9C54-D4523F01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1D67-1FE8-4B00-AF6A-55E455668399}" type="datetime">
              <a:rPr b="0" lang="fr-F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ouvernance de l'eau et coopération en Af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42D7-7D94-40C3-8026-7CE82AD997F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u pied de pag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2E09-7FAC-432D-977E-195ED706AF6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lima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5819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611280" y="83016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Rénion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EUWI –Groupe de Travail Af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Cape Town, 26 Juillet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71760" y="4000680"/>
            <a:ext cx="5929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gramme de travail de l’AMCOW 2010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763640" y="5373720"/>
            <a:ext cx="640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Présentation de  M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Charles  NGANGO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Espace réservé du pied de page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F862-260F-40A4-BDC8-4F2D5F665A8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: 3 pi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levé des Décisions et Initiatives de l’AM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)Vision africaine de l’eau à l’horizon 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) OMD horizon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fr-BE" sz="2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 session de Brazzaville ( mai 2007)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Gouvernance de l’AMCOW, Renforcement du Partenariat, Mobilisation des res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Engagements de Sharm El Sheikh (Agenda africain de l’eau 2008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Conférence régionale sur l’assainissement et l’hygiène , Durban février 2008  : Déclaration d’eThekwini et Plan d’action Afric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Semaine Africaine de l’Eau, Tunis mars 2008:Déclaration de Tunis sur l’Accélération de la Sécurité de l’eau pour le développement socio-économique de l’Af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onférence Panafricaine de mise en œuvre des Partenariats dans les domaines de l’eau et de l’assainissement ( PANAFCON I, Addis Abeba décemb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onférence sur l’eau pour l’agriculture, Syrt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Espace réservé du pied de page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94D3-E155-4E0F-B39D-4C0E718D30A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i="1" lang="fr-BE" sz="2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 session de Johannesburg , novembre 2009: Mise en œuvre des Engagements de Sharm El Sheik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apports sur les actions entreprises par les pays en matière de sécurité de l’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dre pour l’établissement des rapports à l’Union Africaine: feuille de route pour la réalisation des engagements de Sharm El Sheik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égration de l’eau au plan de développement national et rapport annuel sur la situation de la sécurité de l’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écanismes régionaux, CER, RAOB  de rapport et de contribution au rapport de l’AMCOW à l’Union Africaine et mécanisme d’évaluation par les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nforcement du Secrétariat de l’AMCOW afin d’assurer le suivi des actions et en rendre comp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Directive de l’EXCO  sur la prochaine  Semaine Africaine de l’eau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rganisation des réunions des Ministres de l’eau et des fin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MCOW et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obilisation des ressources pour les 2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et 3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phase de l’Initiative de la BAD pour l’eau et l’assainissement en milieu r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pied de pag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BF3E-20EC-4D82-B688-E0AE04EE43D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Faire progresser les résultats des réunions de Johannesburg :Attention e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nforcement de la présence de l’AMCOW au niveau national et sous régional  ( organisation des réunions sous régionales de l’EXCO, partenariats avec les C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ngements clim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litiques, lois, plans d’action de gestion équitable et durable des ressources en eaux partag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écurité de l’eau pour le développement dur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Objectifs v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3"/>
          <p:cNvSpPr/>
          <p:nvPr/>
        </p:nvSpPr>
        <p:spPr>
          <a:xfrm>
            <a:off x="3143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CC81-65FA-4D14-B43F-583EC9FC310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Aide, appui à la mise en œuvre des engagements de Sharm El Sheikh, à l’accélération de la réalisation des OMD, Vision Africaine de l’eau dans le cadre de l’AM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Mise en place des mesures durables de gouvernance , de partenariats , de coopé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Renforcement , consolidation des mesures permettant d’atteindre les résult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Renforcement des structures de gouvernance de l’AM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- AMCOW, Etats africains , CER et organismes sous régionaux ( ANB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pied de page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4471-7952-4E5D-B761-E8E45F1AAAC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7 thèmes majeurs du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Infrastructures Hydrauliques en vue  de la Croissance Economique  ( l’eau pour l’énergie, l’agriculture et les usages multiple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Gestion des Ressources en Eau (La gestion et la protection des  ressources en eau transfrontalières et des bassins)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réalisation des Objectifs du Millénaire pour le Développement en matière d’eau d’assainissement et d’Hygiène en vue de combler les écarts accumulés tant en milieu urbain que rura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mécanismes d’adaptation  aux Changements climatiques et  de Gestion des Risques : la variabilité et les changements climatiques 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Gouvernance de l’Eau ( les aspects institutionnels, la transparence, le rôle et les responsabilités des acteurs, le dialogue permanent)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Financement du secteur de l’eau et de l’assainissement 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ducation, la Connaissance , l’information et le Renforcement des Capacité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Arial"/>
              </a:rPr>
              <a:t>N.B. Ce programme est encore en  cours de discussion et non encore adopté par l’EXCO. Vos commentaires et suggestions sont atten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FAB6-A4FA-43FD-BCFD-2FD01071659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F:\Mossaka juin 2006 1\IMG_0129.JPG"/>
          <p:cNvPicPr/>
          <p:nvPr/>
        </p:nvPicPr>
        <p:blipFill>
          <a:blip r:embed="rId1"/>
          <a:stretch/>
        </p:blipFill>
        <p:spPr>
          <a:xfrm>
            <a:off x="0" y="0"/>
            <a:ext cx="896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4D74-D0AC-48BB-B94F-13CF7E7AAA5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F:\Divers films , images et chants camer\AEP Bikaroua BZV\PCDV0103.JPG"/>
          <p:cNvPicPr/>
          <p:nvPr/>
        </p:nvPicPr>
        <p:blipFill>
          <a:blip r:embed="rId1"/>
          <a:stretch/>
        </p:blipFill>
        <p:spPr>
          <a:xfrm>
            <a:off x="500040" y="357120"/>
            <a:ext cx="8001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6EAD-0914-415F-BEEF-B77BEC5BF5B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F:\Mossaka juin 2006 1\IMG_0135.JPG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500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2286000" y="100008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ERCI POUR VOTRE AIMABLE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3:35:51Z</dcterms:created>
  <dc:creator>CHARLES  NGANGOUE</dc:creator>
  <dc:description/>
  <dc:language>en-US</dc:language>
  <cp:lastModifiedBy>heylen</cp:lastModifiedBy>
  <dcterms:modified xsi:type="dcterms:W3CDTF">2010-07-27T08:08:45Z</dcterms:modified>
  <cp:revision>47</cp:revision>
  <dc:subject/>
  <dc:title>CONSEIL DES MINISTRES AFRICAINS DE L’EAU AMCOW</dc:title>
</cp:coreProperties>
</file>