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6278-1176-42AC-9814-2D8D93CE1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EBAB-EB6D-4C7C-B875-83DBCA06E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3C4-D7AD-4EA0-A473-A757C4C1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CA5-810C-46B9-9CB2-F3D00D97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595-4C83-466C-9FE2-779CCD44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5D3-45CA-4386-8AC5-5B52BE8D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A97-420D-40C9-A945-1BC41341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6A7-5AA6-4D2C-AAF9-1F4C8716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61B-4BCA-486B-A1AD-99FE5778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C84-6227-446D-B9F8-AB84CCF6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A7E-970F-498A-9274-6101314A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28D-AE18-472A-AB1D-D4330551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879-B776-452D-8AAC-959B9A83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EFE-EB15-425A-997B-3E37F5E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E8BC-6931-4C70-A065-AD047B86DA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UWI-Africa Working Gro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Cape Town, 26 July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WG  Strategic 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ulti-annual plan 2009-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tephen Young, DF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bout the new AWG 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ckground, ration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cess: how it was develo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utcome, main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lti-annual plan 2009-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plan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ay forward,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2008: review of support to AWG by AidC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commenda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ke a new strategy, clarifying roles, responsibilities; to enhance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tegy to be developed in a participatory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w strategy neede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tilize WFac funds in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ke workplan for the new EC thematic fun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ask team established in WWF5, discussion note prepared (6 May, 200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 pha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kshop 1 (Abuja, July 2009): kick-off &amp; 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rkshop 2 (SWWW, Aug 2009): setting of objectives + main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p 3 (AWW-2, Nov 2009) Finalization of new strategy and workplan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Niki_tmpphpTZ7zrl"/>
          <p:cNvPicPr/>
          <p:nvPr/>
        </p:nvPicPr>
        <p:blipFill>
          <a:blip r:embed="rId1"/>
          <a:stretch/>
        </p:blipFill>
        <p:spPr>
          <a:xfrm>
            <a:off x="5334120" y="228600"/>
            <a:ext cx="3268440" cy="1046160"/>
          </a:xfrm>
          <a:prstGeom prst="rect">
            <a:avLst/>
          </a:prstGeom>
          <a:ln w="0">
            <a:noFill/>
          </a:ln>
        </p:spPr>
      </p:pic>
      <p:sp>
        <p:nvSpPr>
          <p:cNvPr id="5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09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utcome-1: Strategy of  AW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81360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Vis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frican countries achieve the MDG-7  under the leadership of AMCOW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UWI-AWG is acknowledged as a key partner for AMCOW; for dialogue,  coordination and mutual support of all actors active in the WASH sector in Afr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Nic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UWI-AWG provides a unique &amp; inclusive platform for multi-stakeholder consultation, policy dialogue, and coordinated support to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WG Strategic outline 2009-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362800" cy="4781520"/>
        </p:xfrm>
        <a:graphic>
          <a:graphicData uri="http://schemas.openxmlformats.org/drawingml/2006/table">
            <a:tbl>
              <a:tblPr/>
              <a:tblGrid>
                <a:gridCol w="2801880"/>
                <a:gridCol w="55609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s (exampl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of decla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coordination amongst EU dono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al finance available for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d effectiveness and efficie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 insight in aid effectiveness in W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ve effect on country level by harmonis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logue between EU and non-EU part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hip and multi-stakeholder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mproved policy dialogue within EU commun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sive dialogue with other donor group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nvolvement of other stakeholders in 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cacy and knowledge sh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s of AWG known in EU commun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semination and sharing with relevant stakehold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nancial resources for A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AWG has the following financial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pport from Wfac (contract untill 20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C-thematic budget line (mid-2010-2012), UNDP trust fund for AMCOW &amp; AWG, about 1m 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ateral support, from the acting co-chair &amp; other EU 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ay forward,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ching of AMCOW plans with AWG strate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WG Workplan 2011-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der new EC thematic funding (UNDP trust fu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igned with other activities and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tcome 2- Workplan 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295280"/>
          <a:ext cx="8381880" cy="5195880"/>
        </p:xfrm>
        <a:graphic>
          <a:graphicData uri="http://schemas.openxmlformats.org/drawingml/2006/table">
            <a:tbl>
              <a:tblPr/>
              <a:tblGrid>
                <a:gridCol w="2808000"/>
                <a:gridCol w="557388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of decla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itation map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S guidance paper (OECD-DA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d effectiveness and efficienc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 Code of Conduct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-up on SWAp side event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wnership and multi-stakeholder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3 AWG meetings, of which 2 in Afric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Support to participation of CSO in the AW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cacy and knowledge sha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d and improved communica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ment of advocacy materi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7:09:20Z</dcterms:created>
  <dc:creator>uytewaal</dc:creator>
  <dc:description/>
  <dc:language>en-US</dc:language>
  <cp:lastModifiedBy>heylen</cp:lastModifiedBy>
  <dcterms:modified xsi:type="dcterms:W3CDTF">2010-07-27T08:10:26Z</dcterms:modified>
  <cp:revision>12</cp:revision>
  <dc:subject/>
  <dc:title>Slide 1</dc:title>
</cp:coreProperties>
</file>