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B3018-67C1-4147-93D8-366D22523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C6952-F6BB-43E4-87F6-C31BDAF7D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27364-8A1E-4067-9A25-77E906000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D02B9-88BF-4BAD-9D6B-CBD697C56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EDCA2-04A5-4CBF-9BE2-0EAFDD9C8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C4453-88D1-47BC-9F9F-2E5BC2C2F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A16DC-4DF8-40AC-A1B4-C78EE10A5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C6C0C-7083-4B2E-AFA4-26D6D560C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3B739-1561-4711-B5E3-B03ABD854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5F6DE-BD7F-4223-ADF1-4DB964D0E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E6E9F-8CFC-42A9-BE0A-3D7A62B31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7EFE2-F73C-458B-8D4B-A1B89744B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F825-4A8E-4A5E-90AE-A24AD676617C}" type="datetime">
              <a:rPr b="0" lang="fr-FR"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ouvernance de l'eau et coopération en Afriqu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461B-9DC2-4BCD-BBAB-432F9B63835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57200" y="274680"/>
            <a:ext cx="8229600" cy="58514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alibri"/>
              </a:rPr>
              <a:t>STOCKHOLM WORLD WATER WEEK 2010</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alibri"/>
              </a:rPr>
              <a:t>AWG meeting, 9th September 2010</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alibri"/>
              </a:rPr>
              <a:t>                                </a:t>
            </a:r>
            <a:r>
              <a:rPr b="1" lang="fr-BE" sz="2400" spc="-1" strike="noStrike">
                <a:solidFill>
                  <a:srgbClr val="000000"/>
                </a:solidFill>
                <a:latin typeface="Calibri"/>
              </a:rPr>
              <a:t>CAPE TOWN  EXCO DECIS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Calibri"/>
              </a:rPr>
              <a:t>By Mr. Charles  NGANGOUE</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Calibri"/>
              </a:rPr>
              <a:t>AMCOW Secretariat </a:t>
            </a:r>
            <a:endParaRPr b="0" lang="en-US" sz="2000" spc="-1" strike="noStrike">
              <a:solidFill>
                <a:srgbClr val="000000"/>
              </a:solidFill>
              <a:latin typeface="Arial"/>
            </a:endParaRPr>
          </a:p>
        </p:txBody>
      </p:sp>
      <p:sp>
        <p:nvSpPr>
          <p:cNvPr id="42" name="Espace réservé du pied de page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E203-4001-483F-BDAB-42129FE85606}" type="slidenum">
              <a:rPr b="0" lang="fr-FR" sz="1400" spc="-1" strike="noStrike">
                <a:solidFill>
                  <a:srgbClr val="000000"/>
                </a:solidFill>
                <a:latin typeface="Arial"/>
              </a:rPr>
              <a:t>1</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8898-A1D1-49D6-AE82-CEA85A148F3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Picture 2" descr="F:\Mossaka juin 2006 1\IMG_0135.JPG"/>
          <p:cNvPicPr/>
          <p:nvPr/>
        </p:nvPicPr>
        <p:blipFill>
          <a:blip r:embed="rId1"/>
          <a:stretch/>
        </p:blipFill>
        <p:spPr>
          <a:xfrm>
            <a:off x="285840" y="357120"/>
            <a:ext cx="8572320" cy="6500880"/>
          </a:xfrm>
          <a:prstGeom prst="rect">
            <a:avLst/>
          </a:prstGeom>
          <a:ln w="0">
            <a:noFill/>
          </a:ln>
        </p:spPr>
      </p:pic>
      <p:sp>
        <p:nvSpPr>
          <p:cNvPr id="78" name="Rectangle 6"/>
          <p:cNvSpPr/>
          <p:nvPr/>
        </p:nvSpPr>
        <p:spPr>
          <a:xfrm>
            <a:off x="2286000" y="1000080"/>
            <a:ext cx="607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RCI POUR VOTRE AIMABLE ATT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5A07-AA7F-46EF-8310-1CE95F3BE76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type="title"/>
          </p:nvPr>
        </p:nvSpPr>
        <p:spPr>
          <a:xfrm>
            <a:off x="457200" y="274320"/>
            <a:ext cx="8229600" cy="58680"/>
          </a:xfrm>
          <a:prstGeom prst="rect">
            <a:avLst/>
          </a:prstGeom>
          <a:noFill/>
          <a:ln w="0">
            <a:noFill/>
          </a:ln>
        </p:spPr>
        <p:txBody>
          <a:bodyPr tIns="12960" bIns="129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47" name="PlaceHolder 2"/>
          <p:cNvSpPr>
            <a:spLocks noGrp="1"/>
          </p:cNvSpPr>
          <p:nvPr>
            <p:ph/>
          </p:nvPr>
        </p:nvSpPr>
        <p:spPr>
          <a:xfrm>
            <a:off x="457200" y="907560"/>
            <a:ext cx="8229600" cy="5689800"/>
          </a:xfrm>
          <a:prstGeom prst="rect">
            <a:avLst/>
          </a:prstGeom>
          <a:noFill/>
          <a:ln w="0">
            <a:noFill/>
          </a:ln>
        </p:spPr>
        <p:txBody>
          <a:bodyPr anchor="t">
            <a:normAutofit fontScale="98000"/>
          </a:bodyPr>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CONTEXT:  </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Objectives</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Calibri"/>
              </a:rPr>
              <a:t>Decisions</a:t>
            </a:r>
            <a:endParaRPr b="0" lang="en-US" sz="2000" spc="-1" strike="noStrike">
              <a:solidFill>
                <a:srgbClr val="000000"/>
              </a:solidFill>
              <a:latin typeface="Arial"/>
            </a:endParaRPr>
          </a:p>
          <a:p>
            <a:pPr marL="447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r>
              <a:rPr b="1" lang="en-GB" sz="2000" spc="-1" strike="noStrike">
                <a:solidFill>
                  <a:srgbClr val="000000"/>
                </a:solidFill>
                <a:latin typeface="Calibri"/>
              </a:rPr>
              <a:t>Report of the Secretariat</a:t>
            </a:r>
            <a:r>
              <a:rPr b="1" lang="fr-FR" sz="2000" spc="-1" strike="noStrike">
                <a:solidFill>
                  <a:srgbClr val="000000"/>
                </a:solidFill>
                <a:latin typeface="Calibri"/>
              </a:rPr>
              <a:t> :  </a:t>
            </a:r>
            <a:r>
              <a:rPr b="0" lang="en-GB" sz="2000" spc="-1" strike="noStrike">
                <a:solidFill>
                  <a:srgbClr val="000000"/>
                </a:solidFill>
                <a:latin typeface="Calibri"/>
              </a:rPr>
              <a:t>Adoption of  the report of the Secretariat on the follow-up actions to implement decision of the 7</a:t>
            </a:r>
            <a:r>
              <a:rPr b="0" lang="en-GB" sz="2000" spc="-1" strike="noStrike" baseline="30000">
                <a:solidFill>
                  <a:srgbClr val="000000"/>
                </a:solidFill>
                <a:latin typeface="Calibri"/>
              </a:rPr>
              <a:t>th</a:t>
            </a:r>
            <a:r>
              <a:rPr b="0" lang="en-GB" sz="2000" spc="-1" strike="noStrike">
                <a:solidFill>
                  <a:srgbClr val="000000"/>
                </a:solidFill>
                <a:latin typeface="Calibri"/>
              </a:rPr>
              <a:t> Ordinary Session of AMCOW and draw attention to the need for additional actions for the implementation of these outcomes</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MCOW Governance Analysis: The</a:t>
            </a:r>
            <a:r>
              <a:rPr b="0" lang="en-GB" sz="2000" spc="-1" strike="noStrike">
                <a:solidFill>
                  <a:srgbClr val="000000"/>
                </a:solidFill>
                <a:latin typeface="Calibri"/>
              </a:rPr>
              <a:t> Secretariat, the TAC Chairs and the consultant to constitute a working group to finalise the report by the end of September 2010.   </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ff rules and financial regulations:</a:t>
            </a:r>
            <a:r>
              <a:rPr b="0" lang="en-GB" sz="2000" spc="-1" strike="noStrike">
                <a:solidFill>
                  <a:srgbClr val="000000"/>
                </a:solidFill>
                <a:latin typeface="Calibri"/>
              </a:rPr>
              <a:t>The Chairman of TAC  to consult closely with selected partners e.g. AfDB, AUC and also to set up a working group in which a few TAC members and Human Resources specialists could serve with the view to finalizing the staff rules and financial regulation</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699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txBox="1"/>
          <p:nvPr/>
        </p:nvSpPr>
        <p:spPr>
          <a:xfrm>
            <a:off x="457200" y="333360"/>
            <a:ext cx="8229600" cy="6191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MCOW Work Programme 2011-2013: </a:t>
            </a:r>
            <a:r>
              <a:rPr b="0" lang="en-GB" sz="2000" spc="-1" strike="noStrike">
                <a:solidFill>
                  <a:srgbClr val="000000"/>
                </a:solidFill>
                <a:latin typeface="Calibri"/>
              </a:rPr>
              <a:t>Review and complement the version of the work programme (2011-2013) with input from members States and partners for it presentation and adoption at the next EXCO meeting in November 201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E</a:t>
            </a:r>
            <a:r>
              <a:rPr b="1" lang="en-GB" sz="2000" spc="-1" strike="noStrike">
                <a:solidFill>
                  <a:srgbClr val="000000"/>
                </a:solidFill>
                <a:latin typeface="Calibri"/>
              </a:rPr>
              <a:t>nhancing the financial base of AMCOW and the functioning in the Secretariat and hosting of the trust fu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Sub-committee made up of TAC members  be immediately formed to review the budgetary requirements for the AMCOW Secretari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Negotiations be conducted with UNEP and AfDB, and  a sub-committee of the TAC and the secretariat be established immediately to work on this process, and submit to the President of AMCOW by the end of September 2010 for a final decision by EXCO at the its meeting in November 2010</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UNEP submit the terminal financial report on the EU grant to AMCOW for the period up to end of October 201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Subcommittee be chaired by TAC Vice Chair for Central Afric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87D2-0A8D-4E74-B56E-E88FA16E5A0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BFDF-9ECD-4205-A43B-F36F2EE8D5D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p:nvPr>
        </p:nvSpPr>
        <p:spPr>
          <a:xfrm>
            <a:off x="457200" y="259920"/>
            <a:ext cx="8686800" cy="6597720"/>
          </a:xfrm>
          <a:prstGeom prst="rect">
            <a:avLst/>
          </a:prstGeom>
          <a:noFill/>
          <a:ln w="0">
            <a:noFill/>
          </a:ln>
        </p:spPr>
        <p:txBody>
          <a:bodyPr anchor="t">
            <a:normAutofit fontScale="90000"/>
          </a:bodyPr>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nhancing communications with the AUC and in particular the Department of Rural Economy and Agriculture of the AUC:</a:t>
            </a:r>
            <a:endParaRPr b="0" lang="en-US" sz="2000" spc="-1" strike="noStrike">
              <a:solidFill>
                <a:srgbClr val="000000"/>
              </a:solidFill>
              <a:latin typeface="Arial"/>
            </a:endParaRPr>
          </a:p>
          <a:p>
            <a:pPr marL="308520" indent="-30852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need to have an effective and enhanced communication strategy with member states, relevant African institutions and partners so as to keep them fully informed of progress made or needed in implementing the decisions and work program of AMCOW. </a:t>
            </a:r>
            <a:endParaRPr b="0" lang="en-US" sz="2000" spc="-1" strike="noStrike">
              <a:solidFill>
                <a:srgbClr val="000000"/>
              </a:solidFill>
              <a:latin typeface="Arial"/>
            </a:endParaRPr>
          </a:p>
          <a:p>
            <a:pPr marL="308520" indent="-30852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t was further recognized there is a need to institutionalize regular meetings between AMCOW and the Department of Rural Economy and Agriculture (DREA) of the African Union Commission</a:t>
            </a:r>
            <a:endParaRPr b="0" lang="en-US" sz="2000" spc="-1" strike="noStrike">
              <a:solidFill>
                <a:srgbClr val="000000"/>
              </a:solidFill>
              <a:latin typeface="Arial"/>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fDB / AWF</a:t>
            </a:r>
            <a:endParaRPr b="0" lang="en-US" sz="2000" spc="-1" strike="noStrike">
              <a:solidFill>
                <a:srgbClr val="000000"/>
              </a:solidFill>
              <a:latin typeface="Arial"/>
            </a:endParaRPr>
          </a:p>
          <a:p>
            <a:pPr marL="308520" indent="-30852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fDB on Water MDGs, AWF, RWSSI </a:t>
            </a:r>
            <a:r>
              <a:rPr b="0" lang="en-GB" sz="2000" spc="-1" strike="noStrike">
                <a:solidFill>
                  <a:srgbClr val="000000"/>
                </a:solidFill>
                <a:latin typeface="Calibri"/>
              </a:rPr>
              <a:t>– Welcomes the significant effort being made by the AfDB with regard to these initiatives and requested that an updated report be submitted to the November 2010 EXCO meeting</a:t>
            </a:r>
            <a:endParaRPr b="0" lang="en-US" sz="2000" spc="-1" strike="noStrike">
              <a:solidFill>
                <a:srgbClr val="000000"/>
              </a:solidFill>
              <a:latin typeface="Arial"/>
            </a:endParaRPr>
          </a:p>
          <a:p>
            <a:pPr marL="308520" indent="-30852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active participation in the planned RWSSI resource mobilization conference should be deemed as of crucial importance. </a:t>
            </a:r>
            <a:endParaRPr b="0" lang="en-US" sz="2000" spc="-1" strike="noStrike">
              <a:solidFill>
                <a:srgbClr val="000000"/>
              </a:solidFill>
              <a:latin typeface="Arial"/>
            </a:endParaRPr>
          </a:p>
          <a:p>
            <a:pPr marL="308520" indent="-30852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COW should nominate a representative to serve on the Steering Committee of the programme for infrastructure development in Africa.</a:t>
            </a:r>
            <a:endParaRPr b="0" lang="en-US" sz="2000" spc="-1" strike="noStrike">
              <a:solidFill>
                <a:srgbClr val="000000"/>
              </a:solidFill>
              <a:latin typeface="Arial"/>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022400" y="104040"/>
            <a:ext cx="822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56" name=""/>
          <p:cNvSpPr txBox="1"/>
          <p:nvPr/>
        </p:nvSpPr>
        <p:spPr>
          <a:xfrm>
            <a:off x="0" y="836640"/>
            <a:ext cx="9144000" cy="6021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W. Bank/WSP/Africa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WSP on follow up of eThekwini commitments on hygiene and sanitation, AfricaSan 3, CSO:</a:t>
            </a:r>
            <a:r>
              <a:rPr b="0" lang="en-GB" sz="2000" spc="-1" strike="noStrike">
                <a:solidFill>
                  <a:srgbClr val="000000"/>
                </a:solidFill>
                <a:latin typeface="Calibri"/>
              </a:rPr>
              <a:t> The country status overview report undertaken by the Water and Sanitation Programme for Africa of the World Bank on behalf of AMCOW should be a continuous process.   In support of this process AMCOW will seek funding from the Ban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FA4A-A9E2-4341-8AA5-F9CCD2349CB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8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E8EF-72B1-4B87-8057-9452DD0A620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NEW:</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NEW – CSO issues on WATSAN:</a:t>
            </a:r>
            <a:r>
              <a:rPr b="0" lang="en-GB" sz="2000" spc="-1" strike="noStrike">
                <a:solidFill>
                  <a:srgbClr val="000000"/>
                </a:solidFill>
                <a:latin typeface="Calibri"/>
              </a:rPr>
              <a:t> welcomes the space and platform created by ANEW for Civil Society contribution and Engagement towards achieving AMCOW objectives. In this spirit, a programme of work and engagement strategy which has been developed should be implemented full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WP on IWRM, Climate Change, and Managing Africa’s Trans-boundary Water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WRM – GWP and AMCOW sub-regions to evaluate the role of water in meeting all 8 MDGs and to contribute to the UNGA special summit in 2010.</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limate Change – GWP and TAC to strengthen consideration of water in a reducing vulnerability to adverse climate and contribute Africa’s common position to COP 16 and 17.</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naging Africa’s shared waters – A TAC sub-committee together with GWP to review UN-Water Course Convention in view of the Sharm el Sheikh decisions and report to EXCO in November 201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Espace réservé du pied de page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467A-B00D-4F2F-8253-01FE4FF677F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3"/>
          <p:cNvSpPr/>
          <p:nvPr/>
        </p:nvSpPr>
        <p:spPr>
          <a:xfrm>
            <a:off x="0" y="0"/>
            <a:ext cx="9144000" cy="104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frica Groundwater Commission</a:t>
            </a: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ommission hosted by the government of Libya.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CO designated the members  of Africa Groundwater Commission ,10 persons 2/ sub region listed as follows: Chair Dr. Omar Salem, Mr. Halifah Drammeh, Amb. Arba Diallo, Mr. Reginald Tekateka,Prof. Yongxin Xu, Mr. Tefera Woudeneh, Prof. George Khroda, Dr. Ahmed Khater, Dr. Gilbert-Ambroise Bongouande, Mr. Nselel Benoi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5 Women, one per sub-region to be included</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las of Africa’s Water Resourc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Atlas be finalized and where possible to include sub-regional information in the Atla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addition to those listed as authors of the foreword, the President of AMCOW proposed and EXCO endorsed that her Excellency, President Mrs. Johnson Sirleaf of Liberia should be one of the authors of the foreword.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much as possible the Atlas should be ready for formal presentation to EXCO at its meeting in November 2010</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
          <p:cNvSpPr txBox="1"/>
          <p:nvPr/>
        </p:nvSpPr>
        <p:spPr>
          <a:xfrm>
            <a:off x="457200" y="549000"/>
            <a:ext cx="8229600" cy="5576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a:t>
            </a:r>
            <a:r>
              <a:rPr b="1" lang="en-GB" sz="2000" spc="-1" strike="noStrike" baseline="30000">
                <a:solidFill>
                  <a:srgbClr val="000000"/>
                </a:solidFill>
                <a:latin typeface="Calibri"/>
              </a:rPr>
              <a:t>rd</a:t>
            </a:r>
            <a:r>
              <a:rPr b="1" lang="en-GB" sz="2000" spc="-1" strike="noStrike">
                <a:solidFill>
                  <a:srgbClr val="000000"/>
                </a:solidFill>
                <a:latin typeface="Calibri"/>
              </a:rPr>
              <a:t> World Water Week</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Minister of Ethiopia offered his country’s readiness to host the 3</a:t>
            </a:r>
            <a:r>
              <a:rPr b="0" lang="en-GB" sz="2000" spc="-1" strike="noStrike" baseline="30000">
                <a:solidFill>
                  <a:srgbClr val="000000"/>
                </a:solidFill>
                <a:latin typeface="Calibri"/>
              </a:rPr>
              <a:t>rd</a:t>
            </a:r>
            <a:r>
              <a:rPr b="0" lang="en-GB" sz="2000" spc="-1" strike="noStrike">
                <a:solidFill>
                  <a:srgbClr val="000000"/>
                </a:solidFill>
                <a:latin typeface="Calibri"/>
              </a:rPr>
              <a:t> Africa Water Week in November 2010.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CO unanimously endorsed the off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necessary host country agreement for the event should be negotiated forthwith and member states and partners invited to consider extending to the Government of Ethiopia all necessary financial, technical and logistical support for the ev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MCOW secretariat should explore with the UN-water Africa Agencies the possibility of securing the UN conference facilities in Addis Ababa for the purposes of the 3</a:t>
            </a:r>
            <a:r>
              <a:rPr b="0" lang="en-GB" sz="2000" spc="-1" strike="noStrike" baseline="30000">
                <a:solidFill>
                  <a:srgbClr val="000000"/>
                </a:solidFill>
                <a:latin typeface="Calibri"/>
              </a:rPr>
              <a:t>rd</a:t>
            </a:r>
            <a:r>
              <a:rPr b="0" lang="en-GB" sz="2000" spc="-1" strike="noStrike">
                <a:solidFill>
                  <a:srgbClr val="000000"/>
                </a:solidFill>
                <a:latin typeface="Calibri"/>
              </a:rPr>
              <a:t> Africa Water Week.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PAD,S/AMCOST water sciences centre of excellenc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ening of the working relations between AMCOW and AMCOST and in particular to hold consultations regarding the establishment and operations of the centres of excellence for water scienc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CF04-C869-4CFC-9597-EA9FE9A3AAC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txBox="1"/>
          <p:nvPr/>
        </p:nvSpPr>
        <p:spPr>
          <a:xfrm>
            <a:off x="457200" y="0"/>
            <a:ext cx="8229600" cy="6308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REP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CO instituted the implementation of the MOU between CREPA and AMCOW with the view to translating it into a programme of activities and within the broader context of the AMCOW triennial work programm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ettlement of Financial Commitment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CO endorsed the settlement of existing financial commitments notably, the outstanding salary arrears to the Executive Secretary as well as for services rendered, i.e. document preparation and translation into French in context of the 7</a:t>
            </a:r>
            <a:r>
              <a:rPr b="0" lang="en-GB" sz="2000" spc="-1" strike="noStrike" baseline="30000">
                <a:solidFill>
                  <a:srgbClr val="000000"/>
                </a:solidFill>
                <a:latin typeface="Calibri"/>
              </a:rPr>
              <a:t>th</a:t>
            </a:r>
            <a:r>
              <a:rPr b="0" lang="en-GB" sz="2000" spc="-1" strike="noStrike">
                <a:solidFill>
                  <a:srgbClr val="000000"/>
                </a:solidFill>
                <a:latin typeface="Calibri"/>
              </a:rPr>
              <a:t> session of AMCOW/2</a:t>
            </a:r>
            <a:r>
              <a:rPr b="0" lang="en-GB" sz="2000" spc="-1" strike="noStrike" baseline="30000">
                <a:solidFill>
                  <a:srgbClr val="000000"/>
                </a:solidFill>
                <a:latin typeface="Calibri"/>
              </a:rPr>
              <a:t>nd</a:t>
            </a:r>
            <a:r>
              <a:rPr b="0" lang="en-GB" sz="2000" spc="-1" strike="noStrike">
                <a:solidFill>
                  <a:srgbClr val="000000"/>
                </a:solidFill>
                <a:latin typeface="Calibri"/>
              </a:rPr>
              <a:t> Pan Africa Conference on implementation and partnership/2</a:t>
            </a:r>
            <a:r>
              <a:rPr b="0" lang="en-GB" sz="2000" spc="-1" strike="noStrike" baseline="30000">
                <a:solidFill>
                  <a:srgbClr val="000000"/>
                </a:solidFill>
                <a:latin typeface="Calibri"/>
              </a:rPr>
              <a:t>nd</a:t>
            </a:r>
            <a:r>
              <a:rPr b="0" lang="en-GB" sz="2000" spc="-1" strike="noStrike">
                <a:solidFill>
                  <a:srgbClr val="000000"/>
                </a:solidFill>
                <a:latin typeface="Calibri"/>
              </a:rPr>
              <a:t> Africa Water Week (South Africa November 2009)</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1E6E-8DAD-46A9-A731-B06FCD4F128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0T13:35:51Z</dcterms:created>
  <dc:creator>CHARLES  NGANGOUE</dc:creator>
  <dc:description/>
  <dc:language>en-US</dc:language>
  <cp:lastModifiedBy>Hyrdator</cp:lastModifiedBy>
  <dcterms:modified xsi:type="dcterms:W3CDTF">2010-09-09T14:05:59Z</dcterms:modified>
  <cp:revision>59</cp:revision>
  <dc:subject/>
  <dc:title>CONSEIL DES MINISTRES AFRICAINS DE L’EAU AMCOW </dc:title>
</cp:coreProperties>
</file>