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895-DDEA-4233-98B6-E99279D0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34F-654F-4498-9DA4-2F408A4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DAD-CF78-4A5B-94B4-6AB08588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B6B-6324-462D-9E4D-70F5EF32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82C-85A3-456C-ABCC-888FA96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6BB-F594-4D16-A79E-B44A35D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961-2CB2-4326-8B59-41E1D25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087-0DCC-4DCD-85F5-8FAA048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657-30C1-4426-A033-CB3704A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FEF-1095-4899-957E-8E3B4E2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3F4-68BA-4E1C-AD18-67E8F50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EDA-91A7-45B1-B5D8-DB6E079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C928-33C8-4369-B44E-2F49FC159F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WI-Africa Working Gro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WG meeting,</a:t>
            </a:r>
            <a:r>
              <a:rPr b="1" i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eptember 9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Update &amp; Progress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ick van Ginhoven, DGIS,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bristol MT outing 2006 083.jpg"/>
          <p:cNvPicPr/>
          <p:nvPr/>
        </p:nvPicPr>
        <p:blipFill>
          <a:blip r:embed="rId2"/>
          <a:stretch/>
        </p:blipFill>
        <p:spPr>
          <a:xfrm>
            <a:off x="2743200" y="2038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of AWG meeting in Cap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MG_0105.JPG"/>
          <p:cNvPicPr/>
          <p:nvPr/>
        </p:nvPicPr>
        <p:blipFill>
          <a:blip r:embed="rId1"/>
          <a:stretch/>
        </p:blipFill>
        <p:spPr>
          <a:xfrm>
            <a:off x="152280" y="160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6" descr="IMG_0104.JPG"/>
          <p:cNvPicPr/>
          <p:nvPr/>
        </p:nvPicPr>
        <p:blipFill>
          <a:blip r:embed="rId2"/>
          <a:stretch/>
        </p:blipFill>
        <p:spPr>
          <a:xfrm>
            <a:off x="3886200" y="2103480"/>
            <a:ext cx="6013440" cy="3306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MG_0101.JPG"/>
          <p:cNvPicPr/>
          <p:nvPr/>
        </p:nvPicPr>
        <p:blipFill>
          <a:blip r:embed="rId3"/>
          <a:stretch/>
        </p:blipFill>
        <p:spPr>
          <a:xfrm>
            <a:off x="380988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228600" y="115092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33520" y="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ting AMCOW road map &amp; AWG strategy (Cape Town meeting July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666880" y="10666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A4AGhana 2006 172-1.jpg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ghlights from the Africa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strate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2009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MG_0022.JPG"/>
          <p:cNvPicPr/>
          <p:nvPr/>
        </p:nvPicPr>
        <p:blipFill>
          <a:blip r:embed="rId2"/>
          <a:stretch/>
        </p:blipFill>
        <p:spPr>
          <a:xfrm>
            <a:off x="4267080" y="2133720"/>
            <a:ext cx="4496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ew strategy of AW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557360"/>
            <a:ext cx="83581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arify roles and responsibilities; more ownersh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trategy to be developed in a participatory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cess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sk team established in March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 participatory workshops, in July-Nov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duct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ulti-annual workplan 2009-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Strategic outline 2009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362800" cy="4781520"/>
        </p:xfrm>
        <a:graphic>
          <a:graphicData uri="http://schemas.openxmlformats.org/drawingml/2006/table">
            <a:tbl>
              <a:tblPr/>
              <a:tblGrid>
                <a:gridCol w="2801880"/>
                <a:gridCol w="5560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(examples of activ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oordination amongst EU don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finance available for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 insight in aid effectiveness in W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e effect on country level by harmon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logue between EU and non-EU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mproved policy dialogue with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ve dialogue with other donor group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nvolvement of other stakeholders i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of AWG known 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 and sharing with relevant stakehold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- Workplan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295280"/>
          <a:ext cx="8381880" cy="5508720"/>
        </p:xfrm>
        <a:graphic>
          <a:graphicData uri="http://schemas.openxmlformats.org/drawingml/2006/table">
            <a:tbl>
              <a:tblPr/>
              <a:tblGrid>
                <a:gridCol w="2808000"/>
                <a:gridCol w="557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c 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itation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S guidance paper (OECD-D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Code of Conduct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ation of regional learning and sharing SWAp ev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3 AWG meetings, of which 2 in Af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upport to participation of CSO in the AW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and improved communic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 of advocacy materi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 of AWG in 2010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640" y="1371600"/>
            <a:ext cx="8159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Implementation of  decla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RS guidance pap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improving sector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anitation mapping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mapping existing and future EU commitments on sanitation for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Aid Effectiveness orien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U Code of Conduct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status of implementation and adherence to Paris and Accra Decla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WAp sharing and learning ev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planned for November in Mozamb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Extra activities, linking to other global initi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or meeting (March 2010)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paration of H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eminar on aid effectiveness (SWWW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with S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burkina faso 033.jpg"/>
          <p:cNvPicPr/>
          <p:nvPr/>
        </p:nvPicPr>
        <p:blipFill>
          <a:blip r:embed="rId1"/>
          <a:stretch/>
        </p:blipFill>
        <p:spPr>
          <a:xfrm>
            <a:off x="2514600" y="0"/>
            <a:ext cx="7675560" cy="42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urkina faso 006.jpg"/>
          <p:cNvPicPr/>
          <p:nvPr/>
        </p:nvPicPr>
        <p:blipFill>
          <a:blip r:embed="rId2"/>
          <a:stretch/>
        </p:blipFill>
        <p:spPr>
          <a:xfrm>
            <a:off x="0" y="53352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ristol MT outing 2006 085.jpg"/>
          <p:cNvPicPr/>
          <p:nvPr/>
        </p:nvPicPr>
        <p:blipFill>
          <a:blip r:embed="rId3"/>
          <a:stretch/>
        </p:blipFill>
        <p:spPr>
          <a:xfrm>
            <a:off x="2438280" y="3314880"/>
            <a:ext cx="47246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nancial resources for AW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had the following financial re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rt from WFac (contract until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lateral support, from the acting co-chair &amp; other EU 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from mid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-thematic budget line (about 1m €, until 2012) through a UNDP trust f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ay forward,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&amp; integration of AMCOW road map with AWG multi-annual pl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of AWG Governance (Autumn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eption plan for UNDP Trust F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Workplan 2011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WG meeting Ethiopia (Nov 2010, AWW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11:07Z</dcterms:created>
  <dc:creator>uytewaal</dc:creator>
  <dc:description/>
  <cp:keywords/>
  <dc:language>en-US</dc:language>
  <cp:lastModifiedBy>Hyrdator</cp:lastModifiedBy>
  <cp:lastPrinted>2010-09-02T14:01:33Z</cp:lastPrinted>
  <dcterms:modified xsi:type="dcterms:W3CDTF">2010-09-09T14:06:33Z</dcterms:modified>
  <cp:revision>22</cp:revision>
  <dc:subject/>
  <dc:title>Slide 1</dc:title>
</cp:coreProperties>
</file>