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689-909C-4965-8CFE-1EE41ED5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728-8576-45A6-B2D1-3912DC1B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30E-3F76-4174-A1A9-54E6CF4C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2649-3300-4F72-8224-091DECAC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7B4-8CA0-4F78-8195-306C74FD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17E-EA31-4305-A103-5BE71BDC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B84-0501-4969-BAEE-CD8EFED5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B75-AEF1-4F62-A8A7-5FB5A753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DF4-689F-4EE3-906D-2066B269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9AA-55EC-4FA0-A486-A6AA8EC1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E22-5304-4670-B97C-5DE2AFEB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1B4-C3F8-47B4-9EE1-60DFBDAD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F55E-5BBD-46F5-B54B-BFEB0065EBC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UWI-Africa Working Grou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WG Meeting, 21 November,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rogress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Dick van Ginhoven, DGIS, The Nether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2666880" y="106668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pdate on progres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orkplan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WG - Workplan 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3520" y="1295280"/>
          <a:ext cx="8381880" cy="5508720"/>
        </p:xfrm>
        <a:graphic>
          <a:graphicData uri="http://schemas.openxmlformats.org/drawingml/2006/table">
            <a:tbl>
              <a:tblPr/>
              <a:tblGrid>
                <a:gridCol w="2808000"/>
                <a:gridCol w="5573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c Objec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of decla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itation ma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S guidance paper (OECD-DA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d effectiveness and efficienc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 Code of Conduct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ow-up on SWAp side event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ership and multi-stakeholder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3 AWG meetings, of which 2 in Afric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Support to participation of CSO in the AW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cacy and knowledge sha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d and improved communicati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Development of advocacy material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09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tivities of AWG in 2010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Nov 20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813600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Implementation of  decla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RS guidance pape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: improving sector monitoring, OECD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: Guidance note for Ministe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tus: Note is ready, ublication in Dec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Sanitation mapping stud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: mapping existing and future EU commitments on sanitation for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: report with data and information on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tus: draft report by early December, first results in AWW3-session (24 No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09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tivities of AWG in 2010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813600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Aid Effectiveness orien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EU Code of Conduct stud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: status of implementation and adherence to Paris and Accra Decla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: re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tus: draft report by early Dec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SWAp sharing and learning even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: sharing and learning event, sub-reg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: workshop documentation, case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tus: postponed to early 2011, back-to-back with other regional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09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tivities of AWG in 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813600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Multi-stakeholder Part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3 AWG meetings: July, Sept &amp; N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SO involvement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e have enabled 5 CSO rep’s to attend the AWG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Advocacy &amp; Knowledge sh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web-site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mmunications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 newsletters &amp; 2 email updates (EN&amp;F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2communications materials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riefing notes &amp; fact sheets: to be made from the studies’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09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tra activities of AWG in 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813600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Donor meeting to prepare the 1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Calibri"/>
              </a:rPr>
              <a:t>st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 HLM of S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initiative of AWG, focus on Africa, with EU+ particip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held in London, March 2010, hosted by DF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Dialogue Sessions on Aid Effect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Sept/SWWW: participation of SWA, AMCOW, GLAAS, Liberia,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Nov/AWW3: focus on Sanitation 5 Year Drive, together with SWA, AMCOW &amp; UNSG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inancial resources for AW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WG had the following financial re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pport from WFac (contract untill 20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ilateral support, from the acting co-chair &amp; other EU 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 from end-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C-thematic budget line (about 1m €, untill 2012) through a UNDP trust f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ay forward,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view of AWG Governance, financed by Netherlands, starting this 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w funding in 2010-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eption plan of UNDP: t.b.d.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plan 2011: t.b.d.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w Troika members: uncertain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06:25Z</dcterms:created>
  <dc:creator>uytewaal</dc:creator>
  <dc:description/>
  <dc:language>en-US</dc:language>
  <cp:lastModifiedBy>heylen</cp:lastModifiedBy>
  <cp:lastPrinted>2010-09-02T14:01:33Z</cp:lastPrinted>
  <dcterms:modified xsi:type="dcterms:W3CDTF">2010-11-18T09:04:32Z</dcterms:modified>
  <cp:revision>23</cp:revision>
  <dc:subject/>
  <dc:title>Slide 1</dc:title>
</cp:coreProperties>
</file>