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4B94-D41F-4E33-97B4-9ECFDA8E1AF3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7E2B-6B7E-4070-882A-4EBC9D79C2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f5494"/>
                </a:solidFill>
                <a:latin typeface="Arial"/>
              </a:rPr>
              <a:t>http://www.mines.gouv.ml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72E5-8EAA-4391-8533-C2EFC2F7C1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urce: Comp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C305-2559-48CE-BBC7-C2E192BC95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veral models exist to estimate the AETR of a given mining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ARI (Fiscal Analysis of Resources Indsutries), IMF: http://www.imf.org/external/np/fad/fari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TGI (Natural Resource Governance Institute): http://www.resourcegovernance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F925-3B1C-47EB-BD5B-A403A3371A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urce: Mali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SSISTANCE REPORT—MINING AND PETROLEUM TAXATION (DIAGNOSTIC ASSESSMENT)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ttps://www.imf.org/external/pubs/ft/scr/2015/cr15348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B8DC-7D1B-45CA-BD24-3CF9E47AF0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urce: Mali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SSISTANCE REPORT—MINING AND PETROLEUM TAXATION (DIAGNOSTIC ASSESSMENT)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ttps://www.imf.org/external/pubs/ft/scr/2015/cr15348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A193-B745-45A2-BCDE-E4C9BA869F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is chapter focuses on the mining industry. Artisanal mining raises particular issues, which are beyond the scope of this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 the upstream Oil sector (production), Production Sharing Arrangements apply and remain largely undisclo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achs, Jeffrey and Warner, Andrew (1995). "Natural Resource Abundance and Economic Growth". NBER Working Paper (5398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ffrey Sachs and Andrew Warner established a strong correlation between natural resource abundance and poor economic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CF17-87E8-4D60-BC19-8761AD421E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urce: IMF (20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A5D2-BC09-41B0-8F7B-8D1BF9E404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80E2-5D36-4DD8-B358-55CA3D1A3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D2A0-C185-4E94-91EA-78347010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9B08-CB6A-4B57-8479-325DCBE3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1663-6214-4FEF-BEF5-C8F84C03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27E0-7739-40D8-84C3-9E725600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B8CE-F9D9-47CE-A456-B7CDE9D6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1034-5A20-43CF-BEC7-D1817C93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2488-631E-4710-AD2C-6466BA23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FA5F-9F94-4A26-84DA-862A0CFB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9481-302B-4D87-9B70-DA81BB79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EAEF-50F3-4644-AF4E-DC124906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5781-EE2F-4E29-BD10-F250DBDA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F3DB-ECB1-4A93-A995-13B841DB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D8F9-A416-4B34-B0C4-7334EDEB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AFF1-793B-423C-AA79-54D750A1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0FAF-21BE-4AFB-9E3F-B3D166009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7B83-1B15-4C1F-897A-39E34BA1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A6AE-1166-4042-8454-D2E8C3EE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E471-0780-4AF8-B67F-395815CE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E6D0-780C-47A4-91B9-053E0585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2EB2-4A6B-4102-B9DB-C570FE88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4280-4AB3-4544-8266-BC260289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570B-E63E-4C3A-B726-5FD05B63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85B6-4E08-406D-8FAB-A150F9CE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rk Gallagher, Ph.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C36A-B15E-4E07-98D3-494CD062C2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648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6480">
            <a:solidFill>
              <a:srgbClr val="133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6480">
            <a:solidFill>
              <a:srgbClr val="133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Mark Gallagher, Ph.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8A02-3EB9-49E3-92B4-4E8B6500E7C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95280" y="2565360"/>
            <a:ext cx="504036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d624"/>
                </a:solidFill>
                <a:latin typeface="Verdana"/>
              </a:rPr>
              <a:t>Mining taxation</a:t>
            </a:r>
            <a:br>
              <a:rPr sz="28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1280" y="371628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Verdana"/>
              </a:rPr>
              <a:t>Module  7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TextBox 3"/>
          <p:cNvSpPr/>
          <p:nvPr/>
        </p:nvSpPr>
        <p:spPr>
          <a:xfrm flipH="1">
            <a:off x="3708360" y="4270320"/>
            <a:ext cx="417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omestic Revenue Mobilis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raining funded by the European Un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rainer: Grégoire Rota-Graziosi, CERDI-CNRS, Université Clermont Auvergne.</a:t>
            </a:r>
            <a:r>
              <a:rPr b="0" i="1" lang="en-US" sz="14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Transparency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14400" y="1844280"/>
            <a:ext cx="81532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Necessary (not sufficient) condition for any optimal tax regime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Extractive Industries Transparency Initiative (World Bank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ptembrer 2014 : 29 countries are conform, 17 candidate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f5494"/>
                </a:solidFill>
                <a:latin typeface="Verdana"/>
              </a:rPr>
              <a:t>Particular tax agreements ususally undisclosed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May differ significantly from the Mining Code and National Tax Laws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Some exceptions: for instance, Mali since 2014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f5494"/>
                </a:solidFill>
                <a:latin typeface="Verdana"/>
              </a:rPr>
              <a:t>Transparency is a tool to discriminate among MNEs.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All developed countries do not have the same diclosure constraints for their listed companies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Transparency : a tool to protect shareholders in rich countries may allow the protection of tax base in developing countries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Simplicity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060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f5494"/>
                </a:solidFill>
                <a:latin typeface="Verdana"/>
              </a:rPr>
              <a:t>Advantag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Improving transparency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Reducing compliance costs.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f5494"/>
                </a:solidFill>
                <a:latin typeface="Verdana"/>
              </a:rPr>
              <a:t>Ring fencing principle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Limiting a oil or mining company to only one extraction licence =&gt; One enterprise per mining site.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Applying a strict definition of mining sub-contractor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Stability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f5494"/>
                </a:solidFill>
                <a:latin typeface="Verdana"/>
              </a:rPr>
              <a:t>Irreversible investissement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f5494"/>
                </a:solidFill>
                <a:latin typeface="Verdana"/>
              </a:rPr>
              <a:t>=&gt; The stability of tax regime is necessary for the mining firms.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f5494"/>
                </a:solidFill>
                <a:latin typeface="Verdana"/>
              </a:rPr>
              <a:t>Avoiding the risk of expropriation through tax conditions adjustment.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f5494"/>
                </a:solidFill>
                <a:latin typeface="Verdana"/>
              </a:rPr>
              <a:t>Stability claus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f5494"/>
                </a:solidFill>
                <a:latin typeface="Verdana"/>
              </a:rPr>
              <a:t>Freeze the modality of mining rent sharing.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f5494"/>
                </a:solidFill>
                <a:latin typeface="Verdana"/>
              </a:rPr>
              <a:t>Several forms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f5494"/>
                </a:solidFill>
                <a:latin typeface="Verdana"/>
              </a:rPr>
              <a:t>Freeze the sharing by fixing tax rates for the lifetime of the mine.</a:t>
            </a:r>
            <a:endParaRPr b="0" lang="en-US" sz="13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f5494"/>
                </a:solidFill>
                <a:latin typeface="Verdana"/>
              </a:rPr>
              <a:t>Mutually accepted renegociation</a:t>
            </a:r>
            <a:endParaRPr b="0" lang="en-US" sz="13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f5494"/>
                </a:solidFill>
                <a:latin typeface="Verdana"/>
              </a:rPr>
              <a:t>Very long period (20 to 50 years)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Progressivity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227628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A mining tax regime is progressive if the mining rent share for the government increases automatically with the profitability of the mining project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Sharing the rent =&gt; sharing the risk to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Tax instruments: Tax Co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916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Corporate Income Tax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Reduced rate or increased rat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Exemptio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Capital depreciation rul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Tax in capital income (dividends, interest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DTA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OECD vs UN mod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Capital Gain Taxa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Indirect transfer of mining site through tax have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Exploration =&gt; Specul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f5494"/>
                </a:solidFill>
                <a:latin typeface="Verdana"/>
              </a:rPr>
              <a:t>Tax reduced the risk of speculation.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f5494"/>
                </a:solidFill>
                <a:latin typeface="Verdana"/>
              </a:rPr>
              <a:t>Tax Instruments: Specific tax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9640" y="1844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Land tax, registration fe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Nominal amou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Formalizing property righ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Ad valorem royal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Unitary rate or progressive rate (based on the commodity price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Tax based on tunrover, which may be reduced by some costs (transport, marketing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Signature bonuses, production bonu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Resource Rent Tax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Tax based on cash flows, which applies when the mining project reaches a given profitability threshold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Beyond tax instrumen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f5494"/>
                </a:solidFill>
                <a:latin typeface="Verdana"/>
              </a:rPr>
              <a:t>Free equity in mining firm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The State remains minority.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=&gt; Introduction of preference dividend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f5494"/>
                </a:solidFill>
                <a:latin typeface="Verdana"/>
              </a:rPr>
              <a:t>State-owned Mining Compani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The issue of privatization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Main characteristic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447920"/>
          <a:ext cx="8458200" cy="5046480"/>
        </p:xfrm>
        <a:graphic>
          <a:graphicData uri="http://schemas.openxmlformats.org/drawingml/2006/table">
            <a:tbl>
              <a:tblPr/>
              <a:tblGrid>
                <a:gridCol w="1927080"/>
                <a:gridCol w="1285920"/>
                <a:gridCol w="1285920"/>
                <a:gridCol w="1284480"/>
                <a:gridCol w="1285560"/>
                <a:gridCol w="1389240"/>
              </a:tblGrid>
              <a:tr h="7174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or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share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12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sk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lay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m. Cost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43040"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urce Rent Tax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T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éré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43040"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ing royalties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160"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tary rate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17760"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gressive rates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vé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41240"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ee equity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ng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e 3"/>
          <p:cNvGrpSpPr/>
          <p:nvPr/>
        </p:nvGrpSpPr>
        <p:grpSpPr>
          <a:xfrm>
            <a:off x="250920" y="1413000"/>
            <a:ext cx="7880400" cy="5163840"/>
            <a:chOff x="250920" y="1413000"/>
            <a:chExt cx="7880400" cy="5163840"/>
          </a:xfrm>
        </p:grpSpPr>
        <p:pic>
          <p:nvPicPr>
            <p:cNvPr id="134" name="Graphique 4" descr=""/>
            <p:cNvPicPr/>
            <p:nvPr/>
          </p:nvPicPr>
          <p:blipFill>
            <a:blip r:embed="rId1"/>
            <a:stretch/>
          </p:blipFill>
          <p:spPr>
            <a:xfrm>
              <a:off x="975240" y="1413000"/>
              <a:ext cx="7156080" cy="51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ZoneTexte 1"/>
            <p:cNvSpPr/>
            <p:nvPr/>
          </p:nvSpPr>
          <p:spPr>
            <a:xfrm>
              <a:off x="4559040" y="3783600"/>
              <a:ext cx="1793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investment profit</a:t>
              </a: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6" name="ZoneTexte 1"/>
            <p:cNvSpPr/>
            <p:nvPr/>
          </p:nvSpPr>
          <p:spPr>
            <a:xfrm>
              <a:off x="4679640" y="4452120"/>
              <a:ext cx="1792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government revenue</a:t>
              </a: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7" name="ZoneTexte 1"/>
            <p:cNvSpPr/>
            <p:nvPr/>
          </p:nvSpPr>
          <p:spPr>
            <a:xfrm>
              <a:off x="1825560" y="5017320"/>
              <a:ext cx="13744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investissement</a:t>
              </a: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8" name="ZoneTexte 1"/>
            <p:cNvSpPr/>
            <p:nvPr/>
          </p:nvSpPr>
          <p:spPr>
            <a:xfrm flipV="1">
              <a:off x="250920" y="4791600"/>
              <a:ext cx="6709680" cy="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Investment </a:t>
              </a: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return</a:t>
              </a: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9" name="ZoneTexte 1"/>
            <p:cNvSpPr/>
            <p:nvPr/>
          </p:nvSpPr>
          <p:spPr>
            <a:xfrm>
              <a:off x="1690560" y="5720760"/>
              <a:ext cx="13143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exploration </a:t>
              </a: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and development</a:t>
              </a: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40" name="ZoneTexte 1"/>
            <p:cNvSpPr/>
            <p:nvPr/>
          </p:nvSpPr>
          <p:spPr>
            <a:xfrm>
              <a:off x="5082840" y="5788800"/>
              <a:ext cx="96336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production</a:t>
              </a: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41" name="ZoneTexte 31"/>
            <p:cNvSpPr/>
            <p:nvPr/>
          </p:nvSpPr>
          <p:spPr>
            <a:xfrm flipV="1" rot="16200000">
              <a:off x="7145280" y="5724000"/>
              <a:ext cx="124452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rehabilitation</a:t>
              </a: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42" name="ZoneTexte 33"/>
            <p:cNvSpPr/>
            <p:nvPr/>
          </p:nvSpPr>
          <p:spPr>
            <a:xfrm rot="16200000">
              <a:off x="256680" y="2671920"/>
              <a:ext cx="194004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positive cash flow</a:t>
              </a: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cxnSp>
          <p:nvCxnSpPr>
            <p:cNvPr id="143" name="Connecteur droit avec flèche 13"/>
            <p:cNvCxnSpPr/>
            <p:nvPr/>
          </p:nvCxnSpPr>
          <p:spPr>
            <a:xfrm>
              <a:off x="1451160" y="5034240"/>
              <a:ext cx="10080" cy="1281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44" name="Connecteur droit 14"/>
            <p:cNvSpPr/>
            <p:nvPr/>
          </p:nvSpPr>
          <p:spPr>
            <a:xfrm flipH="1">
              <a:off x="3184560" y="5994000"/>
              <a:ext cx="19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cxnSp>
          <p:nvCxnSpPr>
            <p:cNvPr id="145" name="Connecteur droit avec flèche 15"/>
            <p:cNvCxnSpPr/>
            <p:nvPr/>
          </p:nvCxnSpPr>
          <p:spPr>
            <a:xfrm flipV="1">
              <a:off x="6053040" y="5976000"/>
              <a:ext cx="1539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46" name="Connecteur droit avec flèche 16"/>
            <p:cNvCxnSpPr/>
            <p:nvPr/>
          </p:nvCxnSpPr>
          <p:spPr>
            <a:xfrm flipV="1">
              <a:off x="1450800" y="1813320"/>
              <a:ext cx="1080" cy="310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5494"/>
                </a:solidFill>
                <a:latin typeface="Verdana"/>
              </a:rPr>
              <a:t>Sharing the rent: Average Effective Tax Rate (AETR) 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ETR = an indicator of the effective tax burden or equivalently the governmental share of mining rent.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= Ratio of the discounted value of cash flows of tax revenues and the discounted value of the mining project.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f5494"/>
                </a:solidFill>
                <a:latin typeface="Verdana"/>
              </a:rPr>
              <a:t>The value of the AETR depends on the discounted rate.</a:t>
            </a: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Outlin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Introduc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Principles of an optimal taxation of the mining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Current mining taxation regi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Sharing the mining r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Espace réservé du pied de pag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rk Gallagher, Ph.D.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37AB-4E07-4158-B1A5-B291992C160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289080" y="990720"/>
            <a:ext cx="85532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2491920"/>
            <a:ext cx="8229600" cy="3529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230040" y="1197000"/>
            <a:ext cx="868212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Introduction: The characteristics of the mining industry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Resource curs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Resource rich countries have a lower growth rate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Taxation: Acountability and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Mircoeconomic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Sunk costs, irreversible investment =&gt; hold-up issue/ time inconsistency –commitment issu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Risks: Technology, economics, politics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Macroeconcomic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Worldwide supply and demand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Volatility of commodity pri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Super-cycles (30 years) :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f5494"/>
                </a:solidFill>
                <a:latin typeface="Verdana"/>
              </a:rPr>
              <a:t>USA end of XIXth century, Europ and Japan (1945-1975), China (2000-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Resource-rich countries in Afric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22A6-E200-4B66-A64F-24DFD9A798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826920" y="1895400"/>
            <a:ext cx="734544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f5494"/>
                </a:solidFill>
                <a:latin typeface="Verdana"/>
              </a:rPr>
              <a:t>Volatility of commodity prices</a:t>
            </a:r>
            <a:r>
              <a:rPr b="1" lang="fr-FR" sz="3600" spc="-1" strike="noStrike">
                <a:solidFill>
                  <a:srgbClr val="2d5ec1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582444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Supply: an increasing produc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1371600" y="1150920"/>
            <a:ext cx="655308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Demand: The role of Chin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5911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Sharing the mining ren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f5494"/>
                </a:solidFill>
                <a:latin typeface="Verdana"/>
              </a:rPr>
              <a:t>Mining tax regime= a derogatory tax regime (different from the standard tax regime) =&gt; Mining Cod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f5494"/>
                </a:solidFill>
                <a:latin typeface="Verdana"/>
              </a:rPr>
              <a:t>Result of trade-off between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f5494"/>
                </a:solidFill>
                <a:latin typeface="Verdana"/>
              </a:rPr>
              <a:t>Attracting foreign investors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f5494"/>
                </a:solidFill>
                <a:latin typeface="Verdana"/>
              </a:rPr>
              <a:t>Obtaining a fair share of the miing rent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f5494"/>
                </a:solidFill>
                <a:latin typeface="Verdana"/>
              </a:rPr>
              <a:t>Several mining tax regimes depending on the production cycl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f5494"/>
                </a:solidFill>
                <a:latin typeface="Verdana"/>
              </a:rPr>
              <a:t>Exploration (no economic activity, no turnover, but potential capital gains)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f5494"/>
                </a:solidFill>
                <a:latin typeface="Verdana"/>
              </a:rPr>
              <a:t>Extraction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f5494"/>
                </a:solidFill>
                <a:latin typeface="Verdana"/>
              </a:rPr>
              <a:t>Exploration (pas d’activité économique, CA)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f5494"/>
                </a:solidFill>
                <a:latin typeface="Verdana"/>
              </a:rPr>
              <a:t>Artisanal producers.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Some principles of an optimal mining tax regim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f5494"/>
                </a:solidFill>
                <a:latin typeface="Verdana"/>
              </a:rPr>
              <a:t>Transparency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f5494"/>
                </a:solidFill>
                <a:latin typeface="Verdana"/>
              </a:rPr>
              <a:t>Simplicity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f5494"/>
                </a:solidFill>
                <a:latin typeface="Verdana"/>
              </a:rPr>
              <a:t>Stability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f5494"/>
                </a:solidFill>
                <a:latin typeface="Verdana"/>
              </a:rPr>
              <a:t>Progressivity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grrotagr</cp:lastModifiedBy>
  <cp:lastPrinted>2016-01-22T00:10:01Z</cp:lastPrinted>
  <dcterms:modified xsi:type="dcterms:W3CDTF">2017-04-06T13:52:30Z</dcterms:modified>
  <cp:revision>173</cp:revision>
  <dc:subject/>
  <dc:title>Slide 1</dc:title>
</cp:coreProperties>
</file>