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DEDE-2830-42CF-982D-803453A8BEA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490-CD4C-47B3-8B58-898D04988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Arial"/>
              </a:rPr>
              <a:t>http://www.mines.gouv.m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728E-5067-4AA6-ACFF-143A5279AA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Comp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691-6D3F-4CA8-BDB0-9778E12C1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veral models exist to estimate the AETR of a given mining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ARI (Fiscal Analysis of Resources Indsutries), IMF: http://www.imf.org/external/np/fad/fari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TGI (Natural Resource Governance Institute): http://www.resourcegovernance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597-8092-430B-BFCB-170A1B905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Mal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SSISTANCE REPORT—MINING AND PETROLEUM TAXATION (DIAGNOSTIC ASSESSMENT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s://www.imf.org/external/pubs/ft/scr/2015/cr1534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49D0-BE90-4EFC-881C-F2D146E2A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Mal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SSISTANCE REPORT—MINING AND PETROLEUM TAXATION (DIAGNOSTIC ASSESSMENT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s://www.imf.org/external/pubs/ft/scr/2015/cr1534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D997-C12B-4674-BF48-04EECCEA1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chapter focuses on the mining industry. Artisanal mining raises particular issues, which are beyond the scope of this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 the upstream Oil sector (production), Production Sharing Arrangements apply and remain largely undis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achs, Jeffrey and Warner, Andrew (1995). "Natural Resource Abundance and Economic Growth". NBER Working Paper (539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rey Sachs and Andrew Warner established a strong correlation between natural resource abundance and poor economic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E82E-1C39-4590-B09C-2B0B4B409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IMF (20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E62C-1118-40CA-8AAA-705430F7B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12C-BD48-4AA3-A2F8-40F5CEFE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524-4E0D-431E-88E8-7265500B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405-998E-4F4E-8540-1CF750FD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5F3-0D21-4B40-BADF-E61369A3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05BB-8D72-4458-855E-86324AEB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575C-DB94-41E3-BA81-12453586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41E8-57BF-4081-9450-F75CDC18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2683-C205-484B-902D-2214FFF8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7E47-0E14-4766-9DF0-5C6C3062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DE2B-035B-49B2-8D17-6EE911B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2990-650B-4688-A088-990A50BF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0A6-AB31-48AE-B5BA-99510FA7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F640-17D8-468E-A170-57813A0E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5794-C7AC-4D96-BA64-2520CE1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21A3-05CF-4D78-B3C3-2BEE4C56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BB5-3AB1-4765-A36C-785C801D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BF13-5351-4C02-A290-B0346DD1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289-92B7-4919-938B-24374C1B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7EB-93F6-4574-9A83-CE6F97D8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FE2-D98E-43C2-8FCE-D52ECD7A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19A-A1A2-4CCE-A4D1-BEB3A1B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681-A8EE-421A-9E2E-E630978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C9F-21F0-4A44-966C-CF2CF2E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C49-571B-4CC9-B7DE-05DB0428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Gallagher, Ph.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8412-2E48-4D24-AF2A-7521ABA26C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648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6480">
            <a:solidFill>
              <a:srgbClr val="133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Mark Gallagher, Ph.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8CF9-530A-47CE-BA3E-096ACB26008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Mining taxation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Module  7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TextBox 3"/>
          <p:cNvSpPr/>
          <p:nvPr/>
        </p:nvSpPr>
        <p:spPr>
          <a:xfrm flipH="1">
            <a:off x="3708360" y="42703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mestic Revenue Mobilis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ining funded by the European Un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iner: Grégoire Rota-Graziosi, CERDI-CNRS, Université Clermont Auvergne.</a:t>
            </a:r>
            <a:r>
              <a:rPr b="0" i="1" lang="en-US" sz="1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844280"/>
            <a:ext cx="8153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ecessary (not sufficient) condition for any optimal tax regime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tractive Industries Transparency Initiative (World Bank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ptembrer 2014 : 29 countries are conform, 17 candidate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Particular tax agreements ususally undisclos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May differ significantly from the Mining Code and National Tax Law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ome exceptions: for instance, Mali since 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Transparency is a tool to discriminate among MNEs.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ll developed countries do not have the same diclosure constraints for their listed companie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Transparency : a tool to protect shareholders in rich countries may allow the protection of tax base in developing countrie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implic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Advantag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Improving transparenc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educing compliance cost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Ring fencing principl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imiting a oil or mining company to only one extraction licence =&gt; One enterprise per mining site.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Applying a strict definition of mining sub-contracto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a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Irreversible investissement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=&gt; The stability of tax regime is necessary for the mining firms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Avoiding the risk of expropriation through tax conditions adjustment.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Stability claus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Freeze the modality of mining rent sharing.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Several form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f5494"/>
                </a:solidFill>
                <a:latin typeface="Verdana"/>
              </a:rPr>
              <a:t>Freeze the sharing by fixing tax rates for the lifetime of the mine.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f5494"/>
                </a:solidFill>
                <a:latin typeface="Verdana"/>
              </a:rPr>
              <a:t>Mutually accepted renegociation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f5494"/>
                </a:solidFill>
                <a:latin typeface="Verdana"/>
              </a:rPr>
              <a:t>Very long period (20 to 50 years)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Progressiv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2276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A mining tax regime is progressive if the mining rent share for the government increases automatically with the profitability of the mining project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haring the rent =&gt; sharing the risk to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Tax instruments: Tax Co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orporate Income Ta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duced rate or increased r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emp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apital depreciation ru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Tax in capital income (dividends, interest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DT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OECD vs UN mod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apital Gain Tax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ndirect transfer of mining site through tax have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ploration =&gt; Spec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Tax reduced the risk of speculation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Verdana"/>
              </a:rPr>
              <a:t>Tax Instruments: Specific tax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Land tax, registration fe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Nominal am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ormalizing property righ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Ad valorem royal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Unitary rate or progressive rate (based on the commodity pric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 based on tunrover, which may be reduced by some costs (transport, marketing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ignature bonuses, production bonu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Resource Rent Ta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 based on cash flows, which applies when the mining project reaches a given profitability threshold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Beyond tax instru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Free equity in mining firm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The State remains minority.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=&gt; Introduction of preference dividend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State-owned Mining Compan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The issue of privatizat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ain characteristic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8458200" cy="5046480"/>
        </p:xfrm>
        <a:graphic>
          <a:graphicData uri="http://schemas.openxmlformats.org/drawingml/2006/table">
            <a:tbl>
              <a:tblPr/>
              <a:tblGrid>
                <a:gridCol w="1927080"/>
                <a:gridCol w="1285920"/>
                <a:gridCol w="1285920"/>
                <a:gridCol w="1284480"/>
                <a:gridCol w="1285560"/>
                <a:gridCol w="1389240"/>
              </a:tblGrid>
              <a:tr h="717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or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shar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k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m. Cos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3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Rent Tax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éré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3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ng royalti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ary 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7760"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essive rat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vé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e equit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e 3"/>
          <p:cNvGrpSpPr/>
          <p:nvPr/>
        </p:nvGrpSpPr>
        <p:grpSpPr>
          <a:xfrm>
            <a:off x="250920" y="1413000"/>
            <a:ext cx="7880400" cy="5163840"/>
            <a:chOff x="250920" y="1413000"/>
            <a:chExt cx="7880400" cy="5163840"/>
          </a:xfrm>
        </p:grpSpPr>
        <p:pic>
          <p:nvPicPr>
            <p:cNvPr id="134" name="Graphique 4" descr=""/>
            <p:cNvPicPr/>
            <p:nvPr/>
          </p:nvPicPr>
          <p:blipFill>
            <a:blip r:embed="rId1"/>
            <a:stretch/>
          </p:blipFill>
          <p:spPr>
            <a:xfrm>
              <a:off x="975240" y="1413000"/>
              <a:ext cx="7156080" cy="51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ZoneTexte 1"/>
            <p:cNvSpPr/>
            <p:nvPr/>
          </p:nvSpPr>
          <p:spPr>
            <a:xfrm>
              <a:off x="4559040" y="3783600"/>
              <a:ext cx="179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ment profi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6" name="ZoneTexte 1"/>
            <p:cNvSpPr/>
            <p:nvPr/>
          </p:nvSpPr>
          <p:spPr>
            <a:xfrm>
              <a:off x="4679640" y="4452120"/>
              <a:ext cx="179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government revenue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7" name="ZoneTexte 1"/>
            <p:cNvSpPr/>
            <p:nvPr/>
          </p:nvSpPr>
          <p:spPr>
            <a:xfrm>
              <a:off x="1825560" y="5017320"/>
              <a:ext cx="1374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issemen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8" name="ZoneTexte 1"/>
            <p:cNvSpPr/>
            <p:nvPr/>
          </p:nvSpPr>
          <p:spPr>
            <a:xfrm flipV="1">
              <a:off x="250920" y="4791600"/>
              <a:ext cx="670968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Investment 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retur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9" name="ZoneTexte 1"/>
            <p:cNvSpPr/>
            <p:nvPr/>
          </p:nvSpPr>
          <p:spPr>
            <a:xfrm>
              <a:off x="1690560" y="5720760"/>
              <a:ext cx="1314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exploration 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and development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0" name="ZoneTexte 1"/>
            <p:cNvSpPr/>
            <p:nvPr/>
          </p:nvSpPr>
          <p:spPr>
            <a:xfrm>
              <a:off x="5082840" y="5788800"/>
              <a:ext cx="9633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1" name="ZoneTexte 31"/>
            <p:cNvSpPr/>
            <p:nvPr/>
          </p:nvSpPr>
          <p:spPr>
            <a:xfrm flipV="1" rot="16200000">
              <a:off x="7145280" y="5724000"/>
              <a:ext cx="1244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rehabilitation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2" name="ZoneTexte 33"/>
            <p:cNvSpPr/>
            <p:nvPr/>
          </p:nvSpPr>
          <p:spPr>
            <a:xfrm rot="16200000">
              <a:off x="256680" y="2671920"/>
              <a:ext cx="19400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alibri"/>
                </a:rPr>
                <a:t>positive cash flow</a:t>
              </a: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43" name="Connecteur droit avec flèche 13"/>
            <p:cNvCxnSpPr/>
            <p:nvPr/>
          </p:nvCxnSpPr>
          <p:spPr>
            <a:xfrm>
              <a:off x="1451160" y="5034240"/>
              <a:ext cx="10080" cy="128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4" name="Connecteur droit 14"/>
            <p:cNvSpPr/>
            <p:nvPr/>
          </p:nvSpPr>
          <p:spPr>
            <a:xfrm flipH="1">
              <a:off x="3184560" y="5994000"/>
              <a:ext cx="19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45" name="Connecteur droit avec flèche 15"/>
            <p:cNvCxnSpPr/>
            <p:nvPr/>
          </p:nvCxnSpPr>
          <p:spPr>
            <a:xfrm flipV="1">
              <a:off x="6053040" y="5976000"/>
              <a:ext cx="1539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6" name="Connecteur droit avec flèche 16"/>
            <p:cNvCxnSpPr/>
            <p:nvPr/>
          </p:nvCxnSpPr>
          <p:spPr>
            <a:xfrm flipV="1">
              <a:off x="1450800" y="1813320"/>
              <a:ext cx="1080" cy="31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Sharing the rent: Average Effective Tax Rate (AETR)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ETR = an indicator of the effective tax burden or equivalently the governmental share of mining rent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= Ratio of the discounted value of cash flows of tax revenues and the discounted value of the mining project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f5494"/>
                </a:solidFill>
                <a:latin typeface="Verdana"/>
              </a:rPr>
              <a:t>The value of the AETR depends on the discounted rate.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Introduc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Principles of an optimal taxation of the min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Current mining taxation regi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haring the mining r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Gallagher, Ph.D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6390-6DB6-4260-A28F-3EA0C7EA7B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89080" y="990720"/>
            <a:ext cx="8553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30040" y="1197000"/>
            <a:ext cx="8682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Introduction: The characteristics of the mining industr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Resource cur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source rich countries have a lower growth rate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axation: Acountability an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Mircoeconomic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nk costs, irreversible investment =&gt; hold-up issue/ time inconsistency –commitment issu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ks: Technology, economics, politic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Macroeconcomic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Worldwide supply and deman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Volatility of commodity pr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per-cycles (30 years) 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USA end of XIXth century, Europ and Japan (1945-1975), China (2000-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Resource-rich countries in Afric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BB6-2BC8-47B3-A954-408FEB9F34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895400"/>
            <a:ext cx="73454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Verdana"/>
              </a:rPr>
              <a:t>Volatility of commodity prices</a:t>
            </a:r>
            <a:r>
              <a:rPr b="1" lang="fr-FR" sz="3600" spc="-1" strike="noStrike">
                <a:solidFill>
                  <a:srgbClr val="2d5ec1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8244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upply: an increasing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371600" y="1150920"/>
            <a:ext cx="65530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Demand: The role of Chin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91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haring the mining ren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Mining tax regime= a derogatory tax regime (different from the standard tax regime) =&gt; Mining Cod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Result of trade-off betwee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Attracting foreign investor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Obtaining a fair share of the miing rent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Several mining tax regimes depending on the production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ploration (no economic activity, no turnover, but potential capital gains)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traction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Exploration (pas d’activité économique, CA)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f5494"/>
                </a:solidFill>
                <a:latin typeface="Verdana"/>
              </a:rPr>
              <a:t>Artisanal producers.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ome principles of an optimal mining tax regim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Simplic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Stabil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Progressivity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grrotagr</cp:lastModifiedBy>
  <cp:lastPrinted>2016-01-22T00:10:01Z</cp:lastPrinted>
  <dcterms:modified xsi:type="dcterms:W3CDTF">2017-04-06T13:52:30Z</dcterms:modified>
  <cp:revision>173</cp:revision>
  <dc:subject/>
  <dc:title>Slide 1</dc:title>
</cp:coreProperties>
</file>