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D92E-6F46-4A08-8759-16FE87F3D08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B417-0294-44B7-B20B-623A567500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gain that there is a firm at each step of the production process.</a:t>
            </a:r>
            <a:br>
              <a:rPr sz="1200"/>
            </a:br>
            <a:r>
              <a:rPr b="0" lang="fr-FR" sz="1200" spc="-1" strike="noStrike">
                <a:solidFill>
                  <a:srgbClr val="000000"/>
                </a:solidFill>
                <a:latin typeface="Arial"/>
              </a:rPr>
              <a:t>We apply a VAT at the rate 17 percent.</a:t>
            </a:r>
            <a:endParaRPr b="0" lang="en-US" sz="12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24EA-7BDB-4508-905E-E44E8D527E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duction process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T is neutral since the price to the final consumer would be strictly the same with an vertically integrated firm or without.</a:t>
            </a:r>
            <a:endParaRPr b="0" lang="en-US" sz="1200" spc="-1" strike="noStrike">
              <a:solidFill>
                <a:srgbClr val="000000"/>
              </a:solidFill>
              <a:latin typeface="Arial"/>
            </a:endParaRPr>
          </a:p>
        </p:txBody>
      </p:sp>
      <p:sp>
        <p:nvSpPr>
          <p:cNvPr id="21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7FA6-6703-4235-BDE4-167B5536BC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goods or services are not VAT deductible (for instance petroleum products in Europea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the dif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 only the final stage or on impor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ed: VAT payment removed from entire value chain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ing can harm domestic industry. Only apply in cases where there is no domestic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ing best left only to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A6C8-175D-48DE-AA17-01F694D386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F5E2-F4E5-4654-B868-C6C0A7585CDD}" type="slidenum">
              <a:rPr b="0" lang="it-IT"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fficiency is the ratio of collected VAT revenue/potential VAT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tential VAT revenue = final consumption * VAT rate.</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F350-F483-44F1-B2E3-DCC51940AA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BCEAO and BEAC (Central Banks of WAEMU and CEM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efficiency is an approximation of the VAT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lf-consumption may differ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E995-9CE4-4A7F-90D8-5F3007F6AE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T </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pt of “value added”</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does the VAT work</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onomic efficiency of the VAT</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mption versus zero-rating</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idence </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erty tax</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fficiency and incidence</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ous cycle and local taxationn</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36A7-BFEB-465E-BF66-3AAFC07AF9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common to read similar previous analysis about VAT in developing countries.</a:t>
            </a:r>
            <a:endParaRPr b="0" lang="en-US" sz="1200" spc="-1" strike="noStrike">
              <a:solidFill>
                <a:srgbClr val="000000"/>
              </a:solidFill>
              <a:latin typeface="Arial"/>
            </a:endParaRPr>
          </a:p>
        </p:txBody>
      </p:sp>
      <p:sp>
        <p:nvSpPr>
          <p:cNvPr id="23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85A1-DAEA-42BE-952E-79A60C6B71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976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ensation means that VAT credits are used to pay other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omplexifies significantly the follow-up of the performance of each tax and may be a source of evasion/fraud.</a:t>
            </a:r>
            <a:endParaRPr b="0" lang="en-US" sz="1200" spc="-1" strike="noStrike">
              <a:solidFill>
                <a:srgbClr val="000000"/>
              </a:solidFill>
              <a:latin typeface="Arial"/>
            </a:endParaRPr>
          </a:p>
        </p:txBody>
      </p:sp>
      <p:sp>
        <p:nvSpPr>
          <p:cNvPr id="23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C99F-ADCE-41EC-95F3-B19AF2D3B8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lity: several schools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economy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ity is a byproduct of poverty.</a:t>
            </a:r>
            <a:br>
              <a:rPr sz="1200"/>
            </a:br>
            <a:r>
              <a:rPr b="0" lang="en-US" sz="1200" spc="-1" strike="noStrike">
                <a:solidFill>
                  <a:srgbClr val="000000"/>
                </a:solidFill>
                <a:latin typeface="Arial"/>
              </a:rPr>
              <a:t>Hernando De Soto (1989, 2000), see informal firms as an untapped reservoir of entrepreneurial energy, held back by government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rta and Schleifer (2014), Inofrmality and Development, Journal of Economic Perspective, 28 (3), 109-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rst, the informal economy is huge, especially in developing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has extremely low productivity compared to the formal economy.</a:t>
            </a:r>
            <a:br>
              <a:rPr sz="1200"/>
            </a:br>
            <a:r>
              <a:rPr b="0" lang="en-US" sz="1200" spc="-1" strike="noStrike">
                <a:solidFill>
                  <a:srgbClr val="000000"/>
                </a:solidFill>
                <a:latin typeface="Arial"/>
              </a:rPr>
              <a:t>Third, although avoidance of taxes and regulations is an important reason for informality, the productivity of informal firms is too low for them to thrive in the formal sector. Lowering registration costs neither brings many informal firms into the formal sector, nor unleashes economic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informal economy is largely disconnected from the formal economy. Informal firms rarely transition to formality, and continue their existence, often for years or even decades, without much growth 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as countries grow and develop, the informal economy eventually shrinks, and the formal economy comes to dominate economic life.”</a:t>
            </a:r>
            <a:br>
              <a:rPr sz="1200"/>
            </a:br>
            <a:br>
              <a:rPr sz="1200"/>
            </a:br>
            <a:r>
              <a:rPr b="0" lang="en-US" sz="1200" spc="-1" strike="noStrike">
                <a:solidFill>
                  <a:srgbClr val="000000"/>
                </a:solidFill>
                <a:latin typeface="Arial"/>
              </a:rPr>
              <a:t>Hoseini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der the input refund system of the VAT, formal enterprises desire to receive VAT credit on inputs and, as a result,</a:t>
            </a:r>
            <a:br>
              <a:rPr sz="1200"/>
            </a:br>
            <a:r>
              <a:rPr b="0" lang="en-US" sz="1200" spc="-1" strike="noStrike">
                <a:solidFill>
                  <a:srgbClr val="000000"/>
                </a:solidFill>
                <a:latin typeface="Arial"/>
              </a:rPr>
              <a:t>inform the tax administration about their purch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entive, also labeled as “self-enforcing” mechanism, provides third-party reported records on sales to formal clients and helps the administration to find informal suppl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all clients are informal firms or final consumers, no record of purchase is reported and the mechanism breaks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third-party reporting feature of the VAT varies across different activities based on the formality status of the clients.”</a:t>
            </a: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D8A9-FD07-4C68-A2C4-0FC6D69A75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2853-B35D-4237-9263-D62FABD7BF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976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oweini, M., 2015, </a:t>
            </a:r>
            <a:r>
              <a:rPr b="0" lang="en-US" sz="1200" spc="-1" strike="noStrike">
                <a:solidFill>
                  <a:srgbClr val="000000"/>
                </a:solidFill>
                <a:latin typeface="Arial"/>
              </a:rPr>
              <a:t>VALUE-ADDED TAX AND SHADOW ECONOMY: THE ROLE OF INPUT-OUTPUT LINKAGES, WP Tilburg University.</a:t>
            </a:r>
            <a:br>
              <a:rPr sz="1200"/>
            </a:br>
            <a:br>
              <a:rPr sz="1200"/>
            </a:br>
            <a:endParaRPr b="0" lang="en-US" sz="1200" spc="-1" strike="noStrike">
              <a:solidFill>
                <a:srgbClr val="000000"/>
              </a:solidFill>
              <a:latin typeface="Arial"/>
            </a:endParaRPr>
          </a:p>
        </p:txBody>
      </p:sp>
      <p:sp>
        <p:nvSpPr>
          <p:cNvPr id="24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11EB-3C08-4FB7-8CCA-F91C4862F3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976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4B19-C2C2-47E3-B6B6-79DA405BCA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976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AE2B-CEDF-4BBB-AFD5-3B58A64A4A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2011.</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0894-66CE-44C3-86F5-C3871F640B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6BD9-8F47-4E8D-9CCF-4CCC4D4859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series of credits and deb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out the production or commercialization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and foreig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or good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deb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de and domestic trans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f-enfor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ual base is consum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8138-EF3D-4E66-B0C7-F0F341638F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ax is eventually borne by the final consumer of the good or service that is taxed, the final consumer does not go to the tax office to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payers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ducers of inputs remit VAT payment they collect from next stage of production or commercialization on to the Tax Administration, but first they net our any VAT payments that might have been collected from them on earlier stage inputs or on earlier stage inputs that might have been paid on import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 of final good remit VAT payment they collect from the wholesaler to the Tax Administration, but first they net out what was collected from them by the input produc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rs remit VAT payment they collect from retailers and remit to the Tax Administration, but first they net out what they have paid in VAT that was collected from the by the produc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ers remit VAT payment they collection from their retail customers to the Tax Administration, but first they net out what VAT was collected from them by the wholesal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consumer, who in the end is the person who is really paying the tax, never has to remit directly to the Tax Administration. This is one reason for why VAT is an “indirect tax” since the tax is paid indirectly by persons other than the person who is the final taxpayer.</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VAT payments are “withheld” from some business partners, companies act as agents for the Tax Author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ompanies or suppliers are not required to participate in the VAT system because they are below the “threshold” and therefore in some countries, VAT participating companies are required to “withhold” VAT from the payment they make to these suppliers and cannot net it out of their own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paid on the basis of what we collect from our customers less what we paid our suppl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C0CC-5F01-4E0F-AD23-5D61E5A237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n economic sector with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first assume that a firm operate at at each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study the case of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0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E330-8502-4432-8DDE-11A10B67CE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now assume that the sector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aring the two table, we observe the cascading effect of any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 exactly the same cost and margin at each step of the production, a vertically intergated firm would be able to sell its good to the final consumer at a lower price, or equivalently, will be more profitable.</a:t>
            </a:r>
            <a:endParaRPr b="0" lang="en-US" sz="1200" spc="-1" strike="noStrike">
              <a:solidFill>
                <a:srgbClr val="000000"/>
              </a:solidFill>
              <a:latin typeface="Arial"/>
            </a:endParaRPr>
          </a:p>
        </p:txBody>
      </p:sp>
      <p:sp>
        <p:nvSpPr>
          <p:cNvPr id="20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FC21-25AD-4F84-8CD9-9D8D1120C7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2D987-779A-425A-9F82-295CC9A6A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624D-3C3A-4B73-AE2A-D536A9B0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0B3A5-2AAB-4C68-964A-2E450572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A5E8F-6E0A-4042-AD7E-54094F953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12B99-A48D-4671-9194-2006B503A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AD73A-5343-4D8E-8EDE-26CEB8F0C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60982-2350-4801-AD30-BE0D7CE73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6F9A2-B652-43E9-86D8-42036ADCD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BD69B-21B6-4111-9C8B-C164BBD47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C580B-E3E6-4E53-A389-C01972F2A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192DA-3F7B-45B0-963F-9FE33FF0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8A6E-A148-40C4-A7C3-F61CD1432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32607-A131-4E59-8691-0063A43D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EF57-4578-40A6-84E3-41D0417C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23DB5-E671-4131-9665-D6C2B0DE9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AFC0D-85A1-493D-BFCC-0967E1DB5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3096F-A6F4-4B19-86FE-4F061ED09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CF00-4788-40CE-9CD3-889EF2F22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4773-4D09-4445-AA66-3E4E68B79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2989-4436-4433-BC90-13D7A508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5C9F-0CC3-4908-8871-279224BF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B097-8FFB-4656-B5E6-1D2D6BCE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CE5C-C25E-403F-9746-0D5E9834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73EB-0E5B-48F9-91D7-B6AF00A5D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D3B9-A8B3-426B-B4AB-BFE6B03358F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F27F-4CF4-4C67-B5B3-715BE783B2A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the VAT</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20200" y="4076640"/>
            <a:ext cx="853308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5.</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3)</a:t>
            </a:r>
            <a:endParaRPr b="1" lang="en-US" sz="3000" spc="-1" strike="noStrike">
              <a:solidFill>
                <a:srgbClr val="0f5494"/>
              </a:solidFill>
              <a:latin typeface="Verdana"/>
            </a:endParaRPr>
          </a:p>
        </p:txBody>
      </p:sp>
      <p:sp>
        <p:nvSpPr>
          <p:cNvPr id="12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E451-1DB2-44E7-ABC1-D73DC13F67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4" name="Picture 6" descr=""/>
          <p:cNvPicPr/>
          <p:nvPr/>
        </p:nvPicPr>
        <p:blipFill>
          <a:blip r:embed="rId1"/>
          <a:stretch/>
        </p:blipFill>
        <p:spPr>
          <a:xfrm>
            <a:off x="1476360" y="2139840"/>
            <a:ext cx="6335640" cy="43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4)</a:t>
            </a:r>
            <a:endParaRPr b="1" lang="en-US" sz="30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6895-E9A1-4348-84AD-13985188142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6" descr=""/>
          <p:cNvPicPr/>
          <p:nvPr/>
        </p:nvPicPr>
        <p:blipFill>
          <a:blip r:embed="rId1"/>
          <a:stretch/>
        </p:blipFill>
        <p:spPr>
          <a:xfrm>
            <a:off x="1332000" y="2924280"/>
            <a:ext cx="6853320" cy="29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1413000"/>
            <a:ext cx="830088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utrality of VAT: exempt or zero-rated: foreign trade and for social policy choices</a:t>
            </a:r>
            <a:endParaRPr b="1" lang="en-US" sz="3000" spc="-1" strike="noStrike">
              <a:solidFill>
                <a:srgbClr val="0f5494"/>
              </a:solidFill>
              <a:latin typeface="Verdana"/>
            </a:endParaRPr>
          </a:p>
        </p:txBody>
      </p:sp>
      <p:sp>
        <p:nvSpPr>
          <p:cNvPr id="129" name=""/>
          <p:cNvSpPr txBox="1"/>
          <p:nvPr/>
        </p:nvSpPr>
        <p:spPr>
          <a:xfrm>
            <a:off x="457200" y="2491920"/>
            <a:ext cx="8229600" cy="3529080"/>
          </a:xfrm>
          <a:prstGeom prst="rect">
            <a:avLst/>
          </a:prstGeom>
          <a:noFill/>
          <a:ln w="0">
            <a:noFill/>
          </a:ln>
        </p:spPr>
        <p:txBody>
          <a:bodyPr anchor="t">
            <a:normAutofit fontScale="88000"/>
          </a:bodyPr>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 deductibility =&gt; VAT = Sales tax</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emptions</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Zero-rating</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of breaking the compliance chain with zero rating and exemptions</a:t>
            </a: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65DF-442A-47BB-971D-CC0724BDD6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mpt or zero-rated</a:t>
            </a:r>
            <a:endParaRPr b="1" lang="en-US" sz="2800" spc="-1" strike="noStrike">
              <a:solidFill>
                <a:srgbClr val="0f5494"/>
              </a:solidFill>
              <a:latin typeface="Verdana"/>
            </a:endParaRPr>
          </a:p>
        </p:txBody>
      </p:sp>
      <p:sp>
        <p:nvSpPr>
          <p:cNvPr id="132"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Zero-Rate VAT items, such as books, medicine and some food and all exports, do have VAT on them, it’s just at zero percent. </a:t>
            </a:r>
            <a:br>
              <a:rPr sz="2000"/>
            </a:br>
            <a:r>
              <a:rPr b="0" i="1" lang="en-US" sz="2000" spc="-1" strike="noStrike">
                <a:solidFill>
                  <a:srgbClr val="0f5494"/>
                </a:solidFill>
                <a:latin typeface="Verdana"/>
              </a:rPr>
              <a:t>Suppliers of zero-rated goods/services can still reclaim the VAT on their own purchas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exempt items, such as some foods products, do not have VAT on them (not even at 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wever, suppliers of Exempt goods cannot reclaim the VAT on their own purchases relating to exempt supplies.</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us, all the chain may be exempted.</a:t>
            </a:r>
            <a:r>
              <a:rPr b="0" lang="en-US" sz="1600" spc="-1" strike="noStrike">
                <a:solidFill>
                  <a:srgbClr val="0f5494"/>
                </a:solidFill>
                <a:latin typeface="Verdana"/>
              </a:rPr>
              <a:t>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ax expenditures issue.</a:t>
            </a:r>
            <a:endParaRPr b="1" lang="en-US" sz="1600" spc="-1" strike="noStrike">
              <a:solidFill>
                <a:srgbClr val="0f5494"/>
              </a:solidFill>
              <a:latin typeface="Verdana"/>
            </a:endParaRPr>
          </a:p>
        </p:txBody>
      </p:sp>
      <p:sp>
        <p:nvSpPr>
          <p:cNvPr id="13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4D09-A58D-4807-9378-286FE81B5C9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0"/>
            <a:ext cx="7772400" cy="4572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VAT: regular and exempt goods</a:t>
            </a:r>
            <a:endParaRPr b="1" lang="en-US" sz="2400" spc="-1" strike="noStrike">
              <a:solidFill>
                <a:srgbClr val="0f5494"/>
              </a:solidFill>
              <a:latin typeface="Verdana"/>
            </a:endParaRPr>
          </a:p>
        </p:txBody>
      </p:sp>
      <p:graphicFrame>
        <p:nvGraphicFramePr>
          <p:cNvPr id="135" name="Object 9"/>
          <p:cNvGraphicFramePr/>
          <p:nvPr/>
        </p:nvGraphicFramePr>
        <p:xfrm>
          <a:off x="395280" y="1268280"/>
          <a:ext cx="7993080" cy="5602320"/>
        </p:xfrm>
        <a:graphic>
          <a:graphicData uri="http://schemas.openxmlformats.org/presentationml/2006/ole">
            <p:oleObj progId="Word.Document.12" r:id="rId1" spid="">
              <p:embed/>
              <p:pic>
                <p:nvPicPr>
                  <p:cNvPr id="136" name="Object 9" descr=""/>
                  <p:cNvPicPr/>
                  <p:nvPr/>
                </p:nvPicPr>
                <p:blipFill>
                  <a:blip r:embed="rId2"/>
                  <a:stretch/>
                </p:blipFill>
                <p:spPr>
                  <a:xfrm>
                    <a:off x="395280" y="1268280"/>
                    <a:ext cx="7993080" cy="56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06000"/>
            <a:ext cx="7667640" cy="792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Zero rating of exports (or specific goods)</a:t>
            </a:r>
            <a:br>
              <a:rPr sz="2400"/>
            </a:br>
            <a:r>
              <a:rPr b="1" lang="it-IT" sz="3000" spc="-1" strike="noStrike">
                <a:solidFill>
                  <a:srgbClr val="ffffff"/>
                </a:solidFill>
                <a:latin typeface="Verdana"/>
              </a:rPr>
              <a:t> </a:t>
            </a:r>
            <a:br>
              <a:rPr sz="3000"/>
            </a:br>
            <a:endParaRPr b="1" lang="en-US" sz="30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B769-61A6-4300-B5CF-EE41EE69AB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Content Placeholder 5"/>
          <p:cNvGraphicFramePr/>
          <p:nvPr/>
        </p:nvGraphicFramePr>
        <p:xfrm>
          <a:off x="468360" y="1484280"/>
          <a:ext cx="7991280" cy="5622840"/>
        </p:xfrm>
        <a:graphic>
          <a:graphicData uri="http://schemas.openxmlformats.org/presentationml/2006/ole">
            <p:oleObj r:id="rId1" spid="">
              <p:embed/>
              <p:pic>
                <p:nvPicPr>
                  <p:cNvPr id="140" name="Content Placeholder 5" descr=""/>
                  <p:cNvPicPr/>
                  <p:nvPr/>
                </p:nvPicPr>
                <p:blipFill>
                  <a:blip r:embed="rId2"/>
                  <a:stretch/>
                </p:blipFill>
                <p:spPr>
                  <a:xfrm>
                    <a:off x="468360" y="1484280"/>
                    <a:ext cx="799128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197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rates and thresholds</a:t>
            </a:r>
            <a:endParaRPr b="1" lang="en-US" sz="3000" spc="-1" strike="noStrike">
              <a:solidFill>
                <a:srgbClr val="0f5494"/>
              </a:solidFill>
              <a:latin typeface="Verdana"/>
            </a:endParaRPr>
          </a:p>
        </p:txBody>
      </p:sp>
      <p:sp>
        <p:nvSpPr>
          <p:cNvPr id="14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340B-7972-4AF8-A924-C9FDBE97A8A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3" name="Picture 5" descr=""/>
          <p:cNvPicPr/>
          <p:nvPr/>
        </p:nvPicPr>
        <p:blipFill>
          <a:blip r:embed="rId1"/>
          <a:stretch/>
        </p:blipFill>
        <p:spPr>
          <a:xfrm>
            <a:off x="2627280" y="1971720"/>
            <a:ext cx="3889440" cy="45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480" y="1197000"/>
            <a:ext cx="90928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VAT efficiency: C-efficiency </a:t>
            </a:r>
            <a:endParaRPr b="1" lang="en-US" sz="3000" spc="-1" strike="noStrike">
              <a:solidFill>
                <a:srgbClr val="0f5494"/>
              </a:solidFill>
              <a:latin typeface="Verdana"/>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C3B9-6733-40C2-B847-1516D15637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6" name="Object 7"/>
          <p:cNvGraphicFramePr/>
          <p:nvPr/>
        </p:nvGraphicFramePr>
        <p:xfrm>
          <a:off x="179280" y="2049480"/>
          <a:ext cx="8767800" cy="4403880"/>
        </p:xfrm>
        <a:graphic>
          <a:graphicData uri="http://schemas.openxmlformats.org/presentationml/2006/ole">
            <p:oleObj r:id="rId1" spid="">
              <p:embed/>
              <p:pic>
                <p:nvPicPr>
                  <p:cNvPr id="147" name="Object 7" descr=""/>
                  <p:cNvPicPr/>
                  <p:nvPr/>
                </p:nvPicPr>
                <p:blipFill>
                  <a:blip r:embed="rId2"/>
                  <a:stretch/>
                </p:blipFill>
                <p:spPr>
                  <a:xfrm>
                    <a:off x="179280" y="2049480"/>
                    <a:ext cx="8767800" cy="44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efficiency in some SSA countries</a:t>
            </a:r>
            <a:endParaRPr b="1" lang="en-US" sz="3000" spc="-1" strike="noStrike">
              <a:solidFill>
                <a:srgbClr val="0f5494"/>
              </a:solidFill>
              <a:latin typeface="Verdana"/>
            </a:endParaRPr>
          </a:p>
        </p:txBody>
      </p:sp>
      <p:sp>
        <p:nvSpPr>
          <p:cNvPr id="14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C429-A9F7-463D-A2C7-FBB0804CB3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5" descr=""/>
          <p:cNvPicPr/>
          <p:nvPr/>
        </p:nvPicPr>
        <p:blipFill>
          <a:blip r:embed="rId1"/>
          <a:stretch/>
        </p:blipFill>
        <p:spPr>
          <a:xfrm>
            <a:off x="1103400" y="2205000"/>
            <a:ext cx="6937200" cy="410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equity of VAT (1)</a:t>
            </a:r>
            <a:endParaRPr b="1" lang="en-US" sz="3000" spc="-1" strike="noStrike">
              <a:solidFill>
                <a:srgbClr val="0f5494"/>
              </a:solidFill>
              <a:latin typeface="Verdana"/>
            </a:endParaRPr>
          </a:p>
        </p:txBody>
      </p:sp>
      <p:sp>
        <p:nvSpPr>
          <p:cNvPr id="15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lassic approach (developed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l consumer (household) do pay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VAT is inequitable since poorer households consume relatively more than richer househol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plication of VAT rates and VAT exemptions in order to protect the poorest household and restore some progressivity for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mplex VAT system =&gt; administration cost and VAT fraud.</a:t>
            </a:r>
            <a:endParaRPr b="1" lang="en-US" sz="2000" spc="-1" strike="noStrike">
              <a:solidFill>
                <a:srgbClr val="0f5494"/>
              </a:solidFill>
              <a:latin typeface="Verdana"/>
            </a:endParaRPr>
          </a:p>
        </p:txBody>
      </p:sp>
      <p:sp>
        <p:nvSpPr>
          <p:cNvPr id="15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5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1693-AFC1-4ECC-AE42-978481C26B8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395280" y="1988640"/>
            <a:ext cx="8229600" cy="3529080"/>
          </a:xfrm>
          <a:prstGeom prst="rect">
            <a:avLst/>
          </a:prstGeom>
          <a:noFill/>
          <a:ln w="0">
            <a:noFill/>
          </a:ln>
        </p:spPr>
        <p:txBody>
          <a:bodyPr anchor="t">
            <a:normAutofit fontScale="81000"/>
          </a:bodyPr>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1. Characteristics and functioning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2. Neutrality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emption or zero-rate (foreign trade)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xcesses of zero rating: the Mexican maquiladoras</a:t>
            </a:r>
            <a:endParaRPr b="1" lang="en-US" sz="16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 Revenue potential and efficiency  of VAT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easuring the efficiency of VAT</a:t>
            </a:r>
            <a:endParaRPr b="1" lang="en-US" sz="16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etting the registration threshold: case of DUBAI</a:t>
            </a:r>
            <a:endParaRPr b="1" lang="en-US" sz="16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A8E3-95A0-4EC3-95A0-E3EF4E9C77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f5494"/>
                </a:solidFill>
                <a:latin typeface="Verdana"/>
              </a:rPr>
              <a:t>The equity of VAT (2)</a:t>
            </a:r>
            <a:endParaRPr b="1" lang="en-US" sz="3000" spc="-1" strike="noStrike">
              <a:solidFill>
                <a:srgbClr val="0f5494"/>
              </a:solidFill>
              <a:latin typeface="Verdana"/>
            </a:endParaRPr>
          </a:p>
        </p:txBody>
      </p:sp>
      <p:sp>
        <p:nvSpPr>
          <p:cNvPr id="156" name=""/>
          <p:cNvSpPr txBox="1"/>
          <p:nvPr/>
        </p:nvSpPr>
        <p:spPr>
          <a:xfrm>
            <a:off x="457200" y="2276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oorest household do not buy on the marke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y are farmer and selfconsum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equity argument does not apply systematicall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eover, VAT acts as a protective tariff for these farmes since their activity is below the threshold.</a:t>
            </a:r>
            <a:endParaRPr b="1" lang="en-US" sz="2000" spc="-1" strike="noStrike">
              <a:solidFill>
                <a:srgbClr val="0f5494"/>
              </a:solidFill>
              <a:latin typeface="Verdana"/>
            </a:endParaRPr>
          </a:p>
          <a:p>
            <a:pPr lvl="2" marL="1143000" indent="-228600">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5494"/>
                </a:solidFill>
                <a:latin typeface="Verdana"/>
              </a:rPr>
              <a:t>VAT exemption on food products, which are locally produced, reduced the income of farmers.</a:t>
            </a:r>
            <a:endParaRPr b="0" lang="en-US" sz="1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Unique VAT rate is simpler to administer.</a:t>
            </a:r>
            <a:endParaRPr b="1" lang="en-US" sz="2200" spc="-1" strike="noStrike">
              <a:solidFill>
                <a:srgbClr val="0f5494"/>
              </a:solidFill>
              <a:latin typeface="Verdana"/>
            </a:endParaRPr>
          </a:p>
        </p:txBody>
      </p:sp>
      <p:sp>
        <p:nvSpPr>
          <p:cNvPr id="1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792C-3A02-472C-9EBE-3FFF43A7B4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How to improve the equity of VAT?</a:t>
            </a:r>
            <a:endParaRPr b="1" lang="en-US" sz="2800" spc="-1" strike="noStrike">
              <a:solidFill>
                <a:srgbClr val="0f5494"/>
              </a:solidFill>
              <a:latin typeface="Verdana"/>
            </a:endParaRPr>
          </a:p>
        </p:txBody>
      </p:sp>
      <p:sp>
        <p:nvSpPr>
          <p:cNvPr id="159" name=""/>
          <p:cNvSpPr txBox="1"/>
          <p:nvPr/>
        </p:nvSpPr>
        <p:spPr>
          <a:xfrm>
            <a:off x="264600" y="2276640"/>
            <a:ext cx="8363160" cy="3528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t depends on the level of development of the country.</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ral rates for middle income countri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complexity</a:t>
            </a:r>
            <a:endParaRPr b="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menting VAT with an excise syste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spending?</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AT remains eventually regressive, but social spending compensates this.</a:t>
            </a:r>
            <a:endParaRPr b="1" lang="en-US" sz="2000" spc="-1" strike="noStrike">
              <a:solidFill>
                <a:srgbClr val="0f5494"/>
              </a:solidFill>
              <a:latin typeface="Verdana"/>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728B-EFA4-4026-9AC2-13DA93BEBF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VAT credit refunds</a:t>
            </a:r>
            <a:endParaRPr b="1" lang="en-US" sz="3000" spc="-1" strike="noStrike">
              <a:solidFill>
                <a:srgbClr val="0f5494"/>
              </a:solidFill>
              <a:latin typeface="Verdana"/>
            </a:endParaRPr>
          </a:p>
        </p:txBody>
      </p:sp>
      <p:sp>
        <p:nvSpPr>
          <p:cNvPr id="162" name=""/>
          <p:cNvSpPr txBox="1"/>
          <p:nvPr/>
        </p:nvSpPr>
        <p:spPr>
          <a:xfrm>
            <a:off x="45720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ery sensitive issue in resource rich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porters (extractive industries) are taxed at zero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exporters are eligible to VAT refund for the VAT paid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s that governements in developing countries are not able to refund these amoun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becomes a turnover tax at a very high rat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rms’ reac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 payment of the other taxes (CIT) or compens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mand for VAT exemptions.</a:t>
            </a:r>
            <a:endParaRPr b="1" lang="en-US" sz="2000" spc="-1" strike="noStrike">
              <a:solidFill>
                <a:srgbClr val="0f5494"/>
              </a:solidFill>
              <a:latin typeface="Verdana"/>
            </a:endParaRPr>
          </a:p>
        </p:txBody>
      </p:sp>
      <p:sp>
        <p:nvSpPr>
          <p:cNvPr id="16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ACEC-FE51-4DFF-9824-E17ED4EB1D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5" name=""/>
          <p:cNvSpPr txBox="1"/>
          <p:nvPr/>
        </p:nvSpPr>
        <p:spPr>
          <a:xfrm>
            <a:off x="457200" y="2491920"/>
            <a:ext cx="8229600" cy="352908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VAT: an indirect way to tax informal firm</a:t>
            </a:r>
            <a:endParaRPr b="0" i="1" lang="en-US" sz="28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Third-party reporting feature of the VAT =&gt; </a:t>
            </a:r>
            <a:r>
              <a:rPr b="0" i="1" lang="en-US" sz="2400" spc="-1" strike="noStrike">
                <a:solidFill>
                  <a:srgbClr val="0f5494"/>
                </a:solidFill>
                <a:latin typeface="Verdana"/>
              </a:rPr>
              <a:t>Backward linkag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revenue is partly or mainly raised on intermediate consumption of informal firms.</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rchase of inputs by non VAT liable firms and sold by VAT liable firms</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 Oil products, power, telecomunications…</a:t>
            </a:r>
            <a:endParaRPr b="1" lang="en-US" sz="2400" spc="-1" strike="noStrike">
              <a:solidFill>
                <a:srgbClr val="0f5494"/>
              </a:solidFill>
              <a:latin typeface="Verdana"/>
            </a:endParaRPr>
          </a:p>
        </p:txBody>
      </p:sp>
      <p:sp>
        <p:nvSpPr>
          <p:cNvPr id="16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5AD3-9DEF-47BD-B826-E06B0E3FD82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3258-A952-477C-A58E-C041B9D509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547640" y="1916280"/>
            <a:ext cx="5937480" cy="476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I/O matrix</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BABD-0D23-4630-AD35-2B0C969FDB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2" name="Picture 2" descr=""/>
          <p:cNvPicPr/>
          <p:nvPr/>
        </p:nvPicPr>
        <p:blipFill>
          <a:blip r:embed="rId1"/>
          <a:stretch/>
        </p:blipFill>
        <p:spPr>
          <a:xfrm>
            <a:off x="2268360" y="2058840"/>
            <a:ext cx="4607280" cy="439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linkages: India</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6DC6-3573-4B4F-B69F-7E9E0FA8C4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2195640" y="2006640"/>
            <a:ext cx="4824360" cy="456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8080" y="1125360"/>
            <a:ext cx="9636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Determining the registration threshold for VAT</a:t>
            </a:r>
            <a:endParaRPr b="1" lang="en-US" sz="2600" spc="-1" strike="noStrike">
              <a:solidFill>
                <a:srgbClr val="0f5494"/>
              </a:solidFill>
              <a:latin typeface="Verdana"/>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brosio.</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BE9E-DA64-4B21-85DE-D3F2ED1264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9" name=""/>
          <p:cNvGraphicFramePr/>
          <p:nvPr/>
        </p:nvGraphicFramePr>
        <p:xfrm>
          <a:off x="444600" y="2060640"/>
          <a:ext cx="8015040" cy="4248000"/>
        </p:xfrm>
        <a:graphic>
          <a:graphicData uri="http://schemas.openxmlformats.org/drawingml/2006/table">
            <a:tbl>
              <a:tblPr/>
              <a:tblGrid>
                <a:gridCol w="4162320"/>
                <a:gridCol w="3852720"/>
              </a:tblGrid>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low threshold</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high threshold</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ings in more taxpayers, pertaining to all sec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the costs of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8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ses burdens on tax administration</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focus on larger businesse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a small increase in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compliance cost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distort the crediting cha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2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competitive distortions between taxable firms above the threshold and those exempt below of i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rap up on VAT</a:t>
            </a:r>
            <a:endParaRPr b="1" lang="en-US" sz="2800" spc="-1" strike="noStrike">
              <a:solidFill>
                <a:srgbClr val="0f5494"/>
              </a:solidFill>
              <a:latin typeface="Verdana"/>
            </a:endParaRPr>
          </a:p>
        </p:txBody>
      </p:sp>
      <p:sp>
        <p:nvSpPr>
          <p:cNvPr id="18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ig producer of revenues: Potentially “Big money maker”.</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ally effici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dministratively complex</a:t>
            </a: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22BF-1E5B-4F0E-AFBB-0A25E5419A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rcise</a:t>
            </a:r>
            <a:endParaRPr b="1" lang="en-US" sz="2800" spc="-1" strike="noStrike">
              <a:solidFill>
                <a:srgbClr val="0f5494"/>
              </a:solidFill>
              <a:latin typeface="Verdana"/>
            </a:endParaRPr>
          </a:p>
        </p:txBody>
      </p:sp>
      <p:sp>
        <p:nvSpPr>
          <p:cNvPr id="1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40F3-E8CE-43AC-B1C6-0F479E5534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85" name=""/>
          <p:cNvGraphicFramePr/>
          <p:nvPr/>
        </p:nvGraphicFramePr>
        <p:xfrm>
          <a:off x="826920" y="2276640"/>
          <a:ext cx="7632720" cy="3865320"/>
        </p:xfrm>
        <a:graphic>
          <a:graphicData uri="http://schemas.openxmlformats.org/drawingml/2006/table">
            <a:tbl>
              <a:tblPr/>
              <a:tblGrid>
                <a:gridCol w="7632720"/>
              </a:tblGrid>
              <a:tr h="1944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f the VAT is such a good tax, why not abolish most other taxes and just rely on VAT?</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92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ow to reduce the regressive character of VA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de-offs with efficiency.</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What is the consequences of the VAT exemption of food product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spread of VAT in the World</a:t>
            </a:r>
            <a:endParaRPr b="1" lang="en-US" sz="3000" spc="-1" strike="noStrike">
              <a:solidFill>
                <a:srgbClr val="0f5494"/>
              </a:solidFill>
              <a:latin typeface="Verdana"/>
            </a:endParaRPr>
          </a:p>
        </p:txBody>
      </p:sp>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7D85-6AA4-4837-A073-86DAE9E5A2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Chart 4" descr=""/>
          <p:cNvPicPr/>
          <p:nvPr/>
        </p:nvPicPr>
        <p:blipFill>
          <a:blip r:embed="rId1"/>
          <a:stretch/>
        </p:blipFill>
        <p:spPr>
          <a:xfrm>
            <a:off x="762120" y="2133720"/>
            <a:ext cx="719460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52532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cept of “Value Added”</a:t>
            </a:r>
            <a:endParaRPr b="1" lang="en-US" sz="2800" spc="-1" strike="noStrike">
              <a:solidFill>
                <a:srgbClr val="0f5494"/>
              </a:solidFill>
              <a:latin typeface="Verdana"/>
            </a:endParaRPr>
          </a:p>
        </p:txBody>
      </p:sp>
      <p:sp>
        <p:nvSpPr>
          <p:cNvPr id="105" name="PlaceHolder 2"/>
          <p:cNvSpPr>
            <a:spLocks noGrp="1"/>
          </p:cNvSpPr>
          <p:nvPr>
            <p:ph/>
          </p:nvPr>
        </p:nvSpPr>
        <p:spPr>
          <a:xfrm>
            <a:off x="434880" y="2328480"/>
            <a:ext cx="8229600" cy="3529080"/>
          </a:xfrm>
          <a:prstGeom prst="rect">
            <a:avLst/>
          </a:prstGeom>
          <a:noFill/>
          <a:ln w="0">
            <a:noFill/>
          </a:ln>
        </p:spPr>
        <p:txBody>
          <a:bodyPr anchor="t">
            <a:normAutofit/>
          </a:bodyPr>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difference between the value of a product and the cost of its inputs,</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asures how activity is increases value</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al to the income paid to the factors of production</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tors are: land, labor, capital</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nly factors can add value</a:t>
            </a:r>
            <a:endParaRPr b="0" i="1"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8AAB-4081-4C62-AB64-53C1356AAC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repl">
                                        <p:cTn id="7" dur="500" fill="hold"/>
                                        <p:tgtEl>
                                          <p:spTgt spid="10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5">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10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anim calcmode="lin" valueType="num">
                                      <p:cBhvr additive="repl">
                                        <p:cTn id="15" dur="500" fill="hold"/>
                                        <p:tgtEl>
                                          <p:spTgt spid="10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10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105">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10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36">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anim calcmode="lin" valueType="num">
                                      <p:cBhvr additive="repl">
                                        <p:cTn id="23" dur="500" fill="hold"/>
                                        <p:tgtEl>
                                          <p:spTgt spid="10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500" fill="hold"/>
                                        <p:tgtEl>
                                          <p:spTgt spid="10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500" fill="hold"/>
                                        <p:tgtEl>
                                          <p:spTgt spid="105">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10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36">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anim calcmode="lin" valueType="num">
                                      <p:cBhvr additive="repl">
                                        <p:cTn id="31" dur="500" fill="hold"/>
                                        <p:tgtEl>
                                          <p:spTgt spid="105">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2" dur="500" fill="hold"/>
                                        <p:tgtEl>
                                          <p:spTgt spid="105">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3" dur="500" fill="hold"/>
                                        <p:tgtEl>
                                          <p:spTgt spid="105">
                                            <p:txEl>
                                              <p:pRg st="3" end="3"/>
                                            </p:txEl>
                                          </p:spTgt>
                                        </p:tgtEl>
                                        <p:attrNameLst>
                                          <p:attrName>ppt_x</p:attrName>
                                        </p:attrNameLst>
                                      </p:cBhvr>
                                      <p:tavLst>
                                        <p:tav tm="0">
                                          <p:val>
                                            <p:fltVal val="0.5"/>
                                          </p:val>
                                        </p:tav>
                                        <p:tav tm="100000">
                                          <p:val>
                                            <p:strVal val="#ppt_x"/>
                                          </p:val>
                                        </p:tav>
                                      </p:tavLst>
                                    </p:anim>
                                    <p:anim calcmode="lin" valueType="num">
                                      <p:cBhvr additive="repl">
                                        <p:cTn id="34" dur="500" fill="hold"/>
                                        <p:tgtEl>
                                          <p:spTgt spid="105">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36">
                                  <p:stCondLst>
                                    <p:cond delay="0"/>
                                  </p:stCondLst>
                                  <p:childTnLst>
                                    <p:set>
                                      <p:cBhvr>
                                        <p:cTn id="38" dur="1" fill="hold">
                                          <p:stCondLst>
                                            <p:cond delay="0"/>
                                          </p:stCondLst>
                                        </p:cTn>
                                        <p:tgtEl>
                                          <p:spTgt spid="105">
                                            <p:txEl>
                                              <p:pRg st="4" end="4"/>
                                            </p:txEl>
                                          </p:spTgt>
                                        </p:tgtEl>
                                        <p:attrNameLst>
                                          <p:attrName>style.visibility</p:attrName>
                                        </p:attrNameLst>
                                      </p:cBhvr>
                                      <p:to>
                                        <p:strVal val="visible"/>
                                      </p:to>
                                    </p:set>
                                    <p:anim calcmode="lin" valueType="num">
                                      <p:cBhvr additive="repl">
                                        <p:cTn id="39" dur="500" fill="hold"/>
                                        <p:tgtEl>
                                          <p:spTgt spid="10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40" dur="500" fill="hold"/>
                                        <p:tgtEl>
                                          <p:spTgt spid="10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41" dur="500" fill="hold"/>
                                        <p:tgtEl>
                                          <p:spTgt spid="105">
                                            <p:txEl>
                                              <p:pRg st="4" end="4"/>
                                            </p:txEl>
                                          </p:spTgt>
                                        </p:tgtEl>
                                        <p:attrNameLst>
                                          <p:attrName>ppt_x</p:attrName>
                                        </p:attrNameLst>
                                      </p:cBhvr>
                                      <p:tavLst>
                                        <p:tav tm="0">
                                          <p:val>
                                            <p:fltVal val="0.5"/>
                                          </p:val>
                                        </p:tav>
                                        <p:tav tm="100000">
                                          <p:val>
                                            <p:strVal val="#ppt_x"/>
                                          </p:val>
                                        </p:tav>
                                      </p:tavLst>
                                    </p:anim>
                                    <p:anim calcmode="lin" valueType="num">
                                      <p:cBhvr additive="repl">
                                        <p:cTn id="42" dur="500" fill="hold"/>
                                        <p:tgtEl>
                                          <p:spTgt spid="105">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The mechanism of VAT</a:t>
            </a:r>
            <a:endParaRPr b="1" lang="en-US" sz="2800" spc="-1" strike="noStrike">
              <a:solidFill>
                <a:srgbClr val="0f5494"/>
              </a:solidFill>
              <a:latin typeface="Verdana"/>
            </a:endParaRPr>
          </a:p>
        </p:txBody>
      </p:sp>
      <p:sp>
        <p:nvSpPr>
          <p:cNvPr id="108" name=""/>
          <p:cNvSpPr txBox="1"/>
          <p:nvPr/>
        </p:nvSpPr>
        <p:spPr>
          <a:xfrm>
            <a:off x="457200" y="2276640"/>
            <a:ext cx="8229600" cy="374472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ep-by-step series of credits and debits</a:t>
            </a: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tor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ppli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omestic and foreign</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duc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rvices or goods</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urchas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ducers who purchase inputs from others</a:t>
            </a:r>
            <a:endParaRPr b="0" lang="en-US" sz="18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nal consumers</a:t>
            </a:r>
            <a:endParaRPr b="0"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8EB9-46FE-4E80-A376-ADF23E93B1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ho pays the VAT?</a:t>
            </a:r>
            <a:endParaRPr b="1" lang="en-US" sz="28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payers make the pa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is paid on the basis of what is collected from  customers minus what is  paid to supplier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from tax” method.</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lps reducing tax evasion if the chain is not broken. </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7FF6-F030-4DE8-B026-1578491976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mechanism</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n alternative to Sales Tax or Turnover Tax in developed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 compensation to the tariff rates’ decrease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x Transi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consists in delegating the collection along the chain of value: self-enforcing mechanism.</a:t>
            </a:r>
            <a:endParaRPr b="0" i="1" lang="en-US" sz="24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87CE-23D7-495B-84FD-0372D2F4AF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1)</a:t>
            </a:r>
            <a:endParaRPr b="1" lang="en-US" sz="3000" spc="-1" strike="noStrike">
              <a:solidFill>
                <a:srgbClr val="0f5494"/>
              </a:solidFill>
              <a:latin typeface="Verdana"/>
            </a:endParaRPr>
          </a:p>
        </p:txBody>
      </p:sp>
      <p:sp>
        <p:nvSpPr>
          <p:cNvPr id="1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EC94-8335-4552-A28B-52719629DC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2" descr=""/>
          <p:cNvPicPr/>
          <p:nvPr/>
        </p:nvPicPr>
        <p:blipFill>
          <a:blip r:embed="rId1"/>
          <a:stretch/>
        </p:blipFill>
        <p:spPr>
          <a:xfrm>
            <a:off x="1403280" y="2090880"/>
            <a:ext cx="6276960" cy="42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2)</a:t>
            </a:r>
            <a:endParaRPr b="1" lang="en-US" sz="3000" spc="-1" strike="noStrike">
              <a:solidFill>
                <a:srgbClr val="0f5494"/>
              </a:solidFill>
              <a:latin typeface="Verdana"/>
            </a:endParaRPr>
          </a:p>
        </p:txBody>
      </p:sp>
      <p:sp>
        <p:nvSpPr>
          <p:cNvPr id="12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DC3F-E7D5-4013-8C21-1B688037B3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1" name="Picture 7" descr=""/>
          <p:cNvPicPr/>
          <p:nvPr/>
        </p:nvPicPr>
        <p:blipFill>
          <a:blip r:embed="rId1"/>
          <a:stretch/>
        </p:blipFill>
        <p:spPr>
          <a:xfrm>
            <a:off x="1077840" y="2781360"/>
            <a:ext cx="68248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7T15:19:01Z</cp:lastPrinted>
  <dcterms:modified xsi:type="dcterms:W3CDTF">2017-07-04T15:37:47Z</dcterms:modified>
  <cp:revision>208</cp:revision>
  <dc:subject/>
  <dc:title>Slide 1</dc:title>
</cp:coreProperties>
</file>