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3C92-5411-4760-8C50-86FCCFF0532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s://www.actionaid.org.uk/sites/default/files/doc_lib/calling_time_on_tax_avoidance.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F2DA-1DBC-45DC-BB16-2488DF7E1C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CDIS,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illustration of origin of capital flow in Burkina F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nt Extractive Industry: Gold mining since 2010 (mainly Canadian firms).</a:t>
            </a:r>
            <a:endParaRPr b="0" lang="en-US" sz="1200" spc="-1" strike="noStrike">
              <a:solidFill>
                <a:srgbClr val="000000"/>
              </a:solidFill>
              <a:latin typeface="Arial"/>
            </a:endParaRPr>
          </a:p>
        </p:txBody>
      </p:sp>
      <p:sp>
        <p:nvSpPr>
          <p:cNvPr id="1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D851-4EEC-4879-8553-6B700DEB8A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2181-762E-462F-A0D6-2ADF42B645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384120" indent="0">
              <a:lnSpc>
                <a:spcPct val="100000"/>
              </a:lnSpc>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Times New Roman"/>
                <a:ea typeface="Arial"/>
              </a:rPr>
              <a:t>Graeme S. Cooper, 2014, “United Nations Papers on Selected Topics in Protecting the Tax Base of Developing Countries,” </a:t>
            </a:r>
            <a:r>
              <a:rPr b="0" i="1" lang="en-US" sz="1200" spc="-1" strike="noStrike">
                <a:solidFill>
                  <a:srgbClr val="000000"/>
                </a:solidFill>
                <a:latin typeface="Times New Roman"/>
                <a:ea typeface="Arial"/>
              </a:rPr>
              <a:t>Preventing Tax Treaty Abuse</a:t>
            </a:r>
            <a:r>
              <a:rPr b="0" lang="en-US" sz="1200" spc="-1" strike="noStrike">
                <a:solidFill>
                  <a:srgbClr val="000000"/>
                </a:solidFill>
                <a:latin typeface="Times New Roman"/>
                <a:ea typeface="Arial"/>
              </a:rPr>
              <a:t>, September.</a:t>
            </a:r>
            <a:endParaRPr b="0" lang="en-US" sz="12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23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000000"/>
                </a:solidFill>
                <a:latin typeface="Times New Roman"/>
                <a:ea typeface="Arial"/>
              </a:rPr>
              <a:t>Example of abusive use of treaty shopping:</a:t>
            </a:r>
            <a:endParaRPr b="0" lang="en-US" sz="2300" spc="-1" strike="noStrike">
              <a:solidFill>
                <a:srgbClr val="000000"/>
              </a:solidFill>
              <a:latin typeface="Arial"/>
            </a:endParaRPr>
          </a:p>
          <a:p>
            <a:pPr lvl="1" marL="384120" indent="0">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Company R, organized in Country R, is entitled to receive royalties from Company S, a company organized in Country S. Under the R-S treaty, royalty payments from Company S to Company R are subject to withholding tax. To avoid this result, the taxpayer forms Company I in Country I and transfers its right to receive the royalties to Company I. The I-S treaty reduces or eliminates the Country S withholding tax. In Country I, Company I may not be subject to tax on the income it receives (though still qualifying as a treaty “resident”). Payments by Company I to Company R would not be subject to Country I tax as the I-R treaty has eliminated the Country I withholding tax. As a result of the treaty shopping structure, income originating in Country S has</a:t>
            </a:r>
            <a:br>
              <a:rPr sz="1200"/>
            </a:br>
            <a:r>
              <a:rPr b="0" lang="en-US" sz="1200" spc="-1" strike="noStrike">
                <a:solidFill>
                  <a:srgbClr val="000000"/>
                </a:solidFill>
                <a:latin typeface="Arial"/>
              </a:rPr>
              <a:t>ended up in Country R without the imposition of any Country S tax.</a:t>
            </a:r>
            <a:br>
              <a:rPr sz="1200"/>
            </a:br>
            <a:br>
              <a:rPr sz="1200"/>
            </a:b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8CFC-721B-4FD9-A7FB-3312E9D98647}"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Nations Model Convention generally favors retention of greater so called “source country” taxing rights under a tax treaty—the taxation rights of the host country of investment—as compared to those of the “residence country” of the investor.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updates of the UN Model in 2011 a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for mandatory binding arbitration (for countries wishing so) when a dispute cannot be resolved under the usual Mutual Agreement Procedu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nfirms and clarifies the importance of exchange of information under the UN Model;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the rules under which States may assist each other in tax collection;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dresses possible tax evasion related to taxing capital gain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als with income from independent personal services in line with the OECD Model.</a:t>
            </a:r>
            <a:endParaRPr b="0" lang="en-US" sz="1200" spc="-1" strike="noStrike">
              <a:solidFill>
                <a:srgbClr val="000000"/>
              </a:solidFill>
              <a:latin typeface="Arial"/>
            </a:endParaRPr>
          </a:p>
        </p:txBody>
      </p:sp>
      <p:sp>
        <p:nvSpPr>
          <p:cNvPr id="1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8995-9B45-40A8-B2F2-77D73AD85A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suggested that Mopani sold copper at artificially low prices to Glencore in Switzerland under a deal struck with the fim’s UK subsidiary. The metal was then sold on, allowing Glencore to take advantage of Switzerland’s ultra-low tax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concluded that “the Mopani cost structure cannot be trusted to represent the true nature of the costs of the Mopani mining operation”. In addition, the audit alleged that Mopani had “resisted the pilot audit at every stage”.</a:t>
            </a:r>
            <a:br>
              <a:rPr sz="1200"/>
            </a:br>
            <a:br>
              <a:rPr sz="1200"/>
            </a:br>
            <a:r>
              <a:rPr b="0" lang="en-US" sz="1200" spc="-1" strike="noStrike">
                <a:solidFill>
                  <a:srgbClr val="000000"/>
                </a:solidFill>
                <a:latin typeface="Arial"/>
              </a:rPr>
              <a:t>Source: Grant Thornton, </a:t>
            </a:r>
            <a:r>
              <a:rPr b="0" i="1" lang="en-US" sz="1200" spc="-1" strike="noStrike">
                <a:solidFill>
                  <a:srgbClr val="000000"/>
                </a:solidFill>
                <a:latin typeface="Arial"/>
              </a:rPr>
              <a:t>Pilot Audit Report – Mopani Copper Mines</a:t>
            </a:r>
            <a:r>
              <a:rPr b="0" lang="en-US" sz="1200" spc="-1" strike="noStrike">
                <a:solidFill>
                  <a:srgbClr val="000000"/>
                </a:solidFill>
                <a:latin typeface="Arial"/>
              </a:rPr>
              <a:t> </a:t>
            </a:r>
            <a:r>
              <a:rPr b="0" i="1" lang="en-US" sz="1200" spc="-1" strike="noStrike">
                <a:solidFill>
                  <a:srgbClr val="000000"/>
                </a:solidFill>
                <a:latin typeface="Arial"/>
              </a:rPr>
              <a:t>Plc, </a:t>
            </a:r>
            <a:r>
              <a:rPr b="0" lang="en-US" sz="1200" spc="-1" strike="noStrike">
                <a:solidFill>
                  <a:srgbClr val="000000"/>
                </a:solidFill>
                <a:latin typeface="Arial"/>
              </a:rPr>
              <a:t>2011, available at – http://www.actionaid.org.uk/taxjustice/glencore-tax-dodging-in-zambia</a:t>
            </a:r>
            <a:br>
              <a:rPr sz="1200"/>
            </a:br>
            <a:br>
              <a:rPr sz="1200"/>
            </a:br>
            <a:endParaRPr b="0" lang="en-US" sz="1200" spc="-1" strike="noStrike">
              <a:solidFill>
                <a:srgbClr val="000000"/>
              </a:solidFill>
              <a:latin typeface="Arial"/>
            </a:endParaRPr>
          </a:p>
        </p:txBody>
      </p:sp>
      <p:sp>
        <p:nvSpPr>
          <p:cNvPr id="18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ABC1-33DF-4F52-A020-AD895E1576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nsfer pricing: rules and methods for pricing transacations between enterprises under common ownership.</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2754-5F13-424D-82D9-26B4DB3D9B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ctionAid, 2010, </a:t>
            </a:r>
            <a:r>
              <a:rPr b="0" lang="en-US" sz="1200" spc="-1" strike="noStrike" u="sng">
                <a:solidFill>
                  <a:srgbClr val="009999"/>
                </a:solidFill>
                <a:uFillTx/>
                <a:latin typeface="Arial"/>
                <a:hlinkClick r:id="rId1"/>
              </a:rPr>
              <a:t>Calling time: why SABMiller should stop dodging taxes in Africa</a:t>
            </a:r>
            <a:r>
              <a:rPr b="0" lang="en-US" sz="1200" spc="-1" strike="noStrike">
                <a:solidFill>
                  <a:srgbClr val="000000"/>
                </a:solidFill>
                <a:latin typeface="Arial"/>
              </a:rPr>
              <a:t>,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actionaid.org.uk/sites/default/files/doc_lib/calling_time_on_tax_avoidanc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5314-94E1-4411-8972-3A8A251A2C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 between Mongolia and Netherlands signed 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 2011, Mongolia cancelled this DTA, arguing i</a:t>
            </a:r>
            <a:r>
              <a:rPr b="0" lang="en-US" sz="1200" spc="-1" strike="noStrike">
                <a:solidFill>
                  <a:srgbClr val="000000"/>
                </a:solidFill>
                <a:latin typeface="Arial"/>
              </a:rPr>
              <a:t>t would cost the country income from one of the most lucrative gold and copper mines in the world. Mongolia concelled also DTA with Kuwait and United Arab Emi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 cancelled its DTA with Netherland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R between Tax authorities: A proposal from the EU Com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ent company of a multinational group (or a subsidiary appointed by the Group) will have to provide specific information on the whole group to the tax authorities in the Member State where it is resident. This information must include the revenues, profits, taxes paid and accrued, accumulated earnings, number of employees and certain assets of each company in its group. The Parent company will also have to identify all of the countries in which the Group is present for tax purposes and the activities carried out in each one. This report will then be automatically sent to the tax authorities in every Member State where the multinational group is resident or liable for tax. This information exchange will take place once a year, starting in 2017.</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ssion is considering to extend the publication of tax reports country-by-country (as it is the case in the banking sector) to other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e for further details the note: http://europa.eu/rapid/press-release_MEMO-16-160_e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8637-E077-4EC7-A4F7-6027331D17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Information: http://www.oecd.org/tax/beps/beps-actio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 ATA Pack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axation: companies pay taxes where they make their prof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transparency: Member States have the relevant information to ensure fair tax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the risk of double taxation: companies which pay their fair share of taxes are not penalised for making use of EU’s internal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uropa.eu/rapid/press-release_MEMO-16-2265_en.htm</a:t>
            </a:r>
            <a:endParaRPr b="0" lang="en-US" sz="1200" spc="-1" strike="noStrike">
              <a:solidFill>
                <a:srgbClr val="000000"/>
              </a:solidFill>
              <a:latin typeface="Arial"/>
            </a:endParaRPr>
          </a:p>
        </p:txBody>
      </p:sp>
      <p:sp>
        <p:nvSpPr>
          <p:cNvPr id="19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A403-9806-45A2-8F11-FEAAEB7470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r>
              <a:rPr b="0" lang="en-US" sz="1200" spc="-1" strike="noStrike">
                <a:solidFill>
                  <a:srgbClr val="000000"/>
                </a:solidFill>
                <a:latin typeface="Arial"/>
              </a:rPr>
              <a:t>he CUP method compares </a:t>
            </a:r>
            <a:r>
              <a:rPr b="1" lang="en-US" sz="1200" spc="-1" strike="noStrike">
                <a:solidFill>
                  <a:srgbClr val="000000"/>
                </a:solidFill>
                <a:latin typeface="Arial"/>
              </a:rPr>
              <a:t>the price </a:t>
            </a:r>
            <a:r>
              <a:rPr b="0" lang="en-US" sz="1200" spc="-1" strike="noStrike">
                <a:solidFill>
                  <a:srgbClr val="000000"/>
                </a:solidFill>
                <a:latin typeface="Arial"/>
              </a:rPr>
              <a:t>charged for property or services transferred in a controlled transaction to the price charged for property or services transferred in a comparable uncontrolled transaction in comparable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ale price method begins with the price at which a product that has been purchased from an associated enterprise is resold to an independent enterprise. This price (the “resale price”) is then reduced by an appropriate gross margin (the “resale price margin”), determined by reference to gross margins in comparable uncontrolled transactions, representing the amount out of which the</a:t>
            </a:r>
            <a:br>
              <a:rPr sz="1200"/>
            </a:br>
            <a:r>
              <a:rPr b="0" lang="en-US" sz="1200" spc="-1" strike="noStrike">
                <a:solidFill>
                  <a:srgbClr val="000000"/>
                </a:solidFill>
                <a:latin typeface="Arial"/>
              </a:rPr>
              <a:t>reseller would seek to cover its selling and other operating expenses and, in light of the functions performed (taking into account assets used and risks assumed), make an appropriate pro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lus method begins with the costs incurred by the supplier of property or services in</a:t>
            </a:r>
            <a:br>
              <a:rPr sz="1200"/>
            </a:br>
            <a:r>
              <a:rPr b="0" lang="en-US" sz="1200" spc="-1" strike="noStrike">
                <a:solidFill>
                  <a:srgbClr val="000000"/>
                </a:solidFill>
                <a:latin typeface="Arial"/>
              </a:rPr>
              <a:t>a controlled transaction for property transferred or services provided to an associated enterprise. An appropriate mark-up, determined by reference to the mark-up earned by suppliers in comparable uncontrolled transactions, is then added to these costs, to make an appropriate profit in light of the functions performed and the market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actional net margin method (“TNMM”) examines a net profit indicator, </a:t>
            </a:r>
            <a:r>
              <a:rPr b="0" i="1" lang="en-US" sz="1200" spc="-1" strike="noStrike">
                <a:solidFill>
                  <a:srgbClr val="000000"/>
                </a:solidFill>
                <a:latin typeface="Arial"/>
              </a:rPr>
              <a:t>i.e. </a:t>
            </a:r>
            <a:r>
              <a:rPr b="0" lang="en-US" sz="1200" spc="-1" strike="noStrike">
                <a:solidFill>
                  <a:srgbClr val="000000"/>
                </a:solidFill>
                <a:latin typeface="Arial"/>
              </a:rPr>
              <a:t>a ratio of net profit relative to an appropriate base (</a:t>
            </a:r>
            <a:r>
              <a:rPr b="0" i="1" lang="en-US" sz="1200" spc="-1" strike="noStrike">
                <a:solidFill>
                  <a:srgbClr val="000000"/>
                </a:solidFill>
                <a:latin typeface="Arial"/>
              </a:rPr>
              <a:t>e.g. </a:t>
            </a:r>
            <a:r>
              <a:rPr b="0" lang="en-US" sz="1200" spc="-1" strike="noStrike">
                <a:solidFill>
                  <a:srgbClr val="000000"/>
                </a:solidFill>
                <a:latin typeface="Arial"/>
              </a:rPr>
              <a:t>costs, sales, assets), that a taxpayer realises from a controlled transaction (or from transactions that are appropriate to aggregate) with the net profit earned in comparable uncontrolled transactions.</a:t>
            </a:r>
            <a:br>
              <a:rPr sz="1200"/>
            </a:br>
            <a:br>
              <a:rPr sz="1200"/>
            </a:br>
            <a:r>
              <a:rPr b="0" lang="en-US" sz="1200" spc="-1" strike="noStrike">
                <a:solidFill>
                  <a:srgbClr val="000000"/>
                </a:solidFill>
                <a:latin typeface="Arial"/>
              </a:rPr>
              <a:t>The transactional profit split method first identifies the combined profits to be split for the associated enterprises from the controlled transactions in which the associated enterprises are engaged. The transactional profit split method then splits the combined profits between the associated enterprises on an economically valid basis that approximates </a:t>
            </a:r>
            <a:r>
              <a:rPr b="1" lang="en-US" sz="1200" spc="-1" strike="noStrike">
                <a:solidFill>
                  <a:srgbClr val="000000"/>
                </a:solidFill>
                <a:latin typeface="Arial"/>
              </a:rPr>
              <a:t>the division of profits </a:t>
            </a:r>
            <a:r>
              <a:rPr b="0" lang="en-US" sz="1200" spc="-1" strike="noStrike">
                <a:solidFill>
                  <a:srgbClr val="000000"/>
                </a:solidFill>
                <a:latin typeface="Arial"/>
              </a:rPr>
              <a:t>that would have</a:t>
            </a:r>
            <a:br>
              <a:rPr sz="1200"/>
            </a:br>
            <a:r>
              <a:rPr b="0" lang="en-US" sz="1200" spc="-1" strike="noStrike">
                <a:solidFill>
                  <a:srgbClr val="000000"/>
                </a:solidFill>
                <a:latin typeface="Arial"/>
              </a:rPr>
              <a:t>been anticipated between independent enterprises. </a:t>
            </a:r>
            <a:br>
              <a:rPr sz="1200"/>
            </a:br>
            <a:br>
              <a:rPr sz="1200"/>
            </a:br>
            <a:br>
              <a:rPr sz="1200"/>
            </a:br>
            <a:br>
              <a:rPr sz="1200"/>
            </a:br>
            <a:br>
              <a:rPr sz="1200"/>
            </a:b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E79C-1AEE-4EB3-A6AC-AEB89ECD73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 Corporate Income Tax.</a:t>
            </a:r>
            <a:endParaRPr b="0" lang="en-US" sz="1200" spc="-1" strike="noStrike">
              <a:solidFill>
                <a:srgbClr val="000000"/>
              </a:solidFill>
              <a:latin typeface="Arial"/>
            </a:endParaRPr>
          </a:p>
        </p:txBody>
      </p:sp>
      <p:sp>
        <p:nvSpPr>
          <p:cNvPr id="16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729C-8D3E-409E-8A99-B84C3679A6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en developped countries are considering an alternative minimum tax based on EBITDA or turnover for very large fi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nking sector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ice that a turnover tax has also be viewed as an indirect tax.</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E19A-7EAA-4A4C-A5B2-C258964CEC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chael Carlos Best, Anne Brockmeyer, Henrik Jacobsen Kleven, Johannes Spinnewijn, and Mazhar Waseem, 2015, ‘’Production versus Revenue Efficiency with Limited Tax Capacity: Theory and Evidence from Pakistan,’’ </a:t>
            </a:r>
            <a:r>
              <a:rPr b="0" i="1" lang="fr-FR" sz="1200" spc="-1" strike="noStrike">
                <a:solidFill>
                  <a:srgbClr val="000000"/>
                </a:solidFill>
                <a:latin typeface="Arial"/>
              </a:rPr>
              <a:t>Journal of Political Economy</a:t>
            </a:r>
            <a:r>
              <a:rPr b="0" lang="fr-FR" sz="1200" spc="-1" strike="noStrike">
                <a:solidFill>
                  <a:srgbClr val="000000"/>
                </a:solidFill>
                <a:latin typeface="Arial"/>
              </a:rPr>
              <a:t>, Vol. 123, No. 6, 1311-1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rnover tax rate: 0.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it tax rate: 3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empirically that a switch from profit taxation to turnover taxation at a much lower tax rate can increase corporate tax revenues by 74 percent without decreasing aggregate after-tax pro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ss of production efficiency is more than compensated for by the increase in revenue efficiency due to larger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ing methodology using minimum tax schemes. The figure illustrates the implications of the introduction of a minimum tax on the observed density distribution of reported profit rates. The dashed line shows the smooth distribution of profit rates that would be observed in the absence of the minimum tax, while the solid line shows the distribution of profit rates that is observed in the presence of the minimum tax.</a:t>
            </a: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3F22-F2AD-4FB6-9427-22663D84E8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13713-215F-4C9E-AFA9-398CBDE2C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FD19-16BE-4881-A4E8-71596010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1B88A-DFFA-40BC-8103-FA7E0522D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D13E2-08DA-4021-9A05-67A1946B4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D31E0-F9EE-40B3-8ECD-F093ADF07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34871-20EE-4DB8-8D52-9EA6B7ABD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E7AF7-76BF-4AD9-99B9-F5995211D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E22DB-37F5-4891-B8A0-00FBB3C64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4D415-A0AC-4478-9AF7-D1E789CBF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B8D12-C4AF-4FCA-B56F-133635210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9D745-3FFA-4AF1-972A-518D0C31E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0F3E7-C471-4423-96DC-9BB7A0DCF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2B58B-A581-40E9-8C01-2EF8DD207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AE852-A900-461B-8964-544A27B3E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7E2F9-A47F-4865-BB2B-67A6C16FC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82354-BFF8-486C-9D6E-B662A3089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6C089-27FF-4784-8F3F-01A56515B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9F9E2-9A11-466F-814B-E366813EC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5FA88-361E-4EED-98EA-209B664C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95EF-EA30-4131-8E51-972C87C6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DC0DC-A636-4AD8-B210-4558060B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3CDA-BAC3-46AC-BD74-D0D5306C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F408-5289-4478-AB3A-278FFC8C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2500-AAE2-4874-A3E7-BA0323EC3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99EF-C90B-4378-9E14-F167FEFC08E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2793-FB61-4047-8ED6-16912BD8FE2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uropa.eu/rapid/press-release_MEMO-16-2997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oecd.org/fr/ctp/bep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Profit Taxation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6</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79160" y="1268280"/>
            <a:ext cx="8661240" cy="820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High vulnerability of developing countries to agressive tax planning</a:t>
            </a:r>
            <a:endParaRPr b="1" lang="en-US" sz="3000" spc="-1" strike="noStrike">
              <a:solidFill>
                <a:srgbClr val="0f5494"/>
              </a:solidFill>
              <a:latin typeface="Verdana"/>
            </a:endParaRPr>
          </a:p>
        </p:txBody>
      </p:sp>
      <p:sp>
        <p:nvSpPr>
          <p:cNvPr id="121" name=""/>
          <p:cNvSpPr txBox="1"/>
          <p:nvPr/>
        </p:nvSpPr>
        <p:spPr>
          <a:xfrm>
            <a:off x="468360" y="2492280"/>
            <a:ext cx="8493120" cy="3600720"/>
          </a:xfrm>
          <a:prstGeom prst="rect">
            <a:avLst/>
          </a:prstGeom>
          <a:noFill/>
          <a:ln w="0">
            <a:noFill/>
          </a:ln>
        </p:spPr>
        <p:txBody>
          <a:bodyPr anchor="t">
            <a:normAutofit fontScale="91000"/>
          </a:bodyPr>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MNE are crucial in developing countries</a:t>
            </a:r>
            <a:endParaRPr b="0" i="1" lang="en-US" sz="28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ivate financing of development.</a:t>
            </a:r>
            <a:endParaRPr b="1" lang="en-US" sz="24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Why will a MNE invest in a country?</a:t>
            </a:r>
            <a:endParaRPr b="1" lang="en-US" sz="24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omestic demand: Mobile phone</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Natural resources, infrastructures: Mining, Oil, Building sector</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Reducing production costs: Exportations (textile industry)</a:t>
            </a:r>
            <a:endParaRPr b="0" lang="en-US" sz="1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nadequate national tax law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ouble Tax Agreement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imited tax administration capacity</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981000"/>
            <a:ext cx="7772400" cy="99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DI stock and flows</a:t>
            </a:r>
            <a:endParaRPr b="1" lang="en-US" sz="3000" spc="-1" strike="noStrike">
              <a:solidFill>
                <a:srgbClr val="0f5494"/>
              </a:solidFill>
              <a:latin typeface="Verdana"/>
            </a:endParaRPr>
          </a:p>
        </p:txBody>
      </p:sp>
      <p:pic>
        <p:nvPicPr>
          <p:cNvPr id="123" name="Picture 2" descr=""/>
          <p:cNvPicPr/>
          <p:nvPr/>
        </p:nvPicPr>
        <p:blipFill>
          <a:blip r:embed="rId1"/>
          <a:stretch/>
        </p:blipFill>
        <p:spPr>
          <a:xfrm>
            <a:off x="1033560" y="1844640"/>
            <a:ext cx="692316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836280"/>
            <a:ext cx="77724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 Burkina Faso</a:t>
            </a:r>
            <a:endParaRPr b="1" lang="en-US" sz="3000" spc="-1" strike="noStrike">
              <a:solidFill>
                <a:srgbClr val="0f5494"/>
              </a:solidFill>
              <a:latin typeface="Verdana"/>
            </a:endParaRPr>
          </a:p>
        </p:txBody>
      </p:sp>
      <p:pic>
        <p:nvPicPr>
          <p:cNvPr id="125" name="Picture 2" descr=""/>
          <p:cNvPicPr/>
          <p:nvPr/>
        </p:nvPicPr>
        <p:blipFill>
          <a:blip r:embed="rId1"/>
          <a:stretch/>
        </p:blipFill>
        <p:spPr>
          <a:xfrm>
            <a:off x="611280" y="1989000"/>
            <a:ext cx="7996320" cy="366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conditions</a:t>
            </a:r>
            <a:endParaRPr b="1" lang="en-US" sz="3000" spc="-1" strike="noStrike">
              <a:solidFill>
                <a:srgbClr val="0f5494"/>
              </a:solidFill>
              <a:latin typeface="Verdana"/>
            </a:endParaRPr>
          </a:p>
        </p:txBody>
      </p:sp>
      <p:sp>
        <p:nvSpPr>
          <p:cNvPr id="127"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NEs are active in the country.</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untry has ratified Double Tax Agreements (DTA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istence of tax haven, which weakens the global tax system.</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ssue in defining tax ha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politically sensitive/ EU initiative</a:t>
            </a:r>
            <a:endParaRPr b="1" lang="en-US" sz="2000" spc="-1" strike="noStrike">
              <a:solidFill>
                <a:srgbClr val="0f5494"/>
              </a:solidFill>
              <a:latin typeface="Verdana"/>
            </a:endParaRPr>
          </a:p>
          <a:p>
            <a:pPr lvl="2" marL="1131480" indent="-2260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Verdana"/>
                <a:hlinkClick r:id="rId1"/>
              </a:rPr>
              <a:t>http://europa.eu/rapid/press-release_MEMO-16-2997_en.htm</a:t>
            </a:r>
            <a:endParaRPr b="0" lang="en-US" sz="1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planning= the consequence of competition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ace to the Botto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58720" y="1052280"/>
            <a:ext cx="8585280" cy="747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ouble Tax Agreements</a:t>
            </a:r>
            <a:endParaRPr b="1" lang="en-US" sz="3000" spc="-1" strike="noStrike">
              <a:solidFill>
                <a:srgbClr val="0f5494"/>
              </a:solidFill>
              <a:latin typeface="Verdana"/>
            </a:endParaRPr>
          </a:p>
        </p:txBody>
      </p:sp>
      <p:sp>
        <p:nvSpPr>
          <p:cNvPr id="129" name=""/>
          <p:cNvSpPr txBox="1"/>
          <p:nvPr/>
        </p:nvSpPr>
        <p:spPr>
          <a:xfrm>
            <a:off x="108000" y="1628640"/>
            <a:ext cx="8920080" cy="471672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ims: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rotection of taxpayers against double taxation and improving international invest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haring the taxing power between countries on international transactions</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wo principles:</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ource country (where capital is al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sidence country (where capital’s owners are 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n defining </a:t>
            </a:r>
            <a:r>
              <a:rPr b="0" i="1" lang="fr-FR" sz="2000" spc="-1" strike="noStrike">
                <a:solidFill>
                  <a:srgbClr val="0f5494"/>
                </a:solidFill>
                <a:latin typeface="Verdana"/>
              </a:rPr>
              <a:t>Permanent Establishment</a:t>
            </a:r>
            <a:r>
              <a:rPr b="0" lang="fr-FR" sz="2000" spc="-1" strike="noStrike">
                <a:solidFill>
                  <a:srgbClr val="0f5494"/>
                </a:solidFill>
                <a:latin typeface="Verdana"/>
              </a:rPr>
              <a:t>.</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reaty shopping</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om non double taxation to zero taxation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1341360"/>
            <a:ext cx="7772400" cy="533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TA : OECD versus UN</a:t>
            </a:r>
            <a:endParaRPr b="1" lang="en-US" sz="3000" spc="-1" strike="noStrike">
              <a:solidFill>
                <a:srgbClr val="0f5494"/>
              </a:solidFill>
              <a:latin typeface="Verdana"/>
            </a:endParaRPr>
          </a:p>
        </p:txBody>
      </p:sp>
      <p:sp>
        <p:nvSpPr>
          <p:cNvPr id="131" name=""/>
          <p:cNvSpPr txBox="1"/>
          <p:nvPr/>
        </p:nvSpPr>
        <p:spPr>
          <a:xfrm>
            <a:off x="611280" y="1915920"/>
            <a:ext cx="8340480" cy="51051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OECD model: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Capital exporting countries keep the final power to tax</a:t>
            </a:r>
            <a:r>
              <a:rPr b="0" lang="fr-FR" sz="2000" spc="-1" strike="noStrike">
                <a:solidFill>
                  <a:srgbClr val="0f5494"/>
                </a:solidFill>
                <a:latin typeface="Verdana"/>
              </a:rPr>
              <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OECD Model preserves a greater share to the “residence State”, the country of the investor, trader, etc. </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5494"/>
                </a:solidFill>
                <a:latin typeface="Verdana"/>
              </a:rPr>
              <a:t>UN model (revised in 2011)</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preserves a greater share of tax revenue to the “source State”, the country where investment or other activity takes place.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thus normally grants developing countries more taxing rights on income generated by foreign investments in these countri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goals and mechanisms</a:t>
            </a:r>
            <a:endParaRPr b="1" lang="en-US" sz="3000" spc="-1" strike="noStrike">
              <a:solidFill>
                <a:srgbClr val="0f5494"/>
              </a:solidFill>
              <a:latin typeface="Verdana"/>
            </a:endParaRPr>
          </a:p>
        </p:txBody>
      </p:sp>
      <p:sp>
        <p:nvSpPr>
          <p:cNvPr id="13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oal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xable profit in high (standard) tax rate countr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echanism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ransfer pricing: increasing production/administrative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edging contract: decreasing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bt-shifting: increasing financial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ll the economic sectors are concerned.</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71640" y="1125000"/>
            <a:ext cx="77724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inimizing turnover</a:t>
            </a:r>
            <a:endParaRPr b="1" lang="en-US" sz="3000" spc="-1" strike="noStrike">
              <a:solidFill>
                <a:srgbClr val="0f5494"/>
              </a:solidFill>
              <a:latin typeface="Verdana"/>
            </a:endParaRPr>
          </a:p>
        </p:txBody>
      </p:sp>
      <p:sp>
        <p:nvSpPr>
          <p:cNvPr id="135" name=""/>
          <p:cNvSpPr txBox="1"/>
          <p:nvPr/>
        </p:nvSpPr>
        <p:spPr>
          <a:xfrm>
            <a:off x="900000" y="1773360"/>
            <a:ext cx="7772400" cy="53337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erned sectors: Extractive industry, exporting secto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ing reported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Decreasing CIT, mining royalties, government oil shar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dging contract between a subsidiary located in a standard tax rate country and a subsidiary in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lling the produced good below its market valu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 : Glencore in Zamb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n example of treaty shoppîng</a:t>
            </a:r>
            <a:endParaRPr b="1" lang="en-US" sz="3000" spc="-1" strike="noStrike">
              <a:solidFill>
                <a:srgbClr val="0f5494"/>
              </a:solidFill>
              <a:latin typeface="Verdana"/>
            </a:endParaRPr>
          </a:p>
        </p:txBody>
      </p:sp>
      <p:pic>
        <p:nvPicPr>
          <p:cNvPr id="137" name="Picture 2" descr=""/>
          <p:cNvPicPr/>
          <p:nvPr/>
        </p:nvPicPr>
        <p:blipFill>
          <a:blip r:embed="rId1"/>
          <a:stretch/>
        </p:blipFill>
        <p:spPr>
          <a:xfrm>
            <a:off x="250920" y="1052640"/>
            <a:ext cx="861372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71640" y="1196640"/>
            <a:ext cx="77724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ransfer Pricing</a:t>
            </a:r>
            <a:endParaRPr b="1" lang="en-US" sz="3000" spc="-1" strike="noStrike">
              <a:solidFill>
                <a:srgbClr val="0f5494"/>
              </a:solidFill>
              <a:latin typeface="Verdana"/>
            </a:endParaRPr>
          </a:p>
        </p:txBody>
      </p:sp>
      <p:sp>
        <p:nvSpPr>
          <p:cNvPr id="139" name=""/>
          <p:cNvSpPr txBox="1"/>
          <p:nvPr/>
        </p:nvSpPr>
        <p:spPr>
          <a:xfrm>
            <a:off x="826920" y="1844280"/>
            <a:ext cx="7772400" cy="51814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fer pricing is necessary for MNEs manag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ssu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busive practices of transfer pric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Over-estimating costs in standard tax rate country towards low tax rate country or tax heave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ctitious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y cost may be artificially manipulate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Miller in Ghan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From the very small to the very large</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lternative minimum tax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ggressive tax planning and Base Erosion and Profit Shifting</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2D6B-2C1E-4F8E-8FD9-D82FEEE2F0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539640" y="1197000"/>
            <a:ext cx="7975800" cy="545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bt-shifting</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ra-group lend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in capitalization in standard tax rate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subsidiary in a developing country borrows to another subsidary located in a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erests payments are CIT deductible in the developing country and become non taxable income in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ne of the motive of capital fligh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apital Gain Taxation</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direct transfer of assets (mining, oil, mobile phone lic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voiding taxation through the sal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Vodafone Case in Ind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odafone vs India</a:t>
            </a:r>
            <a:endParaRPr b="1" lang="en-US" sz="3000" spc="-1" strike="noStrike">
              <a:solidFill>
                <a:srgbClr val="0f5494"/>
              </a:solidFill>
              <a:latin typeface="Verdana"/>
            </a:endParaRPr>
          </a:p>
        </p:txBody>
      </p:sp>
      <p:pic>
        <p:nvPicPr>
          <p:cNvPr id="146" name="Picture 1" descr=""/>
          <p:cNvPicPr/>
          <p:nvPr/>
        </p:nvPicPr>
        <p:blipFill>
          <a:blip r:embed="rId1"/>
          <a:stretch/>
        </p:blipFill>
        <p:spPr>
          <a:xfrm>
            <a:off x="900000" y="2205000"/>
            <a:ext cx="731520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Solutions/recommandations</a:t>
            </a:r>
            <a:endParaRPr b="1" lang="en-US" sz="3000" spc="-1" strike="noStrike">
              <a:solidFill>
                <a:srgbClr val="0f5494"/>
              </a:solidFill>
              <a:latin typeface="Verdana"/>
            </a:endParaRPr>
          </a:p>
        </p:txBody>
      </p:sp>
      <p:sp>
        <p:nvSpPr>
          <p:cNvPr id="148" name=""/>
          <p:cNvSpPr txBox="1"/>
          <p:nvPr/>
        </p:nvSpPr>
        <p:spPr>
          <a:xfrm>
            <a:off x="468360" y="2204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parency</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ublication of tax reports</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untry by country Report (CBCR) initiative</a:t>
            </a:r>
            <a:endParaRPr b="0" lang="en-US" sz="1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amples: Banking sector in EU and WAEMU</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cal sensitive: Tax secrecy</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ame and shame approach</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ithholding tax regime</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TAs limit the efficiency of withholding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viewing DTA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 Mongolia and Netherland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ECD and EU packages</a:t>
            </a:r>
            <a:endParaRPr b="1" lang="en-US" sz="3000" spc="-1" strike="noStrike">
              <a:solidFill>
                <a:srgbClr val="0f5494"/>
              </a:solidFill>
              <a:latin typeface="Verdana"/>
            </a:endParaRPr>
          </a:p>
        </p:txBody>
      </p:sp>
      <p:sp>
        <p:nvSpPr>
          <p:cNvPr id="150" name=""/>
          <p:cNvSpPr txBox="1"/>
          <p:nvPr/>
        </p:nvSpPr>
        <p:spPr>
          <a:xfrm>
            <a:off x="395280" y="1988640"/>
            <a:ext cx="8229600" cy="352908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BEPS package</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15 action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ybrid arrangements, harmful tax practices (tax rulings), Treaty abuse, transfer pricing…</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U: Anti Tax Avoidance Package</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ree pillars: </a:t>
            </a:r>
            <a:endParaRPr b="1" lang="en-US" sz="20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ffective taxation</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ax transparency</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dressing the risk of double taxation</a:t>
            </a:r>
            <a:endParaRPr b="0" lang="en-US" sz="1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mon Consolidated Dorporate Tax Base (CCCTB)</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 solution to profit shifting in the the EU (only).</a:t>
            </a:r>
            <a:r>
              <a:rPr b="1" lang="en-US" sz="2000" spc="-1" strike="noStrike">
                <a:solidFill>
                  <a:srgbClr val="0f5494"/>
                </a:solidFill>
                <a:latin typeface="Verdana"/>
              </a:rPr>
              <a:t>	</a:t>
            </a:r>
            <a:r>
              <a:rPr b="1" lang="en-US" sz="2000" spc="-1" strike="noStrike">
                <a:solidFill>
                  <a:srgbClr val="0f5494"/>
                </a:solidFill>
                <a:latin typeface="Verdana"/>
              </a:rPr>
              <a:t>	</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83D4-596F-4A24-BDBF-D21923E4002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920" y="1125360"/>
            <a:ext cx="7772400" cy="6098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rm’s length principle</a:t>
            </a:r>
            <a:endParaRPr b="1" lang="en-US" sz="3000" spc="-1" strike="noStrike">
              <a:solidFill>
                <a:srgbClr val="0f5494"/>
              </a:solidFill>
              <a:latin typeface="Verdana"/>
            </a:endParaRPr>
          </a:p>
        </p:txBody>
      </p:sp>
      <p:sp>
        <p:nvSpPr>
          <p:cNvPr id="153" name=""/>
          <p:cNvSpPr txBox="1"/>
          <p:nvPr/>
        </p:nvSpPr>
        <p:spPr>
          <a:xfrm>
            <a:off x="900000" y="1773360"/>
            <a:ext cx="7772400" cy="48765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mportant works done by OECD and UN</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5-6 guidelines to determine the </a:t>
            </a:r>
            <a:r>
              <a:rPr b="0" i="1" lang="fr-FR" sz="2800" spc="-1" strike="noStrike" u="sng">
                <a:solidFill>
                  <a:srgbClr val="0f5494"/>
                </a:solidFill>
                <a:uFillTx/>
                <a:latin typeface="Verdana"/>
              </a:rPr>
              <a:t>right </a:t>
            </a:r>
            <a:r>
              <a:rPr b="0" i="1" lang="fr-FR" sz="2800" spc="-1" strike="noStrike">
                <a:solidFill>
                  <a:srgbClr val="0f5494"/>
                </a:solidFill>
                <a:latin typeface="Verdana"/>
              </a:rPr>
              <a:t>price of an intragroup transaction</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arable uncontrolled price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ale price method,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st plus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net margin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profit split meth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or less complex to impl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et some room to tax bargaining.</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in Capitalization Rul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bt/Equity ratio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lated party debt or total deb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arning stripping ratio</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 limited to a percentage of EBITDA or tunr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rmany exampl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uling</a:t>
            </a:r>
            <a:endParaRPr b="1" lang="en-US" sz="3000" spc="-1" strike="noStrike">
              <a:solidFill>
                <a:srgbClr val="0f5494"/>
              </a:solidFill>
              <a:latin typeface="Verdana"/>
            </a:endParaRPr>
          </a:p>
        </p:txBody>
      </p:sp>
      <p:sp>
        <p:nvSpPr>
          <p:cNvPr id="15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bargaining on tax law interpretation between the taxpayer and the tax administr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complexity of tax laws =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ase of Luxembourg: How to look as a standard country and behave as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ux-Leaks scand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n example: SOCFIN</a:t>
            </a:r>
            <a:endParaRPr b="1" lang="en-US" sz="2000" spc="-1" strike="noStrike">
              <a:solidFill>
                <a:srgbClr val="0f5494"/>
              </a:solidFill>
              <a:latin typeface="Verdana"/>
            </a:endParaRPr>
          </a:p>
        </p:txBody>
      </p:sp>
      <p:sp>
        <p:nvSpPr>
          <p:cNvPr id="1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0CC8-1278-45CA-A4AD-46AFE270D55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197000"/>
            <a:ext cx="8229600" cy="64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rom the very small to the very large</a:t>
            </a:r>
            <a:endParaRPr b="1" lang="en-US" sz="3000" spc="-1" strike="noStrike">
              <a:solidFill>
                <a:srgbClr val="0f5494"/>
              </a:solidFill>
              <a:latin typeface="Verdana"/>
            </a:endParaRPr>
          </a:p>
        </p:txBody>
      </p:sp>
      <p:sp>
        <p:nvSpPr>
          <p:cNvPr id="102" name=""/>
          <p:cNvSpPr txBox="1"/>
          <p:nvPr/>
        </p:nvSpPr>
        <p:spPr>
          <a:xfrm>
            <a:off x="457200" y="1915920"/>
            <a:ext cx="8229600" cy="43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fit tax: A multidimensional tax, which encompass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Physical person, self-employee (P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orporations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efinition of profit differs between and within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ypes of incomes (sales, intelectual property revenue, etc)</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costs (purchases, wages, interests, etc)</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9E03-D40E-48BC-8775-31DAB5F37A5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irect taxation of economic activity</a:t>
            </a:r>
            <a:endParaRPr b="1" lang="en-US" sz="3000" spc="-1" strike="noStrike">
              <a:solidFill>
                <a:srgbClr val="0f5494"/>
              </a:solidFill>
              <a:latin typeface="Verdana"/>
            </a:endParaRPr>
          </a:p>
        </p:txBody>
      </p:sp>
      <p:sp>
        <p:nvSpPr>
          <p:cNvPr id="105" name=""/>
          <p:cNvSpPr txBox="1"/>
          <p:nvPr/>
        </p:nvSpPr>
        <p:spPr>
          <a:xfrm>
            <a:off x="468360" y="2204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ree (or more) tax regimes usually based on firms’ turnov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small firms: lump sum taxation,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edium firms: simplified tax regime (tax on cash flow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rge firms (MNE subsidiary):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ut, indirect tax matters since small and medium enterprises (SMEs) are usually not VAT liabl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MEs pay some taxes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ual economy: Informal vs formal.</a:t>
            </a:r>
            <a:endParaRPr b="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F504-42E2-46CA-8EE1-68162FD821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826920" y="366840"/>
            <a:ext cx="809784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rofit tax revenue </a:t>
            </a:r>
            <a:endParaRPr b="1" lang="en-US" sz="3000" spc="-1" strike="noStrike">
              <a:solidFill>
                <a:srgbClr val="0f5494"/>
              </a:solidFill>
              <a:latin typeface="Verdana"/>
            </a:endParaRPr>
          </a:p>
        </p:txBody>
      </p:sp>
      <p:sp>
        <p:nvSpPr>
          <p:cNvPr id="10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Highly concentrated in developing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ayment of a few firms (less than 50) pay a significant share of tax revenue (more than 60 perc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ncentration =&gt; Vulnerability of tax revenue</a:t>
            </a:r>
            <a:endParaRPr b="0" i="1" lang="en-US" sz="24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F321-DBCE-4798-81BF-B409C0329E7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56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lternative Minimum Tax for CIT purpose</a:t>
            </a:r>
            <a:endParaRPr b="1" lang="en-US" sz="3000" spc="-1" strike="noStrike">
              <a:solidFill>
                <a:srgbClr val="0f5494"/>
              </a:solidFill>
              <a:latin typeface="Verdana"/>
            </a:endParaRPr>
          </a:p>
        </p:txBody>
      </p:sp>
      <p:sp>
        <p:nvSpPr>
          <p:cNvPr id="112" name=""/>
          <p:cNvSpPr txBox="1"/>
          <p:nvPr/>
        </p:nvSpPr>
        <p:spPr>
          <a:xfrm>
            <a:off x="457200" y="2204640"/>
            <a:ext cx="8229600" cy="381636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lot of developing countries have a minimum alternative tax for CIT or Profit tax purpose.</a:t>
            </a:r>
            <a:endParaRPr b="0" i="1" lang="en-US" sz="2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wo approach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turnover (mainly in Africa): 0.5 percent to 2 percent (Mauritania)</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assets (mainly in South Africa)</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ory of Optimal Taxation:</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urnover tax =&gt; not neutral, distortion in the production allocation (Diamond and Mirrlees 1971)</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turnover tax is harder to evade.</a:t>
            </a:r>
            <a:r>
              <a:rPr b="1" lang="fr-FR" sz="2000" spc="-1" strike="noStrike">
                <a:solidFill>
                  <a:srgbClr val="0f5494"/>
                </a:solidFill>
                <a:latin typeface="Verdana"/>
              </a:rPr>
              <a:t> </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Important implicit assumption of perfect tax administration.</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19F1-71DF-4399-AC1B-DEC6BBF9CA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urnover Tax: The case of Pakistan</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CDE2-FB84-4A30-884E-22455A0EFD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6" name="Picture 2" descr=""/>
          <p:cNvPicPr/>
          <p:nvPr/>
        </p:nvPicPr>
        <p:blipFill>
          <a:blip r:embed="rId1"/>
          <a:stretch/>
        </p:blipFill>
        <p:spPr>
          <a:xfrm>
            <a:off x="1209600" y="2205000"/>
            <a:ext cx="6843960" cy="41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gressive Tax Planning</a:t>
            </a:r>
            <a:endParaRPr b="1" lang="en-US" sz="3000" spc="-1" strike="noStrike">
              <a:solidFill>
                <a:srgbClr val="0f5494"/>
              </a:solidFill>
              <a:latin typeface="Verdana"/>
            </a:endParaRPr>
          </a:p>
        </p:txBody>
      </p:sp>
      <p:sp>
        <p:nvSpPr>
          <p:cNvPr id="118" name=""/>
          <p:cNvSpPr txBox="1"/>
          <p:nvPr/>
        </p:nvSpPr>
        <p:spPr>
          <a:xfrm>
            <a:off x="468360" y="1989000"/>
            <a:ext cx="8229600" cy="388944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nancial Crisis in 2008</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ublic debt, tax revenue.</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conomic integration</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national Enterprises (MNEs)</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oreign Direct Investment (FDI)</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candal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oogle, Starbuck, Amazon, Ikea…</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anama Papers, Swissleaks, Luxleaks…</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reply: </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ase Erosion and Profit Shifting</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Verdana"/>
                <a:hlinkClick r:id="rId1"/>
              </a:rPr>
              <a:t>http://www.oecd.org/fr/ctp/bep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1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F0A8-DE51-42C7-B556-5B37D2EAC3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39:08Z</dcterms:modified>
  <cp:revision>214</cp:revision>
  <dc:subject/>
  <dc:title>Slide 1</dc:title>
</cp:coreProperties>
</file>