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3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4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A139-0C61-435B-A785-097A4465B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F6A7-17B0-4BC6-8E5C-FDBBE7618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9355-9AD1-4A9E-B4EE-E36C4DAB1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A4BA-8605-4AF0-B920-D50DCD665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8305-6B38-48BB-AAC2-96EBE7188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B455-BF64-41E0-AEA5-754F1242B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5AC2-00D5-405F-82F5-AF6A94519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EA3A-B278-4F41-AF31-F2709EA83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1220-FDC5-4904-9922-4C922C181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B44C-D348-4C4E-9EB2-90B49ABBD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122B-7836-49BF-AA85-592B4540C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6F1C-C3AE-4CEB-A0C7-BC5B6CE21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F305-BC41-44B0-93DF-B9E37F748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A67A-C90B-41D6-AEFC-DA5721333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D021-5E9A-4216-8591-9F1BF690F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50DF-0623-47BE-8411-A166B33E02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98E2-8850-458F-91CC-FD277C0AAE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EB57-BE3C-4270-8ABE-85A5D11BE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D1D4-EFAD-463E-BFAB-0A0D761F6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1A4F-B8A0-4429-A439-19DE96701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13A2-572A-42E6-BD04-DFE6115A5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DF80-B7D3-4796-8732-F25D50063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D184-0B38-4D13-B5A9-CD8B70B75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32CF-089A-4190-9F74-D98FE7968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34160" y="64008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PFDinTextPro-Regula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7435-D377-4968-B2BA-2F274B2D2FD9}" type="slidenum">
              <a:rPr b="0" lang="en-US" sz="1400" spc="-1" strike="noStrike">
                <a:solidFill>
                  <a:srgbClr val="ffffff"/>
                </a:solidFill>
                <a:latin typeface="PFDinTextPro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0" descr="itSMF-ISO-IEC-REGISTERED-LOGO"/>
          <p:cNvPicPr/>
          <p:nvPr/>
        </p:nvPicPr>
        <p:blipFill>
          <a:blip r:embed="rId2"/>
          <a:stretch/>
        </p:blipFill>
        <p:spPr>
          <a:xfrm>
            <a:off x="3809880" y="5410080"/>
            <a:ext cx="1798920" cy="882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1" descr="TUV_hellas_-iso-27001"/>
          <p:cNvPicPr/>
          <p:nvPr/>
        </p:nvPicPr>
        <p:blipFill>
          <a:blip r:embed="rId3"/>
          <a:stretch/>
        </p:blipFill>
        <p:spPr>
          <a:xfrm>
            <a:off x="68400" y="5837400"/>
            <a:ext cx="844560" cy="84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TUV_hellas_iso14001"/>
          <p:cNvPicPr/>
          <p:nvPr/>
        </p:nvPicPr>
        <p:blipFill>
          <a:blip r:embed="rId4"/>
          <a:stretch/>
        </p:blipFill>
        <p:spPr>
          <a:xfrm>
            <a:off x="914400" y="5837400"/>
            <a:ext cx="844560" cy="844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TUV_hellas_OHSAS18001"/>
          <p:cNvPicPr/>
          <p:nvPr/>
        </p:nvPicPr>
        <p:blipFill>
          <a:blip r:embed="rId5"/>
          <a:stretch/>
        </p:blipFill>
        <p:spPr>
          <a:xfrm>
            <a:off x="1758960" y="5837400"/>
            <a:ext cx="844560" cy="844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4" descr="TUV_iso9001"/>
          <p:cNvPicPr/>
          <p:nvPr/>
        </p:nvPicPr>
        <p:blipFill>
          <a:blip r:embed="rId6"/>
          <a:stretch/>
        </p:blipFill>
        <p:spPr>
          <a:xfrm>
            <a:off x="2604960" y="5837400"/>
            <a:ext cx="846360" cy="844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TUV_LOGO_---15038-"/>
          <p:cNvPicPr/>
          <p:nvPr/>
        </p:nvPicPr>
        <p:blipFill>
          <a:blip r:embed="rId7"/>
          <a:stretch/>
        </p:blipFill>
        <p:spPr>
          <a:xfrm>
            <a:off x="525600" y="4952880"/>
            <a:ext cx="844560" cy="84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TUV_LOGO_ISO_IEC_20000"/>
          <p:cNvPicPr/>
          <p:nvPr/>
        </p:nvPicPr>
        <p:blipFill>
          <a:blip r:embed="rId8"/>
          <a:stretch/>
        </p:blipFill>
        <p:spPr>
          <a:xfrm>
            <a:off x="1371600" y="4952880"/>
            <a:ext cx="849240" cy="844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TUV_LOGO_ISO-29990"/>
          <p:cNvPicPr/>
          <p:nvPr/>
        </p:nvPicPr>
        <p:blipFill>
          <a:blip r:embed="rId9"/>
          <a:stretch/>
        </p:blipFill>
        <p:spPr>
          <a:xfrm>
            <a:off x="2220840" y="49528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9"/>
          <p:cNvSpPr/>
          <p:nvPr/>
        </p:nvSpPr>
        <p:spPr>
          <a:xfrm>
            <a:off x="179280" y="2205000"/>
            <a:ext cx="64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VCO technical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1"/>
          <p:cNvSpPr/>
          <p:nvPr/>
        </p:nvSpPr>
        <p:spPr>
          <a:xfrm>
            <a:off x="8534520" y="6400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B813-C291-4389-96E0-B02182E351D9}" type="slidenum">
              <a:rPr b="0" lang="en-US" sz="1400" spc="-1" strike="noStrike">
                <a:solidFill>
                  <a:srgbClr val="ffffff"/>
                </a:solidFill>
                <a:latin typeface="PFDinTextPro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95280" y="1197000"/>
            <a:ext cx="8209080" cy="5040360"/>
          </a:xfrm>
          <a:prstGeom prst="rect">
            <a:avLst/>
          </a:prstGeom>
          <a:solidFill>
            <a:srgbClr val="fbf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t from the IPG-specific analysis made before, here are some other candidate improvement elements to be consider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face for filtering the search on various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results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view the display and repeat at the top off the results’ list the search criteria ent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tibl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compatibility with current and future user agents, including assistive technolog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2268360" y="274680"/>
            <a:ext cx="641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ther observations (2)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1"/>
          <p:cNvSpPr/>
          <p:nvPr/>
        </p:nvSpPr>
        <p:spPr>
          <a:xfrm>
            <a:off x="8534520" y="6400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C467-999C-472B-BA8A-0A6EBA85B748}" type="slidenum">
              <a:rPr b="0" lang="en-US" sz="1400" spc="-1" strike="noStrike">
                <a:solidFill>
                  <a:srgbClr val="ffffff"/>
                </a:solidFill>
                <a:latin typeface="PFDinTextPro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2268360" y="274680"/>
            <a:ext cx="641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urrent technolog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395280" y="1197000"/>
            <a:ext cx="7056360" cy="5400720"/>
          </a:xfrm>
          <a:prstGeom prst="rect">
            <a:avLst/>
          </a:prstGeom>
          <a:solidFill>
            <a:srgbClr val="fbf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MS (Documen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on usage within Commission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content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rt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c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so 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icult to mai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or template var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extensible (custom develop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ed DIGIT bu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c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1"/>
          <p:cNvSpPr/>
          <p:nvPr/>
        </p:nvSpPr>
        <p:spPr>
          <a:xfrm>
            <a:off x="8534520" y="6400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5969-3077-4193-AB0B-35C23FBBD00C}" type="slidenum">
              <a:rPr b="0" lang="en-US" sz="1400" spc="-1" strike="noStrike">
                <a:solidFill>
                  <a:srgbClr val="ffffff"/>
                </a:solidFill>
                <a:latin typeface="PFDinTextPro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395280" y="1197000"/>
            <a:ext cx="7921800" cy="5472000"/>
          </a:xfrm>
          <a:prstGeom prst="rect">
            <a:avLst/>
          </a:prstGeom>
          <a:solidFill>
            <a:srgbClr val="fbf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on usage within Commission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stom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source C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featur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so 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ine in usage globally (resourc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source CMS available not in heavy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le 1"/>
          <p:cNvSpPr/>
          <p:nvPr/>
        </p:nvSpPr>
        <p:spPr>
          <a:xfrm>
            <a:off x="2268360" y="274680"/>
            <a:ext cx="641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urrent technolog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1"/>
          <p:cNvSpPr/>
          <p:nvPr/>
        </p:nvSpPr>
        <p:spPr>
          <a:xfrm>
            <a:off x="8534520" y="6400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7B74-DD85-41A4-A967-E1D02BD4927F}" type="slidenum">
              <a:rPr b="0" lang="en-US" sz="1400" spc="-1" strike="noStrike">
                <a:solidFill>
                  <a:srgbClr val="ffffff"/>
                </a:solidFill>
                <a:latin typeface="PFDinTextPro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2268360" y="274680"/>
            <a:ext cx="641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urrent technolog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395280" y="1197000"/>
            <a:ext cx="7921800" cy="5472000"/>
          </a:xfrm>
          <a:prstGeom prst="rect">
            <a:avLst/>
          </a:prstGeom>
          <a:solidFill>
            <a:srgbClr val="fbf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vy usage glob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stom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source C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source CMS in heavy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so 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in common usage within Commission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"/>
          <p:cNvSpPr/>
          <p:nvPr/>
        </p:nvSpPr>
        <p:spPr>
          <a:xfrm>
            <a:off x="8534520" y="6400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1EE5-72C5-4C51-BDE1-20CA8319F41D}" type="slidenum">
              <a:rPr b="0" lang="en-US" sz="1400" spc="-1" strike="noStrike">
                <a:solidFill>
                  <a:srgbClr val="ffffff"/>
                </a:solidFill>
                <a:latin typeface="PFDinTextPro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2268360" y="274680"/>
            <a:ext cx="641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oming soon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395280" y="1197000"/>
            <a:ext cx="7921800" cy="5472000"/>
          </a:xfrm>
          <a:prstGeom prst="rect">
            <a:avLst/>
          </a:prstGeom>
          <a:solidFill>
            <a:srgbClr val="fbf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be in common usage within Commission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stom search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so 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ty stigma &amp; centralised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in common usage within Commission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1"/>
          <p:cNvSpPr/>
          <p:nvPr/>
        </p:nvSpPr>
        <p:spPr>
          <a:xfrm>
            <a:off x="8534520" y="6400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ED90-F333-4B91-BF6A-F1EB1AC132F2}" type="slidenum">
              <a:rPr b="0" lang="en-US" sz="1400" spc="-1" strike="noStrike">
                <a:solidFill>
                  <a:srgbClr val="ffffff"/>
                </a:solidFill>
                <a:latin typeface="PFDinTextPro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534520" y="64771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3B2E-1A43-497B-B7A8-8CBCB9AE9A41}" type="slidenum">
              <a:rPr b="0" lang="en-US" sz="1400" spc="-1" strike="noStrike">
                <a:solidFill>
                  <a:srgbClr val="ffffff"/>
                </a:solidFill>
                <a:latin typeface="PFDinTextPro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120126-042817-msie-7.0-windows-xp-f9f7b2b14f6e0f4c50fb3584d78ef0d8.png"/>
          <p:cNvPicPr/>
          <p:nvPr/>
        </p:nvPicPr>
        <p:blipFill>
          <a:blip r:embed="rId2"/>
          <a:srcRect l="0" t="6949" r="2414" b="3802"/>
          <a:stretch/>
        </p:blipFill>
        <p:spPr>
          <a:xfrm>
            <a:off x="395280" y="1473120"/>
            <a:ext cx="4753080" cy="5051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580000" y="2133720"/>
            <a:ext cx="316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Language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Services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ross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Downloading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195640" y="0"/>
            <a:ext cx="69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nalysis of the DEVCO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1"/>
          <p:cNvSpPr/>
          <p:nvPr/>
        </p:nvSpPr>
        <p:spPr>
          <a:xfrm>
            <a:off x="8534520" y="6400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E22F-0E8E-45C5-B670-362206FB046C}" type="slidenum">
              <a:rPr b="0" lang="en-US" sz="1400" spc="-1" strike="noStrike">
                <a:solidFill>
                  <a:srgbClr val="ffffff"/>
                </a:solidFill>
                <a:latin typeface="PFDinTextPro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178000" y="189000"/>
            <a:ext cx="69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4" descr="120126-042807-safari-5.1.2-windows-xp-ef6a5d27043095305e96669d2a36d601.png"/>
          <p:cNvPicPr/>
          <p:nvPr/>
        </p:nvPicPr>
        <p:blipFill>
          <a:blip r:embed="rId1"/>
          <a:srcRect l="0" t="9547" r="2152" b="76137"/>
          <a:stretch/>
        </p:blipFill>
        <p:spPr>
          <a:xfrm>
            <a:off x="179280" y="1125360"/>
            <a:ext cx="7704360" cy="844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ec-header_en.jpg"/>
          <p:cNvPicPr/>
          <p:nvPr/>
        </p:nvPicPr>
        <p:blipFill>
          <a:blip r:embed="rId2"/>
          <a:stretch/>
        </p:blipFill>
        <p:spPr>
          <a:xfrm>
            <a:off x="0" y="2133720"/>
            <a:ext cx="7885080" cy="2139840"/>
          </a:xfrm>
          <a:prstGeom prst="rect">
            <a:avLst/>
          </a:prstGeom>
          <a:ln w="0">
            <a:noFill/>
          </a:ln>
        </p:spPr>
      </p:pic>
      <p:sp>
        <p:nvSpPr>
          <p:cNvPr id="61" name="Down Arrow 5"/>
          <p:cNvSpPr/>
          <p:nvPr/>
        </p:nvSpPr>
        <p:spPr>
          <a:xfrm>
            <a:off x="3924360" y="1989000"/>
            <a:ext cx="576360" cy="576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7956720" y="1341360"/>
            <a:ext cx="936360" cy="3988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8028000" y="2997360"/>
            <a:ext cx="936720" cy="3988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95280" y="4365720"/>
            <a:ext cx="8066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The old EC standard template 2007 currently in use needs to be adopting the new 2012 template as per IP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mplate does not respect the semi-liquidity, resulting into overlapping of content in small screen sizes or re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ebsite is not validated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3C CSS level 2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le; thus needs complete revision in this resp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1"/>
          <p:cNvSpPr/>
          <p:nvPr/>
        </p:nvSpPr>
        <p:spPr>
          <a:xfrm>
            <a:off x="8534520" y="6400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90EB-3BED-435E-A6F6-4FA15CC0D1CA}" type="slidenum">
              <a:rPr b="0" lang="en-US" sz="1400" spc="-1" strike="noStrike">
                <a:solidFill>
                  <a:srgbClr val="ffffff"/>
                </a:solidFill>
                <a:latin typeface="PFDinTextPro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2484360" y="263520"/>
            <a:ext cx="6202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Languag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ntent Placeholder 4" descr="language-tools.jpg"/>
          <p:cNvPicPr/>
          <p:nvPr/>
        </p:nvPicPr>
        <p:blipFill>
          <a:blip r:embed="rId1"/>
          <a:srcRect l="74879" t="18134" r="1202" b="724"/>
          <a:stretch/>
        </p:blipFill>
        <p:spPr>
          <a:xfrm>
            <a:off x="1046160" y="1484280"/>
            <a:ext cx="2373480" cy="484344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3924360" y="2492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Contrary to IPG guidelines extra HTML code is added in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Script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languag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1"/>
          <p:cNvSpPr/>
          <p:nvPr/>
        </p:nvSpPr>
        <p:spPr>
          <a:xfrm>
            <a:off x="8534520" y="6400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99DE-26B0-41ED-8594-6F9CA37353B3}" type="slidenum">
              <a:rPr b="0" lang="en-US" sz="1400" spc="-1" strike="noStrike">
                <a:solidFill>
                  <a:srgbClr val="ffffff"/>
                </a:solidFill>
                <a:latin typeface="PFDinTextPro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2627280" y="274680"/>
            <a:ext cx="60595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Navigation/ Site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4" descr="aidco-home.jpg"/>
          <p:cNvPicPr/>
          <p:nvPr/>
        </p:nvPicPr>
        <p:blipFill>
          <a:blip r:embed="rId1"/>
          <a:srcRect l="0" t="27682" r="71398" b="45040"/>
          <a:stretch/>
        </p:blipFill>
        <p:spPr>
          <a:xfrm>
            <a:off x="755640" y="1844640"/>
            <a:ext cx="3649680" cy="3600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4572000" y="1989000"/>
            <a:ext cx="417672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umber of the primary navigation items is in line with  IPG, but the convention of less than 10 items is not respected in the sub-men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itemap is recommended to provide gives an overview of the site's areas in a single g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8534520" y="6400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FECD-BEB1-4C3A-872D-EDF696D83568}" type="slidenum">
              <a:rPr b="0" lang="en-US" sz="1400" spc="-1" strike="noStrike">
                <a:solidFill>
                  <a:srgbClr val="ffffff"/>
                </a:solidFill>
                <a:latin typeface="PFDinTextPro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2397240" y="260280"/>
            <a:ext cx="673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Services tool/ Metadata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ontent Placeholder 5" descr="aidco-home.jpg"/>
          <p:cNvPicPr/>
          <p:nvPr/>
        </p:nvPicPr>
        <p:blipFill>
          <a:blip r:embed="rId1"/>
          <a:srcRect l="39616" t="18134" r="2902" b="78477"/>
          <a:stretch/>
        </p:blipFill>
        <p:spPr>
          <a:xfrm>
            <a:off x="395280" y="1413000"/>
            <a:ext cx="8272440" cy="503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1042920" y="2924280"/>
            <a:ext cx="705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ll thre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d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ices mentioned under IPG are available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Legal notice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i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data should be review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updated page per page. The relevant metadata information must be translated in all language(s) in which the service will be produced and mainta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ight Arrow 5"/>
          <p:cNvSpPr/>
          <p:nvPr/>
        </p:nvSpPr>
        <p:spPr>
          <a:xfrm>
            <a:off x="2700360" y="1268280"/>
            <a:ext cx="1800360" cy="7207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1"/>
          <p:cNvSpPr/>
          <p:nvPr/>
        </p:nvSpPr>
        <p:spPr>
          <a:xfrm>
            <a:off x="8534520" y="6400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8499-2B83-46DF-846F-0F6A55F137D0}" type="slidenum">
              <a:rPr b="0" lang="en-US" sz="1400" spc="-1" strike="noStrike">
                <a:solidFill>
                  <a:srgbClr val="ffffff"/>
                </a:solidFill>
                <a:latin typeface="PFDinTextPro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2195640" y="189000"/>
            <a:ext cx="670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Downloading speed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826920" y="2133720"/>
            <a:ext cx="77058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have been identifi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36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low pages. Some of a size bigger tha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 Megabyt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 download time of greater tha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minu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a bandwidth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Mega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im is to achieve a loading time betwee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5 – 5.5 second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hich implies : editing of images to be optimised for producing lower files size; the CSS to enable improved loading time in general as well as for customised content and for mobile devices fe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1"/>
          <p:cNvSpPr/>
          <p:nvPr/>
        </p:nvSpPr>
        <p:spPr>
          <a:xfrm>
            <a:off x="8534520" y="6400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D4EA-BCC8-45FE-AC74-3CFBA8B39E7F}" type="slidenum">
              <a:rPr b="0" lang="en-US" sz="1400" spc="-1" strike="noStrike">
                <a:solidFill>
                  <a:srgbClr val="ffffff"/>
                </a:solidFill>
                <a:latin typeface="PFDinTextPro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2195640" y="189000"/>
            <a:ext cx="69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 browser 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ntent Placeholder 2"/>
          <p:cNvSpPr/>
          <p:nvPr/>
        </p:nvSpPr>
        <p:spPr>
          <a:xfrm>
            <a:off x="468360" y="1125360"/>
            <a:ext cx="806436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e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F3.6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F3.64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internal scrolling bar in the bottom of the page is initiated. The world map not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8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mplate is aligned to the left instead of being c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7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6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yout presents some blocking problems related to the display of the banner and the top content ima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63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scrolling bar is wrongly displayed in the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.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Windows: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.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cOS: Not correctly 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1"/>
          <p:cNvSpPr/>
          <p:nvPr/>
        </p:nvSpPr>
        <p:spPr>
          <a:xfrm>
            <a:off x="8534520" y="6400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A835-1EC4-42ED-BAA8-20EA2E4629DF}" type="slidenum">
              <a:rPr b="0" lang="en-US" sz="1400" spc="-1" strike="noStrike">
                <a:solidFill>
                  <a:srgbClr val="ffffff"/>
                </a:solidFill>
                <a:latin typeface="PFDinTextPro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2268360" y="274680"/>
            <a:ext cx="641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ther observations (1)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395280" y="1197000"/>
            <a:ext cx="8291520" cy="4464000"/>
          </a:xfrm>
          <a:prstGeom prst="rect">
            <a:avLst/>
          </a:prstGeom>
          <a:solidFill>
            <a:srgbClr val="fbf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t from the IPG-specific analysis made before, here are some other candidate improvement elements to be consider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yout and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abl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ntent that can be presented in different ways without losing information or structure (e.g. a simpler layout, as for mobile devi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alternativ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lternatives to be provided for any non-tex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based medi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lternatives for time-based media (e.g. transcript of audi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board accessibl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unctionalities must be available from a key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uitive structu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pages to appear and operate in predictable w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abl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the applicable areas) make text content readable and understand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 Millard</cp:lastModifiedBy>
  <cp:lastPrinted>2012-01-30T23:37:01Z</cp:lastPrinted>
  <dcterms:modified xsi:type="dcterms:W3CDTF">2012-01-31T11:03:56Z</dcterms:modified>
  <cp:revision>145</cp:revision>
  <dc:subject/>
  <dc:title>PowerPoint Presentation</dc:title>
</cp:coreProperties>
</file>